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DE5C-AC42-41FA-BA07-6FB5CFE49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80CF8-86ED-4B6F-B465-CBA8821A4F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16C3-A89B-47A9-AD2A-3F8DECF46D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27D35-EA38-4E49-9F57-1D1FCE2CB4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5529-4B7C-4F59-941C-A05FEF6E71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A927-DBE4-4207-BFD1-005FAEF45F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4FAA-9F16-41BC-969A-EBB13AA3B6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D7C1-B7EA-4C62-9867-EEDA0C306C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E12C2-5DD2-44FD-BBF8-5C6C2C97EA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3261C-3ECE-442B-863D-59B838F22D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7971-9938-4F74-8D61-63A43DD646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B543-FED5-46C4-9B65-DF57610A1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8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15098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923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96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79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39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7461360" y="6244920"/>
            <a:ext cx="311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F43F-E513-43CF-AC29-0ED08780C7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herepahi.ru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6840" y="5943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9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ef96f"/>
                </a:solidFill>
                <a:latin typeface="Tahoma"/>
                <a:ea typeface="Tahoma"/>
              </a:rPr>
              <a:t>Работа учителя биологии Красносельской школы-интарната Мысковой О.П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2986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реднеазиатская черепа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Размно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ловая зрелос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 в 10 лет (самки позже самцов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неволе: в 5-6 л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откладывания яиц: апрель – ию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кладок: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 плотный, слегка влажный пес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у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иаметр 4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лубина 0,5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исло яиц в кладке: 2 - 6 ш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Температура инкубации: 22 – 28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лажность: 50 – 7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инкубации: 60 – 80 – 120 су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вылупления: август – октябр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азмеры черепашат: 3 – 5 с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чинают питаться через 2 – 4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 rot="360000">
            <a:off x="5339880" y="2693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Основная информация по ух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РЕДНЕАЗИАТСКАЯ ЧЕРЕПА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одержание в 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террариуме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, а не на п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обходимо избегать больших перепадов температуре в террариуме и в окружающей черепаху сре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опускать контактов черепахи с другими домашними жив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подсаживать новых черепах к имеющимся без предварительного каран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балансированный корм: растительный (мелкая нарезка фруктов и овощей), витамины, минеральная подкормка для данного ви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гулки по 1 часу на солнце в теплую погоду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няя спячка для черепах необязательна и нежелате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и дерутся или слишком агрессивны - их необходимо рассади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сти черепаху к врачу лучше, завернув в полотняную тряпку и положив за пазух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атериал и ф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высокий длинный и широкий закрытый ящик с отверстиями вентиля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токсичный ударопрочный пластик, дерево, стекло, оргстекло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ъем: 100 – 200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бежищ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холодном углу террариум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ловину керамического горшка, картонный или деревянный домик из подручных неострых материалов, коряги, половинки кокосового ореха и т.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намного больше черепахи и тяжел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свещ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а накаливания 40-60 Вт + плитка, которая сохраняет теп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Ф лампа (типа ReptyGlo) 5.0 или 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лучают лампами с расстояния 30-40 с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ампы должны гореть по 10 – 12 часов в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еррар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5105160" cy="55627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рун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авий: крупный речной гравий, плоские камни, окатанная галька, солома, сено, кусочки коры, кусочки скорлупы кокосового ореха, опилки, мо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д ними: песок + кусочки земли, торф + цветочная земля, опавшая листва + измельченная кора деревьев, сфагнум, люцерна, сухая лис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использовать: острая каменная крошка, песок, керамзит, гладкая поверхнос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жно высадить овес или другие растения, которые полезны сухопутным черепах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а и поил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ормушкой может быть миска, тарелка расположенная не под ламп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илку можно не стави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упать в тазике 1-2 раза в неделю.</a:t>
            </a:r>
            <a:r>
              <a:rPr b="0" lang="en-US" sz="20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 rot="299400">
            <a:off x="5570640" y="15289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12760" y="2697840"/>
            <a:ext cx="70592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Свободное содержание в до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 Bold"/>
              </a:rPr>
              <a:t>НЕ ДОПУСКАЕТСЯ!</a:t>
            </a: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Гигиена в террариу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92768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овый террариум тщательно моют с применением пищевой с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промывают в проточной воде и прокаливают на сковород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нять поилку – 1 раз в недел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щая чистка – 1 раз в месяц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Грунт (если это гравий) промыва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Желательно обрабатывать слабыми дезинфектан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рошки и химические вещества использовать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бработка гру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залить кипятко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ипяти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калить или поместить в микроволновую пе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хла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местить в террариу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 rot="239400">
            <a:off x="5184720" y="236664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ищ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 приро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ения пустыни, бахчевые культуры, всходы многолетних трав и кустарников, ягоды и падалица фруктов в сад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Дома в нево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растительная пища: зелень, фрукты, овощи, яго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итамины и минеральные вещества (кальций) в виде порош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ельзя да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ясо, рыбу, молоко, хлеб, творог, яйца, другую человеческую еду, собачьи, кошачьи кор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егулярное питье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рм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рм мелко нарезать в салат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С рук лучше не корм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ери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олодых черепах кормят каждый де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тех, что постарше - через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личество кор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о мере насыщения черепахи, но в разумных количествах, примерно с 1/2 панци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152960" y="1905120"/>
            <a:ext cx="45338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уп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ть </a:t>
            </a:r>
            <a:r>
              <a:rPr b="0" lang="en-US" sz="1800" spc="-1" strike="noStrike">
                <a:solidFill>
                  <a:srgbClr val="001400"/>
                </a:solidFill>
                <a:latin typeface="Tahoma Bold"/>
              </a:rPr>
              <a:t>раз в неделю</a:t>
            </a: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пользовать тазик или другую емкость с теплой водой +30 - +32 С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ровень воды: не более, чем 2/3 высоты лежащей черепах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у сухопутных черепах есть свойство опорожняться в во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купания: 30 мин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упают без применения химических средств (шампуня, мыла, гелей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сключение: детское гипоаллергенное мыло (не чаще 1 раза в неделю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да и мыло не должны попадать черепахе в глаза, нос и рот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о время мытья пальцем надо мягко протереть боковые стороны 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осле мытья: насухо вытереть махровым или бумажным полотенцем и вернуть в террари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2743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 Bold"/>
              </a:rPr>
              <a:t>После купания нельзя выносить черепаху на сквозняк или улицу -  только в теплый террариум!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рассмотреть особенности жизни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физиологию, среду обитания и видовые особенности среднеазиатских череп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условия обитания черепахи в нево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выявить проблемы и методы их профилактики, связанные с содержанием черепах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зучить как изменяются обычные процессы жизне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пределить манипуляции, которые можно и/или необходимо совершать при уходе за этим живот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, когда температура поднимается выше 20 С в т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на чистых лужайках со съедобными для черепах растениями (клевер, одуванчики, простая газонная трава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дали от проезжей части и животных (собак, кошек, птиц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ремя прогулки: от 30 минут и больш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ожно привязывать шарик, ленточку, флажок, чтобы черепаха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181480" y="1447920"/>
            <a:ext cx="32702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яч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до быть уверенным, что черепаха здоро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скупать в теплой воде, затем несколько недель не кормить, но поить, чтобы весь съеденный корм перевари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Уменьшать длительность светового дня и температуры (до 10-12°С) и повышать влаж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есто для зимовки: темное, хорошо вентилируемое, с температурой 6-12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Ящик с влажным песком или торфом, в который черепаха может зарыть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ремя спячки: 8-10 недель для мелких черепах и 12-14 недель для больш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остояние черепах проверяют через каждый меся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Масса черепахи в норме снижается на 1% за каждый месяц зимов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 куп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Если черепаха начала проявлять активность при температуре 11-12°С, зимовку следует прекрат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ля вывода черепахи из спячки: температуру нужно плавно поднимать до комнатной и затем включать обогрев, доведя его до обычного уровня в течение нед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чало питания в течение 5-7 дней после установления нормальной темп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Контейнер для спя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809880" cy="425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78720" y="1325520"/>
            <a:ext cx="433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Крышка с вентиляционными отверст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486440" y="3621600"/>
            <a:ext cx="173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Наружный я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93360" y="5364000"/>
            <a:ext cx="232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Дренажные отверс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97080" y="2652840"/>
            <a:ext cx="693396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Черепаху опасно вводить в спячку в домашних условия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00"/>
                </a:solidFill>
                <a:latin typeface="Tahoma"/>
                <a:ea typeface="Tahoma"/>
              </a:rPr>
              <a:t>Из плохо подготовленной спячки черепаха может и не вы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Транспортиро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ится в крепких ящиках с вентиляционными отверсти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Ле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любых контейнерах с опилками или мятой туалетной бумагой/мягкими полотенц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ез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 течение не более чем 2х суток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Зимой, весной и осенью (при температуре ниже 15 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с грелкой в максимально закрытых контейнерах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ибо завернутыми в ткань под своей курт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Манипуля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10552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Фиксация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вольна проста и может проводиться как угод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ажно: черепаха должна быть повернута задней частью от вас, так как при испуге они часто испускают из клоаки жидк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Взвешива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а любых пригодных вес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непоседливую черепаху можно взвешивать в коробке или перевернув вверх ног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мерение череп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 помощью штангенцирку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определяют 3 разме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длину (по средней линии карапакс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ширину (в самом широком месте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2860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400"/>
                </a:solidFill>
                <a:latin typeface="Tahoma"/>
                <a:ea typeface="Tahoma"/>
              </a:rPr>
              <a:t>высоту панциря (от низа пластрона до наивысшей точки карапакс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62720" y="220968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трижка когтей и клю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556272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Чрезмерное отрастание клюва может свидетельствовать о недостатке витаминов и кальция в к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и клюв подстригать нужно только тогда, когда когти мешают черепахе передвигаться, а клюв мешает нормально куш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Избыточный рог клюва надо не отстригать, а отламывать или «откусывать» по краям мощным инструм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Когти можно подстригать любыми маникюрными ножницами и даже кусачками (в зависимости от размера черепах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Отстригать надо только ороговевшие части, в которых не проходят кровеносные сосу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светлые части можно стрич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темные – нельз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15000" y="1828800"/>
            <a:ext cx="3276720" cy="26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191120" y="1390680"/>
            <a:ext cx="1123920" cy="112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838080" y="2666880"/>
            <a:ext cx="78231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Регулярно посещайте ветеринарного врач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Не доводите до критической ситуации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2666880"/>
            <a:ext cx="7823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00"/>
                </a:solidFill>
                <a:latin typeface="Tahoma"/>
                <a:ea typeface="Tahoma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Учебная литератур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стантинов В., Бабенко В., Кучменко В. Биология: Животные: Учебник для 7 класса общеобразовательных учреждений / Под ред. В.М. Константинова, И.Н. Пономаревой. - М.: Вентана-Графф, 2000. - 304 с.: 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Интернет-ресур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2"/>
              </a:rPr>
              <a:t>www.cherepahi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Периодические из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Коннифф Ричард. Черепаха:чудо в панцире // GEO, декабрь 2000, №12. -   с. б0-6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BE6B-C4D7-406C-B759-ADDAF28A867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358920"/>
            <a:ext cx="82677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Актуальнос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люди часто заводят среднеазиатских черепах, считая их неприхотливыми животны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большинство владельцев не умеют правильно ухаживать за черепахами и создают тем самым опасность для их здоровья и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2880" y="428760"/>
            <a:ext cx="82677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Comic Sans MS Bold"/>
              </a:rPr>
              <a:t>Предмет и объект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Предмет исследо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особенности содержания среднеазиатской черепахи в нев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1000"/>
                </a:solidFill>
                <a:latin typeface="Tahoma"/>
                <a:ea typeface="Tahoma"/>
              </a:rPr>
              <a:t>Объек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1000"/>
                </a:solidFill>
                <a:latin typeface="Tahoma"/>
                <a:ea typeface="Tahoma"/>
              </a:rPr>
              <a:t>среднеазиатская черепа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Название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рус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Среднеазиатская\Степная\Русская\Черепаха Хорсфилд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a00"/>
                </a:solidFill>
                <a:latin typeface="Tahoma"/>
                <a:ea typeface="Tahoma"/>
              </a:rPr>
              <a:t>Название латинское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2a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a00"/>
                </a:solidFill>
                <a:latin typeface="Tahoma"/>
                <a:ea typeface="Tahoma"/>
              </a:rPr>
              <a:t>Testudo horsfieldii\Agrionemys horsfieldii\Agronemys horsfeeld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ис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Длина панциря от 3 до 20-28,8 см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невысокий, округлый, слегка уплощенный на самом верху, похож на пирож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анцирь состоит из спинного щита — карапакса и брюшного — пластр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Передние ноги несут четыре тупых когт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У самца по меньшей мере, один роговой бугорок на тыльной стороне бедра; у самки таких бугорков 3 — 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Cамки обычно крупнее самц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олова оливковая с крючковатой верхней челю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Глаза черные, небольш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300"/>
                </a:solidFill>
                <a:latin typeface="Tahoma"/>
                <a:ea typeface="Tahoma"/>
              </a:rPr>
              <a:t>Кончик хвоста заостр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 rot="360000">
            <a:off x="4943160" y="2123640"/>
            <a:ext cx="37368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Панци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Карапак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желто-оливково-бур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с темными пятнами неясных очертаний - под цвет почвы, на которой обитает черепа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3 роговых щит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число бороздок на каждом из щитков обычно соответствует количеству прожитых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ластр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темны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имеет 16 роговых щи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80000"/>
              </a:lnSpc>
              <a:spcBef>
                <a:spcPts val="700"/>
              </a:spcBef>
              <a:buClr>
                <a:srgbClr val="0017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По бок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80000"/>
              </a:lnSpc>
              <a:spcBef>
                <a:spcPts val="601"/>
              </a:spcBef>
              <a:buClr>
                <a:srgbClr val="0017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700"/>
                </a:solidFill>
                <a:latin typeface="Tahoma"/>
                <a:ea typeface="Tahoma"/>
              </a:rPr>
              <a:t>25 роговых щитков.</a:t>
            </a:r>
            <a:r>
              <a:rPr b="0" lang="en-US" sz="1800" spc="-1" strike="noStrike">
                <a:solidFill>
                  <a:srgbClr val="0017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800600" y="1790640"/>
            <a:ext cx="38098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бит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Государства Средней Аз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жный Казах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нд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кист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Ир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Афганиста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Росс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северо-восточное побережье Касп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Оренбургской обла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юг Челябинской обла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700"/>
              </a:spcBef>
              <a:buClr>
                <a:srgbClr val="0014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400"/>
                </a:solidFill>
                <a:latin typeface="Tahoma"/>
                <a:ea typeface="Tahoma"/>
              </a:rPr>
              <a:t>Места об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долины рек, пустынные равнинные районы, песчанные и глинистые пустыни, предгорья, горы (до 1200 метром над уровнем моря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85840">
              <a:lnSpc>
                <a:spcPct val="90000"/>
              </a:lnSpc>
              <a:spcBef>
                <a:spcPts val="601"/>
              </a:spcBef>
              <a:buClr>
                <a:srgbClr val="0014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встречается на сельскохозяйственных угодьях и пол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70504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94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 Bold"/>
              </a:rPr>
              <a:t>Определение п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971800" y="1523880"/>
            <a:ext cx="3371760" cy="247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64832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1371600"/>
            <a:ext cx="2490480" cy="24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вогнутый, что помогает при спарива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намного толще и длиннее, загибается под панцир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имеет форму продольной полос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7120" y="1371600"/>
            <a:ext cx="2336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САМ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ластрон плоск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хвост маленький  короткий, без утолщения, не загибается, а просто торчи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клоака расположена около конца карапакса и по форме напоминает звездоч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3971880"/>
            <a:ext cx="41655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 Bold"/>
              </a:rPr>
              <a:t> </a:t>
            </a: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лучше, чем у самок, выражены бедренные шпор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анцирь над хвостом загибается к земл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более агрессивные и активны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buClr>
                <a:srgbClr val="002a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1400"/>
                </a:solidFill>
                <a:latin typeface="Tahoma"/>
                <a:ea typeface="Tahoma"/>
              </a:rPr>
              <a:t>производят характерные движения головой вверх и вн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КарМаН</cp:lastModifiedBy>
  <dcterms:modified xsi:type="dcterms:W3CDTF">2012-02-24T20:33:46Z</dcterms:modified>
  <cp:revision>1</cp:revision>
  <dc:subject/>
  <dc:title>PowerPoint Presentation</dc:title>
</cp:coreProperties>
</file>