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163-6DCE-4207-BC1E-11DB6BA8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0399-95C2-45EA-8BC1-B5775072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DE34-E6D9-45AB-8E0B-C4BF68F0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CAC1-BBB6-48D1-B5D9-6A4F9681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F9D0-0F69-45BD-989D-A69C80D7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2E57-AB92-4D45-9B15-E6C8930A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923B-675C-4EAF-A7E2-6483951D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51C7-9A6E-4D9B-A8A1-D41C8971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5D3E-32D4-48C3-8F72-6EAA1C55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8436-1471-409E-ABE7-0668F81E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346A-3361-4E0B-A5C6-3E392124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CA0-FF77-425E-9598-CC5B83DF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C712-78FE-48F4-A605-DC2B323F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F444-729A-49E0-81DF-BD8C2950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3B7A-5A2F-42FC-8F1D-3591E67F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B80D-2727-4CE4-8CE3-82CBD03A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C24F-B8F6-4C1B-8746-1E37A31F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B98-D7CC-4FA2-9EFF-FE10DA7C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5BBB-0017-47D6-A1F9-A02C194C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AB9-E9A7-42DA-8609-C5DA0538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682-7FEF-4592-BAEC-332B6C96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40E4-08D8-427C-97A1-04CA55E3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22C-B6F6-4846-B14E-A84891A7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95B-038C-434C-ABFA-A2B81639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943B-017A-4938-AA9B-92CBD5662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B340-E267-4CF2-BFA3-0ECF10049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9438a"/>
                </a:solidFill>
                <a:latin typeface="Georgia"/>
              </a:rPr>
              <a:t>Тема урока :  </a:t>
            </a:r>
            <a:br>
              <a:rPr sz="4000"/>
            </a:br>
            <a:r>
              <a:rPr b="1" lang="en-US" sz="4000" spc="-1" strike="noStrike">
                <a:solidFill>
                  <a:srgbClr val="603fed"/>
                </a:solidFill>
                <a:latin typeface="Georgia"/>
              </a:rPr>
              <a:t>« Цветок, его строение и значение.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3429000" y="4572000"/>
            <a:ext cx="51055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елина Фаина Сергеевн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биологии 1 категории 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ОУ « Астрахановской ООШ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Тюльганского райо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ренбург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0" y="360"/>
            <a:ext cx="9144000" cy="6857640"/>
            <a:chOff x="0" y="360"/>
            <a:chExt cx="9144000" cy="6857640"/>
          </a:xfrm>
        </p:grpSpPr>
        <p:grpSp>
          <p:nvGrpSpPr>
            <p:cNvPr id="123" name="Group 6"/>
            <p:cNvGrpSpPr/>
            <p:nvPr/>
          </p:nvGrpSpPr>
          <p:grpSpPr>
            <a:xfrm>
              <a:off x="0" y="6240600"/>
              <a:ext cx="9144000" cy="617400"/>
              <a:chOff x="0" y="6240600"/>
              <a:chExt cx="9144000" cy="617400"/>
            </a:xfrm>
          </p:grpSpPr>
          <p:pic>
            <p:nvPicPr>
              <p:cNvPr id="124" name="Picture 7" descr="044[1]"/>
              <p:cNvPicPr/>
              <p:nvPr/>
            </p:nvPicPr>
            <p:blipFill>
              <a:blip r:embed="rId1"/>
              <a:stretch/>
            </p:blipFill>
            <p:spPr>
              <a:xfrm>
                <a:off x="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8" descr="044[1]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6240600"/>
                <a:ext cx="305892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Picture 9" descr="044[1]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" name="Group 10"/>
            <p:cNvGrpSpPr/>
            <p:nvPr/>
          </p:nvGrpSpPr>
          <p:grpSpPr>
            <a:xfrm>
              <a:off x="0" y="360"/>
              <a:ext cx="9144000" cy="650520"/>
              <a:chOff x="0" y="360"/>
              <a:chExt cx="9144000" cy="650520"/>
            </a:xfrm>
          </p:grpSpPr>
          <p:pic>
            <p:nvPicPr>
              <p:cNvPr id="128" name="Picture 11" descr="044[1]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2" descr="044[1]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059280" y="0"/>
                <a:ext cx="305892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3" descr="044[1]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608472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Group 14"/>
            <p:cNvGrpSpPr/>
            <p:nvPr/>
          </p:nvGrpSpPr>
          <p:grpSpPr>
            <a:xfrm>
              <a:off x="0" y="549360"/>
              <a:ext cx="595440" cy="5832360"/>
              <a:chOff x="0" y="549360"/>
              <a:chExt cx="595440" cy="5832360"/>
            </a:xfrm>
          </p:grpSpPr>
          <p:pic>
            <p:nvPicPr>
              <p:cNvPr id="132" name="Picture 15" descr="044[1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178280" y="172800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16" descr="044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1178280" y="460764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" name="Group 17"/>
            <p:cNvGrpSpPr/>
            <p:nvPr/>
          </p:nvGrpSpPr>
          <p:grpSpPr>
            <a:xfrm>
              <a:off x="8533080" y="476280"/>
              <a:ext cx="610920" cy="5832360"/>
              <a:chOff x="8533080" y="476280"/>
              <a:chExt cx="610920" cy="5832360"/>
            </a:xfrm>
          </p:grpSpPr>
          <p:pic>
            <p:nvPicPr>
              <p:cNvPr id="135" name="Picture 18" descr="044[1]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62000" y="164700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19" descr="044[1]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62000" y="452664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8"/>
          <p:cNvSpPr/>
          <p:nvPr/>
        </p:nvSpPr>
        <p:spPr>
          <a:xfrm>
            <a:off x="1333080" y="630864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. Женские ц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365080" y="630864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. Мужские ц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48120" cy="48006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725640" cy="48006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Двудомное раст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858000" cy="53910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Типы соцвети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Выводы</a:t>
            </a:r>
            <a:r>
              <a:rPr b="1" lang="en-US" sz="40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ок –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рган семенного размн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ок состоит их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цветоножки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цветоложа, 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околоцветника (</a:t>
            </a:r>
            <a:r>
              <a:rPr b="1" i="1" lang="en-US" sz="2400" spc="-1" strike="noStrike">
                <a:solidFill>
                  <a:srgbClr val="603fed"/>
                </a:solidFill>
                <a:latin typeface="Arial"/>
              </a:rPr>
              <a:t>чашелистики и лепестки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03fed"/>
                </a:solidFill>
                <a:latin typeface="Arial"/>
              </a:rPr>
              <a:t>венчика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),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 пестика и</a:t>
            </a:r>
            <a:r>
              <a:rPr b="1" lang="en-US" sz="2400" spc="-1" strike="noStrike">
                <a:solidFill>
                  <a:srgbClr val="038f3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тычин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Околоцветник бывает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простым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двой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ки бывают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днополые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(содержат и пестики и тычинки) и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раздельнополые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(содержат только тычинки или только пести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Растения на которых развиваются и тычиночные и пестичные цветки, называется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днодом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Растения на которых цветут только пестичные или только тычиночные цветы, называется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двудом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Arial"/>
              </a:rPr>
              <a:t>Многие цветки собраны в 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соцве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796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796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796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796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796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796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796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9438a"/>
                </a:solidFill>
                <a:latin typeface="Times New Roman"/>
              </a:rPr>
              <a:t>Цель урока:</a:t>
            </a:r>
            <a:br>
              <a:rPr sz="4800"/>
            </a:br>
            <a:r>
              <a:rPr b="1" lang="en-US" sz="4800" spc="-1" strike="noStrike">
                <a:solidFill>
                  <a:srgbClr val="603fed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603fed"/>
                </a:solidFill>
                <a:latin typeface="Arial"/>
              </a:rPr>
              <a:t>Изучить строение и значение цветка.</a:t>
            </a:r>
            <a:r>
              <a:rPr b="1" lang="en-US" sz="3200" spc="-1" strike="noStrike">
                <a:solidFill>
                  <a:srgbClr val="603fed"/>
                </a:solidFill>
                <a:latin typeface="Times New Roman"/>
              </a:rPr>
              <a:t>»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0" y="360"/>
            <a:ext cx="9144000" cy="6857640"/>
            <a:chOff x="0" y="360"/>
            <a:chExt cx="9144000" cy="6857640"/>
          </a:xfrm>
        </p:grpSpPr>
        <p:grpSp>
          <p:nvGrpSpPr>
            <p:cNvPr id="139" name="Group 6"/>
            <p:cNvGrpSpPr/>
            <p:nvPr/>
          </p:nvGrpSpPr>
          <p:grpSpPr>
            <a:xfrm>
              <a:off x="0" y="6240600"/>
              <a:ext cx="9144000" cy="617400"/>
              <a:chOff x="0" y="6240600"/>
              <a:chExt cx="9144000" cy="617400"/>
            </a:xfrm>
          </p:grpSpPr>
          <p:pic>
            <p:nvPicPr>
              <p:cNvPr id="140" name="Picture 7" descr="044[1]"/>
              <p:cNvPicPr/>
              <p:nvPr/>
            </p:nvPicPr>
            <p:blipFill>
              <a:blip r:embed="rId1"/>
              <a:stretch/>
            </p:blipFill>
            <p:spPr>
              <a:xfrm>
                <a:off x="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8" descr="044[1]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6240600"/>
                <a:ext cx="305892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Picture 9" descr="044[1]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" name="Group 10"/>
            <p:cNvGrpSpPr/>
            <p:nvPr/>
          </p:nvGrpSpPr>
          <p:grpSpPr>
            <a:xfrm>
              <a:off x="0" y="360"/>
              <a:ext cx="9144000" cy="650520"/>
              <a:chOff x="0" y="360"/>
              <a:chExt cx="9144000" cy="650520"/>
            </a:xfrm>
          </p:grpSpPr>
          <p:pic>
            <p:nvPicPr>
              <p:cNvPr id="144" name="Picture 11" descr="044[1]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Picture 12" descr="044[1]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059280" y="0"/>
                <a:ext cx="305892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13" descr="044[1]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608472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" name="Group 14"/>
            <p:cNvGrpSpPr/>
            <p:nvPr/>
          </p:nvGrpSpPr>
          <p:grpSpPr>
            <a:xfrm>
              <a:off x="0" y="549360"/>
              <a:ext cx="595440" cy="5832360"/>
              <a:chOff x="0" y="549360"/>
              <a:chExt cx="595440" cy="5832360"/>
            </a:xfrm>
          </p:grpSpPr>
          <p:pic>
            <p:nvPicPr>
              <p:cNvPr id="148" name="Picture 15" descr="044[1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178280" y="172800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16" descr="044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1178280" y="460764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" name="Group 17"/>
            <p:cNvGrpSpPr/>
            <p:nvPr/>
          </p:nvGrpSpPr>
          <p:grpSpPr>
            <a:xfrm>
              <a:off x="8533080" y="476280"/>
              <a:ext cx="610920" cy="5832360"/>
              <a:chOff x="8533080" y="476280"/>
              <a:chExt cx="610920" cy="5832360"/>
            </a:xfrm>
          </p:grpSpPr>
          <p:pic>
            <p:nvPicPr>
              <p:cNvPr id="151" name="Picture 18" descr="044[1]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62000" y="164700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19" descr="044[1]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62000" y="452664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Почк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715000" cy="50212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Строение цветк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70560" cy="502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324480" cy="4992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Группа 4"/>
          <p:cNvGrpSpPr/>
          <p:nvPr/>
        </p:nvGrpSpPr>
        <p:grpSpPr>
          <a:xfrm>
            <a:off x="5029200" y="1219320"/>
            <a:ext cx="3741840" cy="5029200"/>
            <a:chOff x="5029200" y="1219320"/>
            <a:chExt cx="3741840" cy="5029200"/>
          </a:xfrm>
        </p:grpSpPr>
        <p:sp>
          <p:nvSpPr>
            <p:cNvPr id="159" name="Скругленный прямоугольник 5"/>
            <p:cNvSpPr/>
            <p:nvPr/>
          </p:nvSpPr>
          <p:spPr>
            <a:xfrm>
              <a:off x="5029200" y="1219320"/>
              <a:ext cx="3741840" cy="5029200"/>
            </a:xfrm>
            <a:custGeom>
              <a:avLst/>
              <a:gdLst>
                <a:gd name="textAreaLeft" fmla="*/ 182520 w 3741840"/>
                <a:gd name="textAreaRight" fmla="*/ 3559320 w 3741840"/>
                <a:gd name="textAreaTop" fmla="*/ 182520 h 5029200"/>
                <a:gd name="textAreaBottom" fmla="*/ 4846680 h 5029200"/>
              </a:gdLst>
              <a:ahLst/>
              <a:rect l="textAreaLeft" t="textAreaTop" r="textAreaRight" b="textAreaBottom"/>
              <a:pathLst>
                <a:path w="21600" h="29031">
                  <a:moveTo>
                    <a:pt x="3600" y="0"/>
                  </a:moveTo>
                  <a:arcTo wR="3600" hR="3600" stAng="16200000" swAng="-5400000"/>
                  <a:lnTo>
                    <a:pt x="0" y="25431"/>
                  </a:lnTo>
                  <a:arcTo wR="3600" hR="3600" stAng="10800000" swAng="-5400000"/>
                  <a:lnTo>
                    <a:pt x="18000" y="29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e4f8"/>
            </a:solidFill>
            <a:ln w="25560">
              <a:solidFill>
                <a:srgbClr val="bc98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Прямоугольник 6"/>
            <p:cNvSpPr/>
            <p:nvPr/>
          </p:nvSpPr>
          <p:spPr>
            <a:xfrm>
              <a:off x="5029200" y="1717560"/>
              <a:ext cx="3610080" cy="39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Если околоцветник состоит только из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лепестков венчика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, то такой околоцветник называют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простым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Если состоит из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чашелистиков и лепестков венчика, то это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войны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Околоцветник</a:t>
            </a:r>
            <a:r>
              <a:rPr b="1" lang="en-US" sz="40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210120" cy="39625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11400" cy="40384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Скругленный прямоугольник 4"/>
          <p:cNvSpPr/>
          <p:nvPr/>
        </p:nvSpPr>
        <p:spPr>
          <a:xfrm>
            <a:off x="214200" y="1357200"/>
            <a:ext cx="4071960" cy="4286520"/>
          </a:xfrm>
          <a:custGeom>
            <a:avLst/>
            <a:gdLst>
              <a:gd name="textAreaLeft" fmla="*/ 198720 w 4071960"/>
              <a:gd name="textAreaRight" fmla="*/ 3873240 w 4071960"/>
              <a:gd name="textAreaTop" fmla="*/ 198720 h 4286520"/>
              <a:gd name="textAreaBottom" fmla="*/ 4087800 h 4286520"/>
            </a:gdLst>
            <a:ahLst/>
            <a:rect l="textAreaLeft" t="textAreaTop" r="textAreaRight" b="textAreaBottom"/>
            <a:pathLst>
              <a:path w="21600" h="22738">
                <a:moveTo>
                  <a:pt x="3600" y="0"/>
                </a:moveTo>
                <a:arcTo wR="3600" hR="3600" stAng="16200000" swAng="-5400000"/>
                <a:lnTo>
                  <a:pt x="0" y="19138"/>
                </a:lnTo>
                <a:arcTo wR="3600" hR="3600" stAng="10800000" swAng="-5400000"/>
                <a:lnTo>
                  <a:pt x="18000" y="22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e4f8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357120" y="1928880"/>
            <a:ext cx="3643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сли через листочки околоцветника можно провести несколько плоскостей симметрии, то такие цветки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авильны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00720" y="1428840"/>
            <a:ext cx="4095720" cy="40957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67" name="Прямая соединительная линия 7"/>
          <p:cNvSpPr/>
          <p:nvPr/>
        </p:nvSpPr>
        <p:spPr>
          <a:xfrm flipH="1">
            <a:off x="5143680" y="1428840"/>
            <a:ext cx="3071520" cy="4071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ая соединительная линия 8"/>
          <p:cNvSpPr/>
          <p:nvPr/>
        </p:nvSpPr>
        <p:spPr>
          <a:xfrm flipH="1" flipV="1">
            <a:off x="4571640" y="3429000"/>
            <a:ext cx="4000680" cy="285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ая соединительная линия 12"/>
          <p:cNvSpPr/>
          <p:nvPr/>
        </p:nvSpPr>
        <p:spPr>
          <a:xfrm flipH="1" flipV="1">
            <a:off x="5572080" y="1499760"/>
            <a:ext cx="2000160" cy="4071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Правильный цветок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Скругленный прямоугольник 2"/>
          <p:cNvSpPr/>
          <p:nvPr/>
        </p:nvSpPr>
        <p:spPr>
          <a:xfrm>
            <a:off x="214200" y="1643040"/>
            <a:ext cx="4214880" cy="4000680"/>
          </a:xfrm>
          <a:prstGeom prst="roundRect">
            <a:avLst>
              <a:gd name="adj" fmla="val 16667"/>
            </a:avLst>
          </a:prstGeom>
          <a:solidFill>
            <a:srgbClr val="a2e4f8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Цветки, через которые можно провести одну плоскость симметрии,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еправильны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4929120" y="1857240"/>
            <a:ext cx="3625920" cy="35006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73" name="Прямая соединительная линия 5"/>
          <p:cNvSpPr/>
          <p:nvPr/>
        </p:nvSpPr>
        <p:spPr>
          <a:xfrm flipH="1">
            <a:off x="6786720" y="1285920"/>
            <a:ext cx="1440" cy="4502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Неправильный цветок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1" descr="SDC10487"/>
          <p:cNvPicPr/>
          <p:nvPr/>
        </p:nvPicPr>
        <p:blipFill>
          <a:blip r:embed="rId1"/>
          <a:stretch/>
        </p:blipFill>
        <p:spPr>
          <a:xfrm>
            <a:off x="762120" y="2895480"/>
            <a:ext cx="3124080" cy="35053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34120" y="2895480"/>
            <a:ext cx="2735280" cy="37339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grpSp>
        <p:nvGrpSpPr>
          <p:cNvPr id="177" name="Группа 13"/>
          <p:cNvGrpSpPr/>
          <p:nvPr/>
        </p:nvGrpSpPr>
        <p:grpSpPr>
          <a:xfrm>
            <a:off x="685800" y="1141920"/>
            <a:ext cx="8153280" cy="1449000"/>
            <a:chOff x="685800" y="1141920"/>
            <a:chExt cx="8153280" cy="1449000"/>
          </a:xfrm>
        </p:grpSpPr>
        <p:sp>
          <p:nvSpPr>
            <p:cNvPr id="178" name="Скругленный прямоугольник 3"/>
            <p:cNvSpPr/>
            <p:nvPr/>
          </p:nvSpPr>
          <p:spPr>
            <a:xfrm>
              <a:off x="4977000" y="1528920"/>
              <a:ext cx="3862080" cy="9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f6"/>
                </a:gs>
              </a:gsLst>
              <a:lin ang="16200000"/>
            </a:gradFill>
            <a:ln w="648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Раздельнополы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крапива двудомная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Скругленный прямоугольник 4"/>
            <p:cNvSpPr/>
            <p:nvPr/>
          </p:nvSpPr>
          <p:spPr>
            <a:xfrm>
              <a:off x="685800" y="1625760"/>
              <a:ext cx="3075480" cy="9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f6"/>
                </a:gs>
              </a:gsLst>
              <a:lin ang="16200000"/>
            </a:gra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Обоеполы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гибискус)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Прямая со стрелкой 6"/>
            <p:cNvCxnSpPr/>
            <p:nvPr/>
          </p:nvCxnSpPr>
          <p:spPr>
            <a:xfrm flipH="1">
              <a:off x="1972800" y="1141920"/>
              <a:ext cx="2503440" cy="5799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81" name="Прямая со стрелкой 8"/>
            <p:cNvCxnSpPr/>
            <p:nvPr/>
          </p:nvCxnSpPr>
          <p:spPr>
            <a:xfrm>
              <a:off x="4905360" y="1142640"/>
              <a:ext cx="1931760" cy="5799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</p:grpSp>
      <p:sp>
        <p:nvSpPr>
          <p:cNvPr id="182" name="Скругленный прямоугольник 2"/>
          <p:cNvSpPr/>
          <p:nvPr/>
        </p:nvSpPr>
        <p:spPr>
          <a:xfrm>
            <a:off x="2895480" y="533520"/>
            <a:ext cx="307188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Скругленный прямоугольник 2"/>
          <p:cNvSpPr/>
          <p:nvPr/>
        </p:nvSpPr>
        <p:spPr>
          <a:xfrm>
            <a:off x="2895480" y="609480"/>
            <a:ext cx="307188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вет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Однодомное растение</a:t>
            </a:r>
            <a:r>
              <a:rPr b="1" lang="en-US" sz="44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4857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7:46:08Z</dcterms:created>
  <dc:creator>Пользователь</dc:creator>
  <dc:description/>
  <dc:language>en-US</dc:language>
  <cp:lastModifiedBy>КарМаН</cp:lastModifiedBy>
  <dcterms:modified xsi:type="dcterms:W3CDTF">2012-02-18T15:41:3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