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.gif" ContentType="image/gif"/>
  <Override PartName="/ppt/media/image9.png" ContentType="image/png"/>
  <Override PartName="/ppt/media/image13.jpeg" ContentType="image/jpeg"/>
  <Override PartName="/ppt/media/image12.wmf" ContentType="image/x-wmf"/>
  <Override PartName="/ppt/media/image1.gif" ContentType="image/gif"/>
  <Override PartName="/ppt/media/image4.gif" ContentType="image/gif"/>
  <Override PartName="/ppt/media/image3.gif" ContentType="image/gif"/>
  <Override PartName="/ppt/media/image6.png" ContentType="image/png"/>
  <Override PartName="/ppt/media/image2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24.wmf" ContentType="image/x-wmf"/>
  <Override PartName="/ppt/media/image23.jpeg" ContentType="image/jpeg"/>
  <Override PartName="/ppt/media/image25.jpeg" ContentType="image/jpeg"/>
  <Override PartName="/ppt/media/image22.gif" ContentType="image/gif"/>
  <Override PartName="/ppt/media/image17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6.jpeg" ContentType="image/jpeg"/>
  <Override PartName="/ppt/media/image18.wmf" ContentType="image/x-wmf"/>
  <Override PartName="/ppt/media/image15.png" ContentType="image/png"/>
  <Override PartName="/ppt/media/image5.wmf" ContentType="image/x-wmf"/>
  <Override PartName="/ppt/media/image27.jpeg" ContentType="image/jpeg"/>
  <Override PartName="/ppt/media/image2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75C9-AA83-4A88-8DC4-A2670BE7C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BE87-56E3-48F7-8FD4-04922424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C83F-EDF3-441E-B706-445A3DB49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306E-457E-4844-A63F-2EB77CC79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FF3E-4C1A-4466-9AE8-88A8F9EA1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E5F6-1313-4802-978A-43154978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EFED-746A-401E-A99E-6EE40E42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F2C8-D059-4DFB-9BA3-CC6B22C8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CB726-2EB0-4CE8-9570-F625470A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9000-F9FC-4E2A-83A0-335FE15D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43C1-C2C5-433C-82C2-139FAB62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CEAD-9A2B-4D59-BD8C-D27FA3CA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E413-9046-4C9D-8F8C-05391430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3E48-40A9-449A-A973-EFD445F0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799E-9788-495F-AA38-6A89FE99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8D20-4551-4A55-987B-4927E312B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A4D7-1144-4FE1-A69F-8807308D5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A3C4-1BE7-4E38-8CD3-E93D37C0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D1F1-23B7-42BD-BAB5-6050BDD7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A384-182E-4FF0-9AE5-2BE5CC0B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C721-44E0-418B-98EA-DEE889CA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BDDD-D487-4536-95EF-0801D1C5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BD66-C0B4-4243-866D-0C199B8F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8EA9-EE9F-4663-AA33-62336AB7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DD8D-9C4F-477E-A686-A8D1DF4FA93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40C3-A691-4FED-A7B1-FDFCDA4C73F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DADB-AC1D-49B3-8CB0-4C89C69C78A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F4FE-AA84-4EF6-B349-8998958FA4E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8.xml"/><Relationship Id="rId6" Type="http://schemas.openxmlformats.org/officeDocument/2006/relationships/slide" Target="slide16.xml"/><Relationship Id="rId7" Type="http://schemas.openxmlformats.org/officeDocument/2006/relationships/slide" Target="slide17.xm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" Target="slide11.xm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wmf"/><Relationship Id="rId6" Type="http://schemas.openxmlformats.org/officeDocument/2006/relationships/slide" Target="slide11.xml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" Target="slide11.xml"/><Relationship Id="rId4" Type="http://schemas.openxmlformats.org/officeDocument/2006/relationships/image" Target="../media/image21.jpe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" Target="slide11.xm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1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ема №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1760" y="2819520"/>
            <a:ext cx="7924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«Размножение растений»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32360" y="4869000"/>
            <a:ext cx="4211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есникова Н.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подаватель спец.дисципл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БОУ СПО НСХ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BEEE-2776-4E35-B250-D854F407271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917496E-3591-4F56-A45D-DF2DEA96DD4A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ипы плодов 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Семянка; 2-листовка; 3-боб; 4-стручок; 5-стручочек; 6,8,9-коробочка; 7-двусемянка; 10-костян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956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08240" y="567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57150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73320" y="5776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18280" y="47102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4724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68600" y="55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07040" y="44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07040" y="59292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29000" cy="2251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449440" y="3490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87720" y="55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64240" y="55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83200" y="3871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960680" y="53960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08640" y="55101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44720" y="5776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6400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209680" y="3352680"/>
            <a:ext cx="6096240" cy="306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ABF8-0C68-4D2F-A86C-2D349001DD1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98AC0D-9F56-40A6-831A-0C775DADA65C}" type="datetime1">
              <a:rPr lang="en-US"/>
              <a:t>07/29/26</a:t>
            </a:fld>
          </a:p>
        </p:txBody>
      </p:sp>
    </p:spTree>
  </p:cSld>
  <p:transition spd="slow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2. Вегетативное размножение -</a:t>
            </a:r>
            <a:br>
              <a:rPr sz="32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 размножение растений отдельными его частями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Усами (клубник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2" action="ppaction://hlinksldjump"/>
              </a:rPr>
              <a:t>Черенками (виноград, смородин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Отводками (виноград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4" action="ppaction://hlinksldjump"/>
              </a:rPr>
              <a:t>Луковицами (чеснок, лук, тюльпан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5" action="ppaction://hlinksldjump"/>
              </a:rPr>
              <a:t>Корневыми отпрысками (малина, камыш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33"/>
                </a:solidFill>
                <a:latin typeface="Times New Roman"/>
              </a:rPr>
              <a:t>Корневыми клубнями (георгин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6" action="ppaction://hlinksldjump"/>
              </a:rPr>
              <a:t>Клубнями (картофель, земляная груш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7" action="ppaction://hlinksldjump"/>
              </a:rPr>
              <a:t>Корневищами (многолетние травы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6732720" y="5259240"/>
            <a:ext cx="2411280" cy="15987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14400" y="6400800"/>
            <a:ext cx="160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6324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C38E-67E5-497A-A8FE-6FF88751AD9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718374-3FA5-4DBB-8021-DCDBA9326114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ус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312408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им из представителей данного типа размножения является клубни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3384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562720" y="1503360"/>
            <a:ext cx="2971800" cy="1620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419720" cy="5029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85800" y="6324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6781680" y="4800600"/>
            <a:ext cx="2362320" cy="20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ECB5-CAAA-4BD7-8B81-65BB2676C96B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E09E82-1DC4-4540-9DFF-88B8C53165B2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5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6000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черенк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1468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3124080" cy="1984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2102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1174680" cy="2133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78144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334120" y="1600200"/>
            <a:ext cx="3200400" cy="19479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4952880" y="4724280"/>
            <a:ext cx="2514600" cy="1684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1295280" y="4343400"/>
            <a:ext cx="1805040" cy="2133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410080" y="358128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ревесневшие черен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57400" y="3657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еленые черен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37339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рневые черен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6324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6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7DB2-3FAD-42E5-93FA-D2445F721BA6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63A8A8-A7A1-4F48-A621-DAC5BD45664F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отводк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9100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495680" y="2133720"/>
            <a:ext cx="2895840" cy="1609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58128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990720" y="2209680"/>
            <a:ext cx="2590560" cy="15242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14400" y="38098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оризонтальные отвод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95680" y="3886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уговидные отвод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46483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одками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 называют побеги, укоренившиеся на маточном растен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62485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647720" cy="2060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7885080" y="5013360"/>
            <a:ext cx="1071720" cy="184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6456-25FC-4FED-96B6-8087B18C8AC2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DC3C33-8AE3-444E-BD81-904EB846CBE6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луковиц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1337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представителям растений, размножающихся луковицами, можно отнести: тюльпаны, лук, чеснок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886200" y="4044960"/>
            <a:ext cx="2971800" cy="2209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477120" y="3276720"/>
            <a:ext cx="2133360" cy="19335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62120" y="6324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108000" y="3933720"/>
            <a:ext cx="3708360" cy="247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71C5-C66F-484F-8A75-7B33D02959D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C80E0E-F87A-4D47-B49C-DC25B3FC0E07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клубня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61722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657600" cy="2438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648320" y="1981080"/>
            <a:ext cx="38862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лубни образуются на концах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толон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подземных побег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им способом размножаются картофель и земляная груш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781680" y="4292640"/>
            <a:ext cx="2362320" cy="256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1DAE-9D65-471C-987A-2CC993E73621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E66420-0F6A-4E7D-A641-AD22220389B0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корневищ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3112920" cy="3429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343400" y="2286000"/>
            <a:ext cx="41148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Корневищ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бег, возникающий из почек узла кущ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данному типу размножения растений можно отнести многолетние травы, хризантемы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6324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A6B8-4F2E-4C6B-80E9-ECF0B38C282F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7ABEBF-BA8D-457E-8603-D005F9C9C2C0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0"/>
                            </p:stCondLst>
                            <p:childTnLst>
                              <p:par>
                                <p:cTn id="3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500"/>
                            </p:stCondLst>
                            <p:childTnLst>
                              <p:par>
                                <p:cTn id="35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корневыми отпрыск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981080"/>
            <a:ext cx="7848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рневые отпрыски образуются в результате прорастания придаточных почек на горизонтальных корнях маточных растен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анный способ размножения является основным промышленным способом размножения мали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9568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819520" y="4114800"/>
            <a:ext cx="3429000" cy="25574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57200" y="63244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F392-0661-4D85-8676-5AF4E6804317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176A03-C1C4-4C03-9C03-6B2AB40B04C2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епанов В.Н. Основы агрономи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громромиздат, 1988 г. Моск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етьяков Н.Н  Основы агрономи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кадемия 1998 г. Моск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0560" y="5881680"/>
            <a:ext cx="271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жмите клавишу 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ES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AE7B-2DCC-4E80-973C-EF0B54F4149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C534DA-56F9-4A66-A878-E61CAF923252}" type="datetime1">
              <a:rPr lang="en-US"/>
              <a:t>07/29/26</a:t>
            </a:fld>
          </a:p>
        </p:txBody>
      </p:sp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Аннотац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-6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анная разработка представляет собой небольшое исследование по видам и способам  размножения растений .Которая  дает полную характеристику вегетации и  созревания культур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67640" y="4869000"/>
            <a:ext cx="1282680" cy="180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8AEA-1033-4AA5-8722-FED60BD196CE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AA5DB8-0E95-4203-92BE-7CEE9FDC8FCA}" type="datetime1">
              <a:rPr lang="en-US"/>
              <a:t>07/29/26</a:t>
            </a:fld>
          </a:p>
        </p:txBody>
      </p:sp>
    </p:spTree>
  </p:cSld>
  <p:transition spd="slow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Цел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934920"/>
            <a:ext cx="864216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Образовательная - углубить и систематизировать знание учащихся о размножении растений, проверить их умение правильно определять    способы размнож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Развивающая - продолжить формирование умений аргументировано излагать свою    точку зр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 Unicode MS"/>
              </a:rPr>
              <a:t>Задач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Изучение способов размножения растений их разнообразие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Формирование умений различать способы размнож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Развитие навыков наблюд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164360" y="5040360"/>
            <a:ext cx="1795320" cy="1795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1C2C-01C1-4979-A72D-7479E7A934F7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1773C5-8701-4EE6-95E6-BF858E1A3B60}" type="datetime1">
              <a:rPr lang="en-US"/>
              <a:t>07/29/26</a:t>
            </a:fld>
          </a:p>
        </p:txBody>
      </p:sp>
    </p:spTree>
  </p:cSld>
  <p:transition spd="slow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растений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1. 	Половое размнож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33"/>
                </a:solidFill>
                <a:uFillTx/>
                <a:latin typeface="Times New Roman"/>
                <a:hlinkClick r:id="rId2" action="ppaction://hlinksldjump"/>
              </a:rPr>
              <a:t>Вегетативное размнож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исок литератур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5257800"/>
            <a:ext cx="365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ля дальнейшей работы выберите один из пунктов и щелкните на нем кнопкой мыш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391520" y="495360"/>
            <a:ext cx="1533240" cy="13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A67A-B95C-4025-BC04-DB10AC840F2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FB0452-6DBE-4210-9ED3-87F3103FA506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-838080"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оловое размнож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половом размножении цветковых растений происходит слияние двух клеток (мужской и женской гамет) в результате чего образуется оплодотворенная клетка. Которая называется зиго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819520" y="5445000"/>
            <a:ext cx="3429000" cy="13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AC25-3434-44F5-9DED-9F07920DDEE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FEBC49-A983-47C4-8E0F-3728EA40FFE1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оловое размнож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243828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Цветок – орган семенного размножения, укороченный видоизмененный побег, приспособленный для образования половых клеток, опыления, оплодотворения и формирования семян и плод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8120" y="4038480"/>
            <a:ext cx="2514600" cy="24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2B2C-B5FC-4A5F-B53A-7E18C4728AA9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E51FDB-D13D-4AAC-B09B-0799A217E2CF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хема строения цветка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2908440" cy="4495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038480" y="2057400"/>
            <a:ext cx="419112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 – завязь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 – столбик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 – рыльце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 – пыльцевые зерна, проросшие в пыльцевой трубке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 – две тычинк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 – поперечный разрез пыльник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7 – продольный разрез пыльник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8 – яйцеклет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2C74-EB3E-493A-A62B-392FFB76F91F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EEB3FC-2711-408D-B110-E00423C6EA32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500"/>
                            </p:stCondLst>
                            <p:childTnLst>
                              <p:par>
                                <p:cTn id="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пыл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2514240"/>
            <a:ext cx="6019920" cy="3505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ыление - перенос пыльцы из пыльников на рыльце пестик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 виду опыления растения бывают: перекрестноопыляющиеся и самоопыляющие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16680" y="1066680"/>
            <a:ext cx="3011400" cy="449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1285-11EE-4FE5-853E-66725E776ED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8CCADE-6133-43FE-AC9B-ECA6FCCDFE11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Плод –это вместилище семян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лоды состоят из околоплодника,который образуется из стенок завязи и семян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КОЛОПЛОДНИ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243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200400"/>
            <a:ext cx="1218960" cy="91440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3200400"/>
            <a:ext cx="1295640" cy="91440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 rot="10800000">
            <a:off x="2360160" y="388584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ЧНЫЙ                                         СУХОЙ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4419720"/>
            <a:ext cx="28191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ЯГОДА (ВИНОГРАД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ОСТЯНКА (ВИШНЯ,СЛИВА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4572000"/>
            <a:ext cx="312444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БОБ (ГОРОХ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ТРУЧОК (КАПУСТА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ОРОБОЧКА (МАК, ЛЕН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ЕРНОВКА (ПШЕНИЦА, ЯЧМЕНЬ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ЕМЯНКА (ПОДСОЛНЕЧНИК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ОПЛОДИЕ (СВЕКЛА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AF17-3058-4036-89C5-2C4CC3394F7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B6912F-1576-4796-ADB8-E1DA53D829D6}" type="datetime1">
              <a:rPr lang="en-US"/>
              <a:t>07/29/26</a:t>
            </a:fld>
          </a:p>
        </p:txBody>
      </p:sp>
    </p:spTree>
  </p:cSld>
  <p:transition spd="slow">
    <p:strips dir="l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силий</cp:lastModifiedBy>
  <dcterms:modified xsi:type="dcterms:W3CDTF">2012-01-20T15:57:27Z</dcterms:modified>
  <cp:revision>19</cp:revision>
  <dc:subject/>
  <dc:title>Презентация PowerPoint</dc:title>
</cp:coreProperties>
</file>