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756-B515-4604-B4D6-E1CAEAFE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0F3-22E6-487D-887B-6A834650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04A7-5688-48E2-927C-D7FEA428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C333-8D88-4CCA-BF3C-15ECA695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F8DC-1781-4F55-B3EE-9AE1DE8B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29B9-4C05-446C-AD8F-2171FB53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105F-7C99-4CEF-B7D3-238370CE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0617-51B1-4D74-89FA-0E7D9903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25CA-CDDE-43CF-B7B0-CAFF4349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DBBB-1DDE-40D5-BD06-F231E2E1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BC99-DC8C-4F4F-9AD2-E47E6C54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0E4C-36AA-4C92-9DDB-C912D293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FFFD-B6D6-4B34-8267-247EB97B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1926-E6E7-401D-9959-731A146C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8123-3C03-4EF6-83C0-B1678C39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2D3B-91D8-41D8-AA38-72845695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6EBE-3BDE-428A-A382-9A640ED8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1D94-E806-4DA6-884A-B16AA936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698F-1629-4797-9695-67B010E1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F17D-506F-4FD4-8B1B-401CCBD7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210A-DC30-4189-83DB-C85C129C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ABCC-8247-4F90-B881-8D16FF8D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070-80F5-479F-B719-6A8B0936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C1BE-2338-4810-B674-67A0766D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8BE1-257F-4BF4-ABC9-110ED8E5CA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F9C1-9881-4437-8C6D-B412E6AA98B1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00"/>
                </a:solidFill>
                <a:latin typeface="Times New Roman"/>
              </a:rPr>
              <a:t>Новые виды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Приходько Альбина Анатол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МОУ «Дубровская СОШ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Бактерии в лаке для волос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icrobacterium hatanonis – новый вид экстремофильных (то есть способных жить и размножаться в экстремальных условиях среды) бактерий, обнаруженный в лаке для воло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4643280" y="1987560"/>
            <a:ext cx="40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Пальма, которая цветет до смерти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ahina spectabilis – новый вид и род пальм, обнаруженных в северо-западной части острова Мадагаскар. Известно всего около 100 экземпляров этого удивительного дерева, которое образует гигантские соцветия, и после плодоношения умирает. Новый вид весьма далек в родственном отношении от остальных 170 видов пальм Мадагаскара, зато близок к нескольким видам, произрастающим в Азии (фото – John Dransfiel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03280" y="4581360"/>
            <a:ext cx="58881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игантский палочни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hobaeticus chain – самое длинное в мире насекомое, с длиной тела 35,6 см и общей длиной (включая ноги) 56,7 см. Этот гигант относится к отряду палочников и обитает в Малаз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78483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рошечный морской конек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Hippocampus satomiae – самый маленький известный представитель морских коньков, достигающий всего лишь 1,38 см в длину и обитающий в Индонез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619280" y="4087800"/>
            <a:ext cx="60483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Барбадосская змея-нит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ptotyphlops carlae – самая маленькая в мире змея, не превышающая в длину 10,4 см. Она была обнаружена на Антильских островах и получила свое название в честь жены исследователя, Карлы Анн Х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7070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лизень-привидение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nochlamys ysbryda – хищный слизень, ведущий ночной образ жизни, и впервые обнаруженный в одном из наиболее хорошо изученных районов Уэльса (Великобритания). Видовое название "ysbryda" по-валлийски означает "привидение" или "дух" (фото – Ben Rowson). Также показаны лезвия зубов, каждое 0.5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763640" y="4186080"/>
            <a:ext cx="583272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Червеобразная улитк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Opisthostoma vermiculum – необычный брюхоногий моллюск, раковина которого закручивается сразу по четырем осям. К тому же обороты раковинки опистосомы три раза отделаются друг от друга и два раза срастаются обратно, формируя уникальный по своему строению домик. В норме спирально закрученные раковины улиток имею всего три оси и приросшие друг к другу обороты раков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218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амая древняя живородящая рыб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terpiscis attenboroughi, или рыба-мама, жила около 380 миллионов лет назад, и ее ископаемые остатки были обнаружены в западной Австралии. Интересным является тот факт что "рыба-мама" сохранилась в ископаемом состоянии в процессе произведения на свет своего детеныша, что является редчайшей находкой и одновременно самыми первыми зарегистрированными родами среди позвоночных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8172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фе без кофеин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offea charrieriana – новый вид бескофеинового кофе, произрастающий в Камеруне. Камерун является центром видового разнообразия кофе и новый дикий вид, возможно, будет использоваться для создания культурных сортов кофе, не содержащих кофе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619280" y="4292640"/>
            <a:ext cx="6264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6:50:47Z</dcterms:created>
  <dc:creator>Маша</dc:creator>
  <dc:description/>
  <dc:language>en-US</dc:language>
  <cp:lastModifiedBy>Олег</cp:lastModifiedBy>
  <dcterms:modified xsi:type="dcterms:W3CDTF">2011-12-01T17:06:28Z</dcterms:modified>
  <cp:revision>8</cp:revision>
  <dc:subject/>
  <dc:title>Новые виды</dc:title>
</cp:coreProperties>
</file>