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gif" ContentType="image/gif"/>
  <Override PartName="/ppt/media/image25.jpeg" ContentType="image/jpeg"/>
  <Override PartName="/ppt/media/image24.jpeg" ContentType="image/jpeg"/>
  <Override PartName="/ppt/media/image19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4258-894D-4E1D-875F-21621CF182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F89D-7C87-4B61-8B8A-38F811CB87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Закрепляем материал. Анимация стрелки. Что это тако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6B4-4604-4D9D-80A2-355F7628E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69E0-CC34-4E38-B225-0A457BEE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447-2477-40D3-8AC3-15A532E0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AEA-A6EA-4421-ACB1-5DA914C4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F5FD-A2CE-48DB-88A8-091C85A3F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E792-5051-414B-8F17-A873533E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4078-B3E4-4BEA-AAA6-4BA6F40B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58DC-5EAD-4CB7-B711-ABDA2E91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92C-F0FE-4702-9602-2766C073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52C0-5F8A-48E0-BDF1-BDF71633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AAB-8369-45DD-9DD8-AD23726C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DCC3-88B1-457E-AB65-FE8B419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FED6-6F50-4D4E-9C8E-2749CA30A11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28DF-3162-4F75-BC26-39225A148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ircitaty.com/darwin.html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pwr.ru/" TargetMode="External"/><Relationship Id="rId2" Type="http://schemas.openxmlformats.org/officeDocument/2006/relationships/hyperlink" Target="http://www.epwr.ru/quotauthor/384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439128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оршунова Ирина Вале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г. Королев, Моск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МОУСОШ №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221000"/>
            <a:ext cx="4043160" cy="1922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ять пиков активности: с 5.00 до 8.00, с 11.00 до 12.00, с 16.00-17.00, с 20.00 до 21.00 и с 0.00 до 1.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88296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5435640" y="28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итани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питании долгожителе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зко выражена молочно-растительная направленность, низкое потребление соли, сахара, растительного масла, мяса, рыбы. Также высокое содержание в рационе зернобобовых (кукуруза, фасоль), кисломолочных продуктов, острых приправ, разнообразных растительных соусов, пря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итание населения с низкой продолжительностью жиз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тличается низким потреблением молока и кисломолочных продуктов, овощей (кроме картофеля), фруктов. Однако существенно выше потребление свиного сала, свиного мяса, растительного масла, и в целом питание носит углеводно-жировую направлен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297080" cy="1512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1871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147080" y="72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707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16000" y="405000"/>
            <a:ext cx="68421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ри основных принципа составляют суть рационального пита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вновесие между поступающей с пищей энергией и энергией, расходуемой человеком в процессе жизнедеятель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довлетворение потребностей организма человека в определенном количестве, качественном составе и соотношении пищевых вещест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57200" algn="ctr">
              <a:buClr>
                <a:srgbClr val="000000"/>
              </a:buClr>
              <a:buFont typeface="Arial"/>
              <a:buChar char="•"/>
              <a:tabLst>
                <a:tab algn="l" pos="67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блюдение режима питания (то, что мы никогда не делае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9640" y="3933720"/>
            <a:ext cx="1143000" cy="1079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024000" cy="25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1990440"/>
            <a:ext cx="8172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лександр Александрович Люб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ыдающийся  ученый и мыслитель, биолог, математи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учета време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еление времени на категории, где критерием выступает достойная цель жиз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увеличения времени основной категории за счет других категорий рабо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равномерность и ритмичность нагрузок: трудные работы с ут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чередование легкой и тяжелой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тказ от срочных поруч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ланирование и обратная связь по самоотчета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ыход из-под давления внешних обстоятельств, в частности, отказ от высоких должностей, административ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ринцип бездефицитности сил, т.е. приход к началу следующего цикла труд-отдых без накопления устал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77080" y="404640"/>
            <a:ext cx="138276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621000"/>
            <a:ext cx="706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ищев сам формулировал короч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Я не беру обязатель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Не беру срочных пору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В случае утомления сейчас же прекращаю работу и отдыха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Сплю много, часов дес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Комбинирую утомительные занятия с прия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 Чтение художественной литературы - основная рабо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76360" y="270792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средотачиваюсь на том, что  дано контролировать, и отключаюсь оттого, что выше моих возмож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476244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2000" y="991080"/>
            <a:ext cx="576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мирает только хилое и слабое, здоровое и сильное всегда выходит победителем в борьбе за существо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Чарльз Дарв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4292640"/>
            <a:ext cx="626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ще один совет, который сохранит наш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вивай в себе настрой, полный любви к делу, которым ты занимаешься, не забывая о том, что это выбо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Е.И. Кутова (психолог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3320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340000" y="269388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 здоровье люди молят богов. Но они не понимают, что его сохранение зависит от них самих». Гиппокр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0000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87280" y="1557360"/>
            <a:ext cx="691380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Будьте  здоровы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«Биологические ритмы организма челове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. ОБОЛКИ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ший преподаватель кафедры философии ИФиП УрО РАН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дат философских нау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Газета Уральского отделения Российской академии наук (Январь 2009, №2-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октор медицинских наук В. ГРИНЕ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рнал «Наука и жизнь» 2005 г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Биоритм- Википед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айт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vi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рви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epwr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›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quotauthor/384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4032000" cy="3581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859280" y="404640"/>
            <a:ext cx="3672000" cy="2159280"/>
          </a:xfrm>
          <a:prstGeom prst="cloudCallout">
            <a:avLst>
              <a:gd name="adj1" fmla="val -89342"/>
              <a:gd name="adj2" fmla="val -95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5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вый общий подъем активности. Организм постепенно просыпаетс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и начинает работу всех своих орган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08720" y="3068640"/>
            <a:ext cx="2809800" cy="1584360"/>
          </a:xfrm>
          <a:prstGeom prst="wedgeRoundRectCallout">
            <a:avLst>
              <a:gd name="adj1" fmla="val -18870"/>
              <a:gd name="adj2" fmla="val -101203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6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исходит выброс адреналина. Давление повышается, частота сердечных сокращений увеличивается. Иммунитет особенно силе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24000" y="4508640"/>
            <a:ext cx="8489880" cy="2166840"/>
            <a:chOff x="324000" y="4508640"/>
            <a:chExt cx="8489880" cy="2166840"/>
          </a:xfrm>
        </p:grpSpPr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324000" y="4581360"/>
              <a:ext cx="1525320" cy="116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908000" y="5084640"/>
              <a:ext cx="1406880" cy="1339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3348000" y="4508640"/>
              <a:ext cx="2022480" cy="10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5435640" y="5013360"/>
              <a:ext cx="133020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7020000" y="5084640"/>
              <a:ext cx="1793880" cy="134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"/>
          <p:cNvSpPr/>
          <p:nvPr/>
        </p:nvSpPr>
        <p:spPr>
          <a:xfrm>
            <a:off x="611280" y="2997360"/>
            <a:ext cx="3889440" cy="1584000"/>
          </a:xfrm>
          <a:prstGeom prst="wedgeRoundRectCallout">
            <a:avLst>
              <a:gd name="adj1" fmla="val -5305"/>
              <a:gd name="adj2" fmla="val -87574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7-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иод наибольшей активности желудка. Все, съеденное в это время, максимально усваивается. Позаботьтесь о том, чтобы это была полезная пищ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700360" y="0"/>
            <a:ext cx="4319640" cy="2708280"/>
          </a:xfrm>
          <a:prstGeom prst="cloudCallout">
            <a:avLst>
              <a:gd name="adj1" fmla="val -75837"/>
              <a:gd name="adj2" fmla="val -20106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чинается спад активности, не беритесь за сложные дела, требующие пристального вни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34 из 64000"/>
          <p:cNvPicPr/>
          <p:nvPr/>
        </p:nvPicPr>
        <p:blipFill>
          <a:blip r:embed="rId1"/>
          <a:stretch/>
        </p:blipFill>
        <p:spPr>
          <a:xfrm>
            <a:off x="1116000" y="2852640"/>
            <a:ext cx="3024360" cy="3060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859280" y="3068640"/>
            <a:ext cx="3600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еперь самое время для умственной и физической активности. В это время все органы включаются в активную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 наивысшей физической и духовной акти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27200" y="90360"/>
            <a:ext cx="536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ять спа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откажите себе в чашечке ч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н тоже содержит кофеин, но намного меньш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кофе, это важно для «сердечни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ремя, когда организм вырабатыв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ольше всего желудочного со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менно в это время нужно обе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47640" y="3068640"/>
            <a:ext cx="5400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11280" y="3340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ик работоспособности человека, это время, когда лучше всего проявляется и его физическая активность, и умственная деятельность дает хорошие результаты. Также сейчас активно протекают процессы пищеварения и очищения всего организ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илы возвращаются голова становиться ясной. Занятия идут легко, без труда. Долговременная память работает наилучш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00360" y="3716280"/>
            <a:ext cx="3456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71640" y="333360"/>
            <a:ext cx="7618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ый подъем физической активности, но спад умственной. Самое время заняться спортом или просто пройтись, чтобы собрать мысли воед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акции замедляются. Обостряется чувство голода. Надо перекусить, чтобы поддержать убывающие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79640" y="2565360"/>
            <a:ext cx="4968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404640"/>
            <a:ext cx="81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кровяное давление организма. В это время часты беспочвенные конфликты и ссоры, сдерживайте с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ышается физическая активность, и для активного спорта сейчас самое время. Еще можно поужин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076720" y="3716280"/>
            <a:ext cx="3311640" cy="2881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 rot="2053200">
            <a:off x="2268000" y="4292640"/>
            <a:ext cx="20163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68360" y="356400"/>
            <a:ext cx="482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ова начинает активно работать мозг. Если у вас еще осталась незаконченная работа – самое время ее сдел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3456000" cy="2881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241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35280" y="620640"/>
            <a:ext cx="568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м начинает настраиваться на отдых и потихоньку засып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-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деальное время для того, чтобы пойти спать, ведь не зря сном красоты называют сон до полуно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3672000" cy="3276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68360" y="620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716360" y="2924280"/>
            <a:ext cx="352764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32:01Z</dcterms:created>
  <dc:creator>user</dc:creator>
  <dc:description/>
  <dc:language>en-US</dc:language>
  <cp:lastModifiedBy>КарМаН</cp:lastModifiedBy>
  <dcterms:modified xsi:type="dcterms:W3CDTF">2011-11-03T09:31:40Z</dcterms:modified>
  <cp:revision>20</cp:revision>
  <dc:subject/>
  <dc:title>Слайд 1</dc:title>
</cp:coreProperties>
</file>