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59D-65BE-4752-8266-EB2D0873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8D6-6A36-4145-82C8-368CACD4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ECB-04C1-435F-865B-5B1B898D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BDB-597F-4F78-A94E-E1382A73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F1B0-EDCC-4F56-AD3A-81D049DC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FFC1-4B84-4DBF-AE95-CCDAC537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2A50-FFDC-425D-98DF-438049C6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B825-7B0C-40B7-81D2-C46A5DDC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9D0C-F9E2-42ED-B89D-82177567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BC4E-7262-4C5B-9CC9-53A653F0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3EE7-714F-475E-A65B-68B84550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0CAC-4758-4D48-87B4-6F434C95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E753-F84D-44B9-BD11-EC4BC3D3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BF1F-F62D-43A0-901E-13530C74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05EA-B500-4853-8D99-B83B1882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085C-1B37-4F6C-99B1-D1335E38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0073-EC00-4FA1-96A5-69F869A5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1ECF5-CEFE-4D9A-932C-270F9ACD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C8A63-BF91-449A-B682-A157E9B6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850AB-B243-482B-8491-29C94A31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6EA22-1727-44F4-ADBA-30F26B5B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C9CE6-E1D2-428E-B466-D57FFB9D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A94-7AF1-4244-A5F1-0986D0FD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A2C9-FB9C-4CB5-8C15-44F6EB13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CDC1-4454-4BAA-8B35-E941D268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1AED5-FC78-4124-870D-5948DACA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89143-95C2-4AAE-8570-87ABE42D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8CF36-D204-46AF-B87A-C7B4F4C3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2AF0-B4E1-460E-BE7F-9619DFA4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B515D-4D53-47CF-8930-5072D8F2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EF82D-1AE1-48B4-AF47-25F9824F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4A12F-B528-4AAC-8989-8A3F1765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3560D-28AC-4E85-B3B1-4864813A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7E8-78E7-44DA-A676-4E0868D8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0C46A-2D9B-4B91-843A-AEA99643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E2504-9973-48D8-8819-893CFF3B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102FD-9CC0-4D47-A771-10B212F5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03B91-8EAE-4A55-B828-AD5EEC97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5305F-5D99-43CB-8C2F-8434F3CC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0ADF5-D79E-4D2B-BD9B-86914B33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7BA50-FDBB-4A32-88F0-668CC43D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FC0F-B715-4907-BB8C-6D27F1E1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28595-AEA5-4201-85B7-D7AD51D1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277-1DF5-42BC-AB12-9FD1422B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9D4-E803-4CC2-974A-33018262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853-0B79-47A4-8B9A-E483A1A4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CC4-0D62-4385-B2E1-9996C107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6E3-253B-4F48-96BD-DB6BC920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48BE-A4F7-4AC6-B8FF-B284DFA0904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42E8-18CD-4E14-95EC-CA106748CDA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591D-D159-4FC7-ABFB-2A962BD911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7CE6-EE0E-4087-A041-D1C5E79FC9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889360"/>
            <a:ext cx="2870280" cy="201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98880" y="2889360"/>
            <a:ext cx="2870280" cy="20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69160" y="2889360"/>
            <a:ext cx="2869920" cy="201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Внутренняя среда организма.</a:t>
            </a:r>
            <a:br>
              <a:rPr sz="6700"/>
            </a:br>
            <a:br>
              <a:rPr sz="6700"/>
            </a:b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Кровь, ее строение и значение</a:t>
            </a:r>
            <a:endParaRPr b="0" lang="en-US" sz="67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563868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ДАНИЛОВА О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Times New Roman"/>
              </a:rPr>
              <a:t>Состав крови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Эритр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0323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все эритроциты человека уложить рядом, то получиться лента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3 раз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опоясывающая земной шар по эквато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считать число эритроцитов со скоростью 100 шт. в минуту, то для того, чтобы пересчитать их все потребуется почти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450 тысяч ле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 rot="321600">
            <a:off x="1444320" y="34920"/>
            <a:ext cx="70120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умать только...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3760" y="990360"/>
            <a:ext cx="380988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Лейк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3520" y="6137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.И. Ме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Свертывание крови </a:t>
            </a:r>
            <a:br>
              <a:rPr sz="4400"/>
            </a:b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(образование тромба)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1371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209680"/>
            <a:ext cx="2209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оцит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уш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124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мбоплас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и С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26668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рменты плазмы (глобули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4038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ром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3962520"/>
            <a:ext cx="182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ин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 плазм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4800600"/>
            <a:ext cx="2133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о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растворим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4876920"/>
            <a:ext cx="1981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(в виде нит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5791320"/>
            <a:ext cx="2286000" cy="64260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Тром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тки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1828800"/>
            <a:ext cx="0" cy="4572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4191120"/>
            <a:ext cx="259092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200400"/>
            <a:ext cx="1067040" cy="7621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257440" y="3124080"/>
            <a:ext cx="1066680" cy="9144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3581280"/>
            <a:ext cx="0" cy="6098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029200"/>
            <a:ext cx="243828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267080" y="4343400"/>
            <a:ext cx="1524240" cy="60948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038480" y="5257800"/>
            <a:ext cx="1447920" cy="5335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962160" y="6019920"/>
            <a:ext cx="990360" cy="30456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33ff"/>
                </a:solidFill>
                <a:latin typeface="Times New Roman"/>
              </a:rPr>
              <a:t>За 1 день</a:t>
            </a:r>
            <a:endParaRPr b="0" lang="en-US" sz="66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костный мозг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извод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320 млрд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ритроцит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Arial"/>
              </a:rPr>
              <a:t>За 1 секунду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,5 млн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Лабораторная работа № 3 </a:t>
            </a:r>
            <a:br>
              <a:rPr sz="4000"/>
            </a:b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Тема: «Сравнение крови человека с кровью лягушки»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репарате лягушки рассмотрите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сните, в чем их различ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ритроциты и лейкоциты в тетр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ите препарат крови человека, найдите в поле зрения микроскопа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ти кровяные тельца в своих тетрад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отличия эритроцитов человека от эритроцитов ляг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ья кровь, человека или лягушки, перенесет в единицу времени больше кислорода?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«</a:t>
            </a: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Кровь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как зеркало отражает многое из того, что происходит в организме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»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.А. Касси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Внутренняя среда -</a:t>
            </a:r>
            <a:r>
              <a:rPr b="1" i="1" lang="en-US" sz="5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диная система жидкостей – является естественным продолжением водной основы клето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9966ff"/>
                </a:solidFill>
                <a:latin typeface="Times New Roman"/>
              </a:rPr>
              <a:t>Внутренняя среда организма</a:t>
            </a:r>
            <a:endParaRPr b="0" lang="en-US" sz="50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28800" y="1562040"/>
            <a:ext cx="5029200" cy="5295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9480" y="457200"/>
            <a:ext cx="8229600" cy="838080"/>
          </a:xfrm>
          <a:prstGeom prst="rect">
            <a:avLst/>
          </a:prstGeom>
          <a:solidFill>
            <a:srgbClr val="ffff99"/>
          </a:soli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ff"/>
                </a:solidFill>
                <a:latin typeface="Times New Roman"/>
              </a:rPr>
              <a:t>Компоненты и их распо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144792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1523880"/>
            <a:ext cx="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1447920"/>
            <a:ext cx="0" cy="14475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286000"/>
            <a:ext cx="2743200" cy="6858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3124080"/>
            <a:ext cx="3048120" cy="9907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кане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д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2895480"/>
            <a:ext cx="2666880" cy="7621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им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97180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809880"/>
            <a:ext cx="2361960" cy="17528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рдц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ровенос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572000"/>
            <a:ext cx="2361960" cy="1295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лет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к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2400" y="365760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4191120"/>
            <a:ext cx="2666880" cy="1676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имфат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Задание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зучите данные, приведенные в табли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равните состав морской воды и сыворотки кров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чему кровь называют «плененным море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57200" y="304920"/>
          <a:ext cx="8229600" cy="538956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Химический эле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орская во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ыворотка кров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9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M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,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5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5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O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57200" y="5715000"/>
          <a:ext cx="8229600" cy="70020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ругие эле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7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 rot="5400000">
            <a:off x="-1105200" y="285732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Функции крови</a:t>
            </a:r>
            <a:endParaRPr b="0" i="1" lang="en-US" sz="2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400800" y="2438280"/>
            <a:ext cx="0" cy="23623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Monotype Corsiva"/>
              </a:rPr>
              <a:t>КРОВЬ</a:t>
            </a:r>
            <a:r>
              <a:rPr b="1" i="1" lang="en-US" sz="4800" spc="-1" strike="noStrike">
                <a:solidFill>
                  <a:srgbClr val="9933ff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209680" y="1447920"/>
            <a:ext cx="609840" cy="2286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447920"/>
            <a:ext cx="990720" cy="3808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752480"/>
            <a:ext cx="3352680" cy="6858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Плазма кро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828800"/>
            <a:ext cx="4495680" cy="685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Форменные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438280"/>
            <a:ext cx="0" cy="17528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2438280"/>
            <a:ext cx="0" cy="1828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2514600"/>
            <a:ext cx="0" cy="22096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9600" y="2514600"/>
            <a:ext cx="0" cy="21337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41911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42670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47242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480060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46483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11-06T07:53:3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