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6.jpeg" ContentType="image/jpeg"/>
  <Override PartName="/ppt/media/image5.wmf" ContentType="image/x-wmf"/>
  <Override PartName="/ppt/media/image12.jpeg" ContentType="image/jpeg"/>
  <Override PartName="/ppt/media/image7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015F-4A6F-4B17-BEA2-DF54D23CC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4122-634D-45CE-8F86-E26212A37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5A3F-F469-4226-BD4B-C6218498D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B023-7250-4E5B-A82B-2A3F93AF7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9BCA-7125-4676-BC23-BA50EBB33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94A4-0694-47D8-B1D3-255C30DC5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C2B8-63ED-48B0-A3C8-321914B55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DF54-3E27-4407-A841-61B06CC90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D5FF-F0D2-46C6-BC7F-FC52BCDA1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E39F-5EE1-449C-B634-6E6952BC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CABE-0A87-4890-9057-8F298048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380A-87DA-4EC4-BE54-37FAF219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47FB5-F787-495A-B46F-1F4B989A84A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184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cc"/>
                </a:solidFill>
                <a:latin typeface="Times New Roman"/>
              </a:rPr>
              <a:t>Устройство увеличительных приборов и </a:t>
            </a:r>
            <a:br>
              <a:rPr sz="5400"/>
            </a:br>
            <a:r>
              <a:rPr b="1" lang="ru-RU" sz="5400" spc="-1" strike="noStrike">
                <a:solidFill>
                  <a:srgbClr val="3333cc"/>
                </a:solidFill>
                <a:latin typeface="Times New Roman"/>
              </a:rPr>
              <a:t>правила</a:t>
            </a:r>
            <a:br>
              <a:rPr sz="5400"/>
            </a:br>
            <a:r>
              <a:rPr b="1" lang="ru-RU" sz="5400" spc="-1" strike="noStrike">
                <a:solidFill>
                  <a:srgbClr val="3333cc"/>
                </a:solidFill>
                <a:latin typeface="Times New Roman"/>
              </a:rPr>
              <a:t> работы с ним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788000" y="5661000"/>
            <a:ext cx="352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Данилова О.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МОУ БРединская СОШ№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2627280" cy="41054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" dur="1" fill="hold"/>
                                  <p:tgtEl>
                                    <p:spTgt spid="4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42920" y="907560"/>
            <a:ext cx="3886200" cy="28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Что можно увидеть в электронный микроскоп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176720" cy="6524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250920" y="333360"/>
          <a:ext cx="8713800" cy="6120000"/>
        </p:xfrm>
        <a:graphic>
          <a:graphicData uri="http://schemas.openxmlformats.org/drawingml/2006/table">
            <a:tbl>
              <a:tblPr/>
              <a:tblGrid>
                <a:gridCol w="4357440"/>
                <a:gridCol w="4356360"/>
              </a:tblGrid>
              <a:tr h="306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обление яйцеклетк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невище папоротника орля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невище папоротника орляк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ыльник ири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116000" y="105264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219640" y="98100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042920" y="407664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5148360" y="4005360"/>
            <a:ext cx="2857320" cy="21430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395280" y="476280"/>
          <a:ext cx="8280000" cy="6048000"/>
        </p:xfrm>
        <a:graphic>
          <a:graphicData uri="http://schemas.openxmlformats.org/drawingml/2006/table">
            <a:tbl>
              <a:tblPr/>
              <a:tblGrid>
                <a:gridCol w="4140000"/>
                <a:gridCol w="4140000"/>
              </a:tblGrid>
              <a:tr h="30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аз мухи (6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оник (10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о волнистого попугая (10)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ухоед на пере попугая (60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716360" y="126828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468360" y="436572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4572000" y="436572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611280" y="476280"/>
          <a:ext cx="7993080" cy="6048360"/>
        </p:xfrm>
        <a:graphic>
          <a:graphicData uri="http://schemas.openxmlformats.org/drawingml/2006/table">
            <a:tbl>
              <a:tblPr/>
              <a:tblGrid>
                <a:gridCol w="3997080"/>
                <a:gridCol w="3996000"/>
              </a:tblGrid>
              <a:tr h="30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веток зверобоя (10)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ыло пче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2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ыло бабоч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о птицы (6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3024360" cy="2268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716360" y="4008600"/>
            <a:ext cx="3240360" cy="2430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4788000" y="1052640"/>
            <a:ext cx="3097080" cy="2315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611280" y="3956040"/>
            <a:ext cx="3313080" cy="2478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68360" y="442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Как определить увеличение микроскоп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еремножь эти числа. Произведение будет указывать увеличение, которое в данный момент дает микроскоп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ля нашего примера это 10 х 20 = 200 раз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сли переводишь объектив или меняешь окуляр (на изображенном микроскопе его можно плавно поворачивать, изменяя 10 на 20), то, соответственно, меняется и увеличе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омни об этом! Важно указывать увеличение, когда работаешь над объект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Правила работы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со световым микроскоп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ставьте микроскоп штативом к себе против левого плеча на расстоянии 5 - 10 см от края стол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рительную трубку опустите вниз н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-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м от предметного столик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правьте свет при помощи  подвижного зеркальца на предметный столик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ращайте зеркальце осторожно,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мотрите при этом в окуляр,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обиваясь освещения, комфортного для глаза: не «бьющего», но и не «мутного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52280" y="250920"/>
            <a:ext cx="883944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Положите на предметный столик напротив отверстия в нем готовый препарат. Зажмите предметное стекло зажимами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 В окуляр смотрите одним глазом, не закрывая и не зажмуривая другой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 Глядя в окуляр, очень медленно при помощи винтов поднимайте зрительную трубку до тех пор, пока не будет четкого изображения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7.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 После работы уберите микроскоп в футляр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266920" y="404640"/>
            <a:ext cx="41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Проверь себя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3200" y="1668600"/>
            <a:ext cx="8055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1415880"/>
            <a:ext cx="8229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. Какие увеличительные приборы т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наешь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. Что представляет собой лупа и какое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увеличение она дает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. Как устроен микроскоп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4. Как узнать, какое увеличение дает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икроскоп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132000" y="3068640"/>
            <a:ext cx="2880000" cy="3598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24000" y="1125360"/>
            <a:ext cx="251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уп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учная и штативн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48000" y="1125360"/>
            <a:ext cx="26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ветовой микроско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208560" y="111456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Электронный микроско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7840" y="228600"/>
            <a:ext cx="88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Внешний вид увеличительных прибор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08000" y="2505240"/>
            <a:ext cx="2879640" cy="3597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156360" y="2505240"/>
            <a:ext cx="2879640" cy="35985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лектронный микроско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29040" y="1628640"/>
            <a:ext cx="3181320" cy="49690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771640" y="907920"/>
            <a:ext cx="60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Историческая справ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05740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ветовые микроскопы с двумя линзам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ыли изобретены в 16 ве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17 веке голландец Антони ван Левенгук сконструировал боле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вершенны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икроскоп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ающий увеличение до 270 раз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 в 20 веке был изобретен электронны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икроскоп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величивающий изображени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десятки и сотни тысяч раз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2438280" cy="2127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4684680" cy="6264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240160" y="44280"/>
            <a:ext cx="386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Ручная луп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6035760"/>
            <a:ext cx="4359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92840" y="1752480"/>
            <a:ext cx="321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величительно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екл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инз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935680" y="4794120"/>
            <a:ext cx="144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уч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3428640" y="4572000"/>
            <a:ext cx="2438280" cy="51264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27640" y="5991120"/>
            <a:ext cx="46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учная лупа дает увеличение  от 2 до 20 ра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2628720" y="3044160"/>
            <a:ext cx="3159360" cy="58716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942160" y="328140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пра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2109240" y="1857960"/>
            <a:ext cx="3485160" cy="46548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0760" y="71280"/>
            <a:ext cx="4881600" cy="6526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580000" y="44280"/>
            <a:ext cx="352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Штативна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луп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510160" y="4133880"/>
            <a:ext cx="158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штати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69480" y="4721400"/>
            <a:ext cx="162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еркал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46800" y="2895480"/>
            <a:ext cx="308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едметн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толи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6720" y="1542960"/>
            <a:ext cx="149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куля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400200" y="4508640"/>
            <a:ext cx="2035080" cy="28872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2626920" y="3213000"/>
            <a:ext cx="2808360" cy="36036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25440" y="5985000"/>
            <a:ext cx="435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Штативная лупа увеличива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едметы от 10 до 25 ра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133720" y="1844640"/>
            <a:ext cx="3301920" cy="36504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2268360" y="5084640"/>
            <a:ext cx="3184560" cy="30492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415476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-108000" y="-27000"/>
            <a:ext cx="2303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Световой микроскоп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6284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величивае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ображения предметов от 56 до 800 ра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301800" y="0"/>
            <a:ext cx="149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куля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350040" y="765000"/>
            <a:ext cx="117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тубу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318720" y="1916280"/>
            <a:ext cx="221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бъектив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05400" y="285264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едметн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толи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333120" y="4005360"/>
            <a:ext cx="162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еркал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350040" y="4653000"/>
            <a:ext cx="139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ин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02160" y="5729400"/>
            <a:ext cx="158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штати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2720" y="6093000"/>
            <a:ext cx="256716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4221000"/>
            <a:ext cx="165564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645080" y="189000"/>
            <a:ext cx="115092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2987640" y="1123920"/>
            <a:ext cx="1944720" cy="144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3357720"/>
            <a:ext cx="187164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1280" y="5084640"/>
            <a:ext cx="256680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611280" y="2276280"/>
            <a:ext cx="2736720" cy="865440"/>
            <a:chOff x="611280" y="2276280"/>
            <a:chExt cx="2736720" cy="865440"/>
          </a:xfrm>
        </p:grpSpPr>
        <p:sp>
          <p:nvSpPr>
            <p:cNvPr id="94" name=""/>
            <p:cNvSpPr/>
            <p:nvPr/>
          </p:nvSpPr>
          <p:spPr>
            <a:xfrm>
              <a:off x="611280" y="2708280"/>
              <a:ext cx="2376360" cy="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84360" y="2708280"/>
              <a:ext cx="2663640" cy="43344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611280" y="2276280"/>
              <a:ext cx="2376360" cy="43164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68360" y="442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Как определить увеличение микроскоп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08000" y="765000"/>
            <a:ext cx="3587760" cy="5977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956040" y="2627280"/>
            <a:ext cx="5079960" cy="41148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140360" y="1052640"/>
            <a:ext cx="475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смотри на число, указанное на окуляр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579640" y="2060640"/>
            <a:ext cx="2737080" cy="237636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956040" y="2639880"/>
            <a:ext cx="5079960" cy="4102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08000" y="765000"/>
            <a:ext cx="3587760" cy="5977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68360" y="442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Как определить увеличение микроскоп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40360" y="1052640"/>
            <a:ext cx="475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смотри на число, указанное на объектив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579640" y="2060640"/>
            <a:ext cx="2737080" cy="237636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8T07:05:02Z</dcterms:created>
  <dc:creator> </dc:creator>
  <dc:description/>
  <dc:language>en-US</dc:language>
  <cp:lastModifiedBy>User</cp:lastModifiedBy>
  <dcterms:modified xsi:type="dcterms:W3CDTF">2011-11-06T10:32:00Z</dcterms:modified>
  <cp:revision>68</cp:revision>
  <dc:subject/>
  <dc:title>Устройство увеличительных приборов и  правила работы с ними.</dc:title>
</cp:coreProperties>
</file>