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84CA-85E7-4D9F-8565-C3744607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069-E5E8-4B92-A2C0-40FB2C59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247A-9144-41BE-A31A-21E95D09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2A6-7F92-4C57-A082-91EFC996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842-F35B-40F0-B9B4-BD86B8D8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EFD-AD9D-489C-BE21-90B1BB3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A6B-FC7A-4BD0-9B70-C4AE79AD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470B-218D-4FBA-B0EE-33FC9493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F00-16AA-4372-9FFD-54D66EEE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090-4814-476B-BE18-222909C7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DB3-2021-4000-8783-C7AC4A8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999-A4DE-4877-8509-D319C10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E83C-3B92-4AE5-9F48-24CCF5B6F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eorgia"/>
              </a:rPr>
              <a:t>Презентация к уроку биологии в 8 классе</a:t>
            </a: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Разработ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учитель химии и биологии Оболенской СОШ Серпуховского района Моск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Киселева Елен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Georgia"/>
              </a:rPr>
              <a:t>2011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Elephant"/>
                <a:ea typeface="Arial"/>
              </a:rPr>
              <a:t>§</a:t>
            </a: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 10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Elephant"/>
                <a:ea typeface="Arial"/>
              </a:rPr>
              <a:t>ответить на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Georgia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В.Колесов, Р.Д.Маш, И.Н.Беляев «Биология. Человек. Учебник для 8 класса» - М.: Дрофа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Г.В.Чередникова «8 класс. Поурочные планы по учебнику Д.В.Колесова, Р.Д.Маша, И.Н.Беляева» - Волгоград: Учитель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Georgia"/>
              </a:rPr>
              <a:t>Д.И.Мамонтов «Открытая биология. Мультимедийный курс» - М.: Физи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Bodoni MT Condensed"/>
              </a:rPr>
              <a:t>Тема урока:</a:t>
            </a:r>
            <a:r>
              <a:rPr b="1" lang="en-US" sz="44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«</a:t>
            </a:r>
            <a:r>
              <a:rPr b="1" i="1" lang="en-US" sz="4400" spc="-1" strike="noStrike">
                <a:solidFill>
                  <a:srgbClr val="990033"/>
                </a:solidFill>
                <a:latin typeface="Bodoni MT Condensed"/>
              </a:rPr>
              <a:t>Значение опорно-двигательной системы, её состав. Строение костей</a:t>
            </a:r>
            <a:r>
              <a:rPr b="1" lang="en-US" sz="4400" spc="-1" strike="noStrike">
                <a:solidFill>
                  <a:srgbClr val="990033"/>
                </a:solidFill>
                <a:latin typeface="Bodoni MT Condensed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6840" y="2666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Задач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Узнать о строении и функциях опорно-двигательной сист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о строением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знакомиться с классификацией к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45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Georgia"/>
              </a:rPr>
              <a:t>Давайте вспомни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ие виды скелета у животных вам извест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отделы внутреннего скел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Назовите части осевого скелета, конечностей, поясов конеч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В чем преимущество внутреннего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Georgia"/>
              </a:rPr>
              <a:t>Каковы основные функции скеле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66680" y="15238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Bodoni MT Condensed"/>
              </a:rPr>
              <a:t>ОДС – костно-мышечн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Bodoni MT Condensed"/>
              </a:rPr>
              <a:t>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ОПОР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ЗАЩИ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Bodoni MT Condense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Bodoni MT Condensed"/>
              </a:rPr>
              <a:t>ДВИГ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Monotype Corsiva"/>
              </a:rPr>
              <a:t>ХИМИЧЕСКИЙ  СОСТАВ  КОСТ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600200"/>
            <a:ext cx="304776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Не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1600200"/>
            <a:ext cx="3048120" cy="1219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Орга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4191120"/>
            <a:ext cx="18288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Жи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4191120"/>
            <a:ext cx="1447920" cy="91440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191120"/>
            <a:ext cx="25146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оли 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арбонаты – 1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осфаты –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4114800"/>
            <a:ext cx="2133720" cy="14479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Друг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органиче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ве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380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819520"/>
            <a:ext cx="45720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2819520"/>
            <a:ext cx="533520" cy="121896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715000" y="2819520"/>
            <a:ext cx="380880" cy="1295280"/>
          </a:xfrm>
          <a:prstGeom prst="line">
            <a:avLst/>
          </a:prstGeom>
          <a:ln w="3168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33"/>
                </a:solidFill>
                <a:latin typeface="Georgia"/>
              </a:rPr>
              <a:t>Микроскопическое строение кос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8320" y="914400"/>
            <a:ext cx="3505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(остеоциты) погружены в твердое межклеточное вещество (костные пластинки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летки                        расположены концентрически-ми кругами (цилиндрами) вокруг кан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1781" t="3205" r="0" b="4006"/>
          <a:stretch/>
        </p:blipFill>
        <p:spPr>
          <a:xfrm>
            <a:off x="0" y="3581280"/>
            <a:ext cx="5943600" cy="327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2743200" y="2590920"/>
            <a:ext cx="3124080" cy="15228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5257440"/>
            <a:ext cx="2361960" cy="228600"/>
          </a:xfrm>
          <a:prstGeom prst="line">
            <a:avLst/>
          </a:prstGeom>
          <a:ln w="6660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Georgia"/>
              </a:rPr>
              <a:t>Макроскопическое строение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33920" y="106668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кост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актное вещество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бчатое 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3382920" cy="5638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1752120" y="1600200"/>
            <a:ext cx="2133720" cy="26668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676160" y="3276360"/>
            <a:ext cx="205740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676520" y="2895480"/>
            <a:ext cx="2209680" cy="1981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Georgia"/>
              </a:rPr>
              <a:t>ВИДЫ К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2362320"/>
            <a:ext cx="289584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Трубчат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кон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2362320"/>
            <a:ext cx="342900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убча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ела позвон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груд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ости стоп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ки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71800" y="4876920"/>
            <a:ext cx="289548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ло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кости череп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лопаточ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85640" y="1066680"/>
            <a:ext cx="76212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572000" y="1295280"/>
            <a:ext cx="76320" cy="297180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1066680"/>
            <a:ext cx="685800" cy="1219320"/>
          </a:xfrm>
          <a:prstGeom prst="line">
            <a:avLst/>
          </a:prstGeom>
          <a:ln w="507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1533600" cy="4724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019920" y="4191120"/>
            <a:ext cx="2971800" cy="23335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3162240" cy="4019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219320" y="1295280"/>
            <a:ext cx="6962760" cy="4038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2895480" y="1523880"/>
            <a:ext cx="358164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Monotype Corsiva"/>
              </a:rPr>
              <a:t>Ответим на 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у костей достигается прочность, лёгкость, упруг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Почему межклеточное вещество костей тверд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Какие вы знаете к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За счет чего кость растет в длину и толщину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1-09-11T08:51:1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