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5A2-71B4-42E9-B3CB-5F7C3471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BA9-5972-4C11-BFB8-0B25A5E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5B5-8F6D-439D-90DE-1F730C35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DD2-1033-4734-92A1-CFEC52FD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88EB-0AC7-402A-8950-CC09CF91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47E-820A-468D-89DF-9DBF71D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046-7F9D-43B9-A2FF-5D523CC7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0A9E-5684-4DDC-8DAE-98E3B23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F20-6C8C-4C83-8464-FB864B1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1A89-5B04-49E9-B3BA-7EE7849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3ED-9590-4EC4-89FD-62CBE98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45D-FF4D-4837-972A-5C5BE712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8CEA-7EDF-4CB9-B7E7-68070A2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2346-D4E0-41ED-9EDB-DE7F096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E75-14D3-4B54-8A1B-E91D5E51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612C-3CBB-4E7A-AA6F-0809255A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7AF4-7881-478B-90CB-184F5726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BBE-EE3F-4478-AF1C-743D388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4DD-FD9F-4313-86FA-D0D607E6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1A7-5C84-43F4-A949-F0CEBFF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11C-8079-43A1-A343-7A1BD43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4E7-7A8E-4AC6-A0A5-4CDA13F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230-4549-4DBC-9162-EA40C14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853-E264-4AAA-9F3B-D6CB69D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2AB-624E-4BD8-ADC5-F867829A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5EB-8783-4A73-B129-0E501EFAEC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«5» за питан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рево держится своими корнями, а человек пищ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зербайджанская пословица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вощи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Готовим\DSCF3780.jpg"/>
          <p:cNvPicPr/>
          <p:nvPr/>
        </p:nvPicPr>
        <p:blipFill>
          <a:blip r:embed="rId3"/>
          <a:stretch/>
        </p:blipFill>
        <p:spPr>
          <a:xfrm>
            <a:off x="4952880" y="1600200"/>
            <a:ext cx="358164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Готовим\DSCF3799.jpg"/>
          <p:cNvPicPr/>
          <p:nvPr/>
        </p:nvPicPr>
        <p:blipFill>
          <a:blip r:embed="rId4"/>
          <a:stretch/>
        </p:blipFill>
        <p:spPr>
          <a:xfrm>
            <a:off x="5029200" y="3924360"/>
            <a:ext cx="3505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9efee"/>
                </a:solidFill>
                <a:latin typeface="Garamond"/>
              </a:rPr>
              <a:t>«Правильное и полезное питание поможет сохранить здоровье»</a:t>
            </a:r>
            <a:r>
              <a:rPr b="1" lang="en-US" sz="1800" spc="-1" strike="noStrike">
                <a:solidFill>
                  <a:srgbClr val="b9efee"/>
                </a:solidFill>
                <a:latin typeface="Garamond"/>
              </a:rPr>
              <a:t> - эти слова должны стать своеобразным лозунгом для тех, для кого здоровье - не пустой звук.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третье- а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екват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ща, которую съедает в течение дня человек, должна восполнять энергозатраты его организм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подростков они немалые – ведь вы  растете, в ваших организмах  происходят сложнейшие функциональные перестройк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 в каждом конкретном случае цифра эта может меняться в зависимости от пола, условий жизни, вида деятельности, состояния здоровья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цион и режим питания подростка, активно занимающегося спортом, должен отличаться от рациона и режима питания его менее подвижных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тание во время болезни отличается от питания в обычное врем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ля малоподвижных людей, людей умственного труда, чей мозг сжигает много энерг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22093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рацион должен содержать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грамм жир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-3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грамм углеводов в сутки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C:\Documents and Settings\Биология\Рабочий стол\DSCF3556.jpg"/>
          <p:cNvPicPr/>
          <p:nvPr/>
        </p:nvPicPr>
        <p:blipFill>
          <a:blip r:embed="rId2"/>
          <a:stretch/>
        </p:blipFill>
        <p:spPr>
          <a:xfrm>
            <a:off x="45720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У людей, занимающихся физическим трудом, большое количество энергии затрачивается мышцами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Поэтому нормой для них буде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-12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бел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-9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жиров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0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амм углев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имо этого, организм должен получать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клетчатку и витамины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.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C:\Documents and Settings\Биология\Рабочий стол\DSCF1102.jpg"/>
          <p:cNvPicPr/>
          <p:nvPr/>
        </p:nvPicPr>
        <p:blipFill>
          <a:blip r:embed="rId2"/>
          <a:stretch/>
        </p:blipFill>
        <p:spPr>
          <a:xfrm>
            <a:off x="5029200" y="1600200"/>
            <a:ext cx="335268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Биология\Рабочий стол\DSCF1075.jpg"/>
          <p:cNvPicPr/>
          <p:nvPr/>
        </p:nvPicPr>
        <p:blipFill>
          <a:blip r:embed="rId3"/>
          <a:stretch/>
        </p:blipFill>
        <p:spPr>
          <a:xfrm>
            <a:off x="5029200" y="3924360"/>
            <a:ext cx="3352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Давайте посчита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ким должен быть  наш полдник, если его калорийность составляет у юношей 435 ( д. 390)  ккал от 2900 ( д.2600) ккал   в сут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2743200"/>
          <a:ext cx="6326280" cy="3279600"/>
        </p:xfrm>
        <a:graphic>
          <a:graphicData uri="http://schemas.openxmlformats.org/drawingml/2006/table">
            <a:tbl>
              <a:tblPr/>
              <a:tblGrid>
                <a:gridCol w="1863720"/>
                <a:gridCol w="2114640"/>
                <a:gridCol w="2347920"/>
              </a:tblGrid>
              <a:tr h="99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, 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ческа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ценность, кк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ле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л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ы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о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ефи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ченье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оч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9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6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43"/>
          <p:cNvSpPr/>
          <p:nvPr/>
        </p:nvSpPr>
        <p:spPr>
          <a:xfrm>
            <a:off x="5167440" y="4787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четвертое-б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езопасность.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 питания обеспечивают три усло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людение ребенком правил личной гигиен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мение различать свежие и несвежие продук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сторожное обращение с незнакомыми продукт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Личная гигие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и человека загрязняются легче всего, так как все время соприкасаются с окружающими предметами. Поэтому их необходимо мыть, вернувшись домой, перед едой и перед приготовлением пищи. Привычка мыть руки после посещения туалета предотвращает распространение инфекционных кишечных заболеваний, а также самозаражение глистами. Кстати, грызть ногти - очень опасная привычка (и некрасивая к тому же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8" descr="C:\Documents and Settings\Биология\Рабочий стол\DSCF3982.jpg"/>
          <p:cNvPicPr/>
          <p:nvPr/>
        </p:nvPicPr>
        <p:blipFill>
          <a:blip r:embed="rId2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Биология\Рабочий стол\DSCF3976.jpg"/>
          <p:cNvPicPr/>
          <p:nvPr/>
        </p:nvPicPr>
        <p:blipFill>
          <a:blip r:embed="rId3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пятое - у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вольств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жная функция еды – доставлять удовольствие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ятные ощущения, которые возникают во время еды, имеют глубокий физиологический смысл, являясь показателем безопасности продукта (неприятный вкус воспринимается нашим организмом как сигнал тревоги – это есть нельзя!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м выше уровень развития вкусовой чувствительности, тем выше уровень защиты 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довольствие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ригинальная  сервировка сто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расивое оформление блю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Хорошее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нимательное отношение друг к дру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Чем мы будем заниматьс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Цел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рока: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формировать понятие  «здоровое  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) познакомиться с правилами здоров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) оценить рацион собственного 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) формировать элементарные навыки личной гигиены и умения правильно выбрать продук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м итог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инимать пищу надо в определенное время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 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Разнообразность и сбалансированность питания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ое п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исутствие в рационе сырых овощей и фруктов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Получение максимального удовольствия от пищ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он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обязательно должна быть свежей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Правильное питание должно стать Вашим образом жиз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Мы достигли цели урок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ое питание называют здоровы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это будем знать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будем полу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ятерки за питание и за образование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 Петрович  Павлов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ворил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«Если чрезмерное увлечение едой есть животность, то высокомерное невнимание к еде, есть неблагоразумие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ак будьте «благоразумны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Спасибо за урок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0" y="2133720"/>
            <a:ext cx="809640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дьте здоровы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ите долго и счастливо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538020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юдмила Викторовна Касьянова – учитель биолог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рдынская средняя общеобразовательная школа №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м. Героя Советского Союза А.Д.Гарани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Arial"/>
              </a:rPr>
              <a:t>Правило первое- р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егулярность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жим питания – не прихоть гигиенистов и диетологов, потребность в регулярном приеме пищи обусловлена законами деятельности нашего организм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се процессы, протекающие внутри нас (дыхание, биение сердца, деление клеток, сокращение сосудов, в том числе и работа пищеварительной системы), носят ритмичный характер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гулярность – непременное условие эффективного функционирования сложной биологической систем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Режим пита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Завтра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бе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дник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Ужин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20%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черний кефи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автрак съешь сам , обед подели с другом, ужин отдай враг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(Народная мудрост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Arial"/>
              </a:rPr>
              <a:t>Правило второе- р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азнообразие.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ш организм нуждается в разнообразном пластическом и энергетическом материале. Белки, жиры, углеводы, витамины, минеральные вещества - все это мы должны получать из пищи. У каждого из перечисленных веществ свои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лки – основной строительный материал, из которого формируется и "ремонтируется" (в случае возникающих неполадок) тел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глеводы и жиры участвуют в энергообеспечении систем и орган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тамины - важнейший регулятор биологических процессов, протекающих в организм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дукты питания растительного и животного происхожден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3885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0" descr="La Boqueria.JPG"/>
          <p:cNvPicPr/>
          <p:nvPr/>
        </p:nvPicPr>
        <p:blipFill>
          <a:blip r:embed="rId2"/>
          <a:stretch/>
        </p:blipFill>
        <p:spPr>
          <a:xfrm>
            <a:off x="457200" y="1600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350px-Meatfoodgroup"/>
          <p:cNvPicPr/>
          <p:nvPr/>
        </p:nvPicPr>
        <p:blipFill>
          <a:blip r:embed="rId3"/>
          <a:stretch/>
        </p:blipFill>
        <p:spPr>
          <a:xfrm>
            <a:off x="5029200" y="16765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20px-Myaso_%283897728158%29"/>
          <p:cNvPicPr/>
          <p:nvPr/>
        </p:nvPicPr>
        <p:blipFill>
          <a:blip r:embed="rId4"/>
          <a:stretch/>
        </p:blipFill>
        <p:spPr>
          <a:xfrm>
            <a:off x="457200" y="3886200"/>
            <a:ext cx="358128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00px-Mushrooms_A_La_Grecque"/>
          <p:cNvPicPr/>
          <p:nvPr/>
        </p:nvPicPr>
        <p:blipFill>
          <a:blip r:embed="rId5"/>
          <a:stretch/>
        </p:blipFill>
        <p:spPr>
          <a:xfrm>
            <a:off x="5029200" y="3886200"/>
            <a:ext cx="3581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Я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8" descr="http://moysad.net/wp-content/uploads/2010/10/photo_12871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g1.liveinternet.ru/images/attach/c/0/46/996/46996347_1249124816_8.jpg"/>
          <p:cNvPicPr/>
          <p:nvPr/>
        </p:nvPicPr>
        <p:blipFill>
          <a:blip r:embed="rId3"/>
          <a:stretch/>
        </p:blipFill>
        <p:spPr>
          <a:xfrm>
            <a:off x="4724280" y="2666880"/>
            <a:ext cx="38862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ушистая зел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укты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12:58Z</dcterms:created>
  <dc:creator>Касьяновы</dc:creator>
  <dc:description/>
  <dc:language>en-US</dc:language>
  <cp:lastModifiedBy>КарМаН</cp:lastModifiedBy>
  <dcterms:modified xsi:type="dcterms:W3CDTF">2011-06-21T12:42:4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