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73.png" ContentType="image/png"/>
  <Override PartName="/ppt/media/image56.png" ContentType="image/png"/>
  <Override PartName="/ppt/media/image40.jpeg" ContentType="image/jpeg"/>
  <Override PartName="/ppt/media/image53.jpeg" ContentType="image/jpeg"/>
  <Override PartName="/ppt/media/image49.jpeg" ContentType="image/jpeg"/>
  <Override PartName="/ppt/media/image51.wmf" ContentType="image/x-wmf"/>
  <Override PartName="/ppt/media/image48.png" ContentType="image/png"/>
  <Override PartName="/ppt/media/image45.jpeg" ContentType="image/jpeg"/>
  <Override PartName="/ppt/media/image46.jpeg" ContentType="image/jpeg"/>
  <Override PartName="/ppt/media/image3.wmf" ContentType="image/x-wmf"/>
  <Override PartName="/ppt/media/image44.jpeg" ContentType="image/jpeg"/>
  <Override PartName="/ppt/media/image57.jpeg" ContentType="image/jpeg"/>
  <Override PartName="/ppt/media/image20.wmf" ContentType="image/x-wmf"/>
  <Override PartName="/ppt/media/image63.png" ContentType="image/png"/>
  <Override PartName="/ppt/media/image43.png" ContentType="image/png"/>
  <Override PartName="/ppt/media/image41.jpeg" ContentType="image/jpeg"/>
  <Override PartName="/ppt/media/image23.wmf" ContentType="image/x-wmf"/>
  <Override PartName="/ppt/media/image42.wmf" ContentType="image/x-wmf"/>
  <Override PartName="/ppt/media/image4.wmf" ContentType="image/x-wmf"/>
  <Override PartName="/ppt/media/image2.wmf" ContentType="image/x-wmf"/>
  <Override PartName="/ppt/media/image15.png" ContentType="image/png"/>
  <Override PartName="/ppt/media/image55.wmf" ContentType="image/x-wmf"/>
  <Override PartName="/ppt/media/image16.jpeg" ContentType="image/jpeg"/>
  <Override PartName="/ppt/media/image77.wmf" ContentType="image/x-wmf"/>
  <Override PartName="/ppt/media/image7.png" ContentType="image/png"/>
  <Override PartName="/ppt/media/image19.wmf" ContentType="image/x-wmf"/>
  <Override PartName="/ppt/media/image21.wmf" ContentType="image/x-wmf"/>
  <Override PartName="/ppt/media/image60.png" ContentType="image/png"/>
  <Override PartName="/ppt/media/image22.wmf" ContentType="image/x-wmf"/>
  <Override PartName="/ppt/media/image59.wmf" ContentType="image/x-wmf"/>
  <Override PartName="/ppt/media/image24.wmf" ContentType="image/x-wmf"/>
  <Override PartName="/ppt/media/image33.wmf" ContentType="image/x-wmf"/>
  <Override PartName="/ppt/media/image72.png" ContentType="image/png"/>
  <Override PartName="/ppt/media/image75.jpeg" ContentType="image/jpeg"/>
  <Override PartName="/ppt/media/image36.png" ContentType="image/png"/>
  <Override PartName="/ppt/media/image76.jpeg" ContentType="image/jpeg"/>
  <Override PartName="/ppt/media/image71.jpeg" ContentType="image/jpeg"/>
  <Override PartName="/ppt/media/image70.png" ContentType="image/png"/>
  <Override PartName="/ppt/media/image17.jpeg" ContentType="image/jpeg"/>
  <Override PartName="/ppt/media/image26.png" ContentType="image/png"/>
  <Override PartName="/ppt/media/image66.wmf" ContentType="image/x-wmf"/>
  <Override PartName="/ppt/media/image78.jpeg" ContentType="image/jpeg"/>
  <Override PartName="/ppt/media/image61.jpeg" ContentType="image/jpeg"/>
  <Override PartName="/ppt/media/image8.wmf" ContentType="image/x-wmf"/>
  <Override PartName="/ppt/media/image38.wmf" ContentType="image/x-wmf"/>
  <Override PartName="/ppt/media/image69.jpeg" ContentType="image/jpeg"/>
  <Override PartName="/ppt/media/image9.wmf" ContentType="image/x-wmf"/>
  <Override PartName="/ppt/media/image67.wmf" ContentType="image/x-wmf"/>
  <Override PartName="/ppt/media/image29.wmf" ContentType="image/x-wmf"/>
  <Override PartName="/ppt/media/image65.jpeg" ContentType="image/jpeg"/>
  <Override PartName="/ppt/media/image62.png" ContentType="image/png"/>
  <Override PartName="/ppt/media/image5.wmf" ContentType="image/x-wmf"/>
  <Override PartName="/ppt/media/image27.jpeg" ContentType="image/jpeg"/>
  <Override PartName="/ppt/media/image50.jpeg" ContentType="image/jpeg"/>
  <Override PartName="/ppt/media/image52.png" ContentType="image/png"/>
  <Override PartName="/ppt/media/image25.png" ContentType="image/png"/>
  <Override PartName="/ppt/media/image10.wmf" ContentType="image/x-wmf"/>
  <Override PartName="/ppt/media/image31.jpeg" ContentType="image/jpeg"/>
  <Override PartName="/ppt/media/image47.wmf" ContentType="image/x-wmf"/>
  <Override PartName="/ppt/media/image18.wmf" ContentType="image/x-wmf"/>
  <Override PartName="/ppt/media/image6.wmf" ContentType="image/x-wmf"/>
  <Override PartName="/ppt/media/image14.png" ContentType="image/png"/>
  <Override PartName="/ppt/media/image28.jpeg" ContentType="image/jpeg"/>
  <Override PartName="/ppt/media/image11.jpeg" ContentType="image/jpeg"/>
  <Override PartName="/ppt/media/image12.jpeg" ContentType="image/jpeg"/>
  <Override PartName="/ppt/media/image74.jpeg" ContentType="image/jpeg"/>
  <Override PartName="/ppt/media/image34.png" ContentType="image/png"/>
  <Override PartName="/ppt/media/image1.png" ContentType="image/png"/>
  <Override PartName="/ppt/media/image13.png" ContentType="image/png"/>
  <Override PartName="/ppt/media/image54.jpeg" ContentType="image/jpeg"/>
  <Override PartName="/ppt/media/image30.png" ContentType="image/png"/>
  <Override PartName="/ppt/media/image37.jpeg" ContentType="image/jpeg"/>
  <Override PartName="/ppt/media/image32.png" ContentType="image/png"/>
  <Override PartName="/ppt/media/image68.wmf" ContentType="image/x-wmf"/>
  <Override PartName="/ppt/media/image35.jpeg" ContentType="image/jpeg"/>
  <Override PartName="/ppt/media/image64.jpeg" ContentType="image/jpeg"/>
  <Override PartName="/ppt/media/image3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539E-FFC3-4008-B921-3653ED41D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26FC-ED35-4153-B3DD-B8AED804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938D-F9F1-4309-ADF7-8AD49F1F9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EEAF-BB2C-497C-BE56-F174B2CD1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D4D4-818A-4F1C-97F3-C435BBC8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D275-4D80-402A-89FF-115F891C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6828-92CE-453B-8BAA-757E1966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7769-5FD7-4527-93EE-15EC2371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6509-BCBB-4576-BE54-7C53161E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2468-3655-4625-86E3-3CE304AA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B26A-6AA6-48B5-B24C-FF7DF417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4605-BA9E-4648-8679-24379872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5E18-173B-48B4-BA3B-8ADA8EB56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image" Target="../media/image62.png"/><Relationship Id="rId4" Type="http://schemas.openxmlformats.org/officeDocument/2006/relationships/image" Target="../media/image29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image" Target="../media/image71.jpe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74.jpeg"/><Relationship Id="rId7" Type="http://schemas.openxmlformats.org/officeDocument/2006/relationships/image" Target="../media/image75.jpeg"/><Relationship Id="rId8" Type="http://schemas.openxmlformats.org/officeDocument/2006/relationships/image" Target="../media/image76.jpeg"/><Relationship Id="rId9" Type="http://schemas.openxmlformats.org/officeDocument/2006/relationships/image" Target="../media/image33.wmf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.png"/><Relationship Id="rId3" Type="http://schemas.openxmlformats.org/officeDocument/2006/relationships/image" Target="../media/image7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7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wmf"/><Relationship Id="rId3" Type="http://schemas.openxmlformats.org/officeDocument/2006/relationships/image" Target="../media/image9.wmf"/><Relationship Id="rId4" Type="http://schemas.openxmlformats.org/officeDocument/2006/relationships/image" Target="../media/image7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7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13480" y="1809720"/>
            <a:ext cx="506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Соцвети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3120" y="3886200"/>
            <a:ext cx="668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втор: Лабунец Ольга Юрьев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7040" y="4495680"/>
            <a:ext cx="606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итель биологии МОУ СОШ №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84160" y="5105520"/>
            <a:ext cx="20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. Мытищ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40120" y="36180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1280" y="909720"/>
            <a:ext cx="3518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кол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96600" y="1432080"/>
            <a:ext cx="5133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тдельные цветки не имеющие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03080" y="1803240"/>
            <a:ext cx="5804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ножек расположены на общей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81840" y="2173320"/>
            <a:ext cx="2215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си соцветия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13320" y="2890800"/>
            <a:ext cx="2576520" cy="370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13320" y="2890800"/>
            <a:ext cx="2576520" cy="37051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60240" y="6335640"/>
            <a:ext cx="142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орож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14880" y="2890800"/>
            <a:ext cx="2576160" cy="370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14880" y="2890800"/>
            <a:ext cx="2576160" cy="37051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29840" y="6292800"/>
            <a:ext cx="1195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трыш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1833480" cy="5879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441600" y="2975040"/>
            <a:ext cx="2365560" cy="3284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440400" y="2975040"/>
            <a:ext cx="2408400" cy="3284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1346040" y="7953480"/>
            <a:ext cx="6269040" cy="1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692880" y="37296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63520" y="792000"/>
            <a:ext cx="385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зонт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01800" y="1392120"/>
            <a:ext cx="538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ы на цветоножках выходят и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77320" y="1760400"/>
            <a:ext cx="3643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ршины оси соцвет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2286000" cy="47246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971800" y="2819520"/>
            <a:ext cx="2854440" cy="347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71800" y="2819520"/>
            <a:ext cx="2854440" cy="34732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5867280"/>
            <a:ext cx="1641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воцв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048120" y="2895480"/>
            <a:ext cx="2727360" cy="3013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019920" y="2819520"/>
            <a:ext cx="2852640" cy="347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19920" y="2819520"/>
            <a:ext cx="2852640" cy="34732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81680" y="5943600"/>
            <a:ext cx="141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истоте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095880" y="2895480"/>
            <a:ext cx="2716200" cy="29592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736560" y="8859960"/>
            <a:ext cx="5959440" cy="1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592440" y="311040"/>
            <a:ext cx="39859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10800" y="735120"/>
            <a:ext cx="39798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0080"/>
                </a:solidFill>
                <a:latin typeface="Arial"/>
              </a:rPr>
              <a:t>Соцветие  початок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46720" y="1263600"/>
            <a:ext cx="529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толстой, обычно мясистой ос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50320" y="1622520"/>
            <a:ext cx="5014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цветия располагаются цвет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58960" y="1981080"/>
            <a:ext cx="3854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имеющие цветоноже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66920" y="2428920"/>
            <a:ext cx="2451240" cy="2036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66920" y="2428920"/>
            <a:ext cx="2451240" cy="20368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47960" y="4214880"/>
            <a:ext cx="1613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Белокрыльник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4738680"/>
            <a:ext cx="2438280" cy="18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56160" y="4587840"/>
            <a:ext cx="2490840" cy="21193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56720" y="6324480"/>
            <a:ext cx="1061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Антуриум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85000" y="2428920"/>
            <a:ext cx="2492280" cy="207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85000" y="2428920"/>
            <a:ext cx="2492280" cy="20779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97400" y="4254480"/>
            <a:ext cx="42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Аир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838080" y="555480"/>
            <a:ext cx="2165400" cy="5499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247920" y="2511360"/>
            <a:ext cx="2287800" cy="16700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6067440" y="2511360"/>
            <a:ext cx="2368440" cy="16700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4595760" y="4670280"/>
            <a:ext cx="2411640" cy="1589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814320" y="8148600"/>
            <a:ext cx="6429600" cy="18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450600" y="220680"/>
            <a:ext cx="39859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45280" y="673200"/>
            <a:ext cx="38534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0080"/>
                </a:solidFill>
                <a:latin typeface="Arial"/>
              </a:rPr>
              <a:t>Соцветие  головка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21000" y="1266840"/>
            <a:ext cx="5695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укороченном (часто утолщенном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30360" y="1628640"/>
            <a:ext cx="432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щем цветоносном побег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24960" y="1990800"/>
            <a:ext cx="4862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олагаются сидячие цвет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78000" y="2689200"/>
            <a:ext cx="2847960" cy="250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78000" y="2689200"/>
            <a:ext cx="2847960" cy="25099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96440" y="4829040"/>
            <a:ext cx="109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ев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49800" y="2671920"/>
            <a:ext cx="2846520" cy="2509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49800" y="2671920"/>
            <a:ext cx="2846520" cy="250956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01320" y="4803840"/>
            <a:ext cx="1718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дов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85800" y="960480"/>
            <a:ext cx="2309760" cy="46497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160800" y="2771640"/>
            <a:ext cx="2682720" cy="20574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132600" y="2771640"/>
            <a:ext cx="2681280" cy="20574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660240" y="8481960"/>
            <a:ext cx="5389560" cy="18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981960" y="21924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58920" y="696960"/>
            <a:ext cx="4172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корзи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46960" y="1452600"/>
            <a:ext cx="4924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утолщенном и расширенн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18520" y="1820880"/>
            <a:ext cx="4746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же соцветия располагаю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35080" y="2190600"/>
            <a:ext cx="5151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лкие сидячие цветки. Снаруж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48040" y="2558880"/>
            <a:ext cx="5352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о соцветие защищено зелены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89000" y="2928960"/>
            <a:ext cx="3242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стьями - оберт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30320" y="4076640"/>
            <a:ext cx="2438280" cy="213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30320" y="4076640"/>
            <a:ext cx="2438280" cy="213840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55840" y="591336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дуванч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20960" y="4076640"/>
            <a:ext cx="2438640" cy="213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20960" y="4076640"/>
            <a:ext cx="2438640" cy="213840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43640" y="5913360"/>
            <a:ext cx="66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ст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53360" y="4119480"/>
            <a:ext cx="2438280" cy="209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53360" y="4119480"/>
            <a:ext cx="2438280" cy="209556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18200" y="5880240"/>
            <a:ext cx="1652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солнеч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09480" y="681120"/>
            <a:ext cx="2984760" cy="29350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071720" y="4119480"/>
            <a:ext cx="2354040" cy="1719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3805200" y="4160880"/>
            <a:ext cx="2270160" cy="16779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6496200" y="4203720"/>
            <a:ext cx="2354040" cy="1635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584280" y="8664480"/>
            <a:ext cx="6029280" cy="1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66640" y="29700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9720" y="820800"/>
            <a:ext cx="3781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щит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36840" y="1378080"/>
            <a:ext cx="5881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На удлиненном общем цветоносном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15600" y="1749600"/>
            <a:ext cx="5273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обеге располагаются цветки на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30720" y="2120760"/>
            <a:ext cx="5929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ножках разной длины - нижние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35760" y="2492280"/>
            <a:ext cx="5680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более длинные, а верхние - короче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3462480"/>
            <a:ext cx="2752920" cy="2533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32000" y="3462480"/>
            <a:ext cx="2752920" cy="25336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16360" y="5691240"/>
            <a:ext cx="135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ярыш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38720" y="3546360"/>
            <a:ext cx="2751120" cy="2533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38720" y="3546360"/>
            <a:ext cx="2751120" cy="25336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87880" y="5734080"/>
            <a:ext cx="171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адовая груш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62120" y="803160"/>
            <a:ext cx="2158920" cy="47707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3218040" y="3546360"/>
            <a:ext cx="2581200" cy="20703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6222960" y="3632040"/>
            <a:ext cx="2583000" cy="2025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736560" y="8545680"/>
            <a:ext cx="5816520" cy="14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959640" y="37296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59560" y="912960"/>
            <a:ext cx="4078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завит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62760" y="1573200"/>
            <a:ext cx="484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т главной оси несущей один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59160" y="1949400"/>
            <a:ext cx="4641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к, ниже отходит другая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71760" y="2327400"/>
            <a:ext cx="573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дноцветковая ось, затем третья, а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85800" y="2703600"/>
            <a:ext cx="4769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далее более молодая часть с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86880" y="3081240"/>
            <a:ext cx="4921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нераспустившимися цветкам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46560" y="4556160"/>
            <a:ext cx="430200" cy="72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46560" y="4556160"/>
            <a:ext cx="430200" cy="72864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5880" y="3956040"/>
            <a:ext cx="2751120" cy="240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5880" y="3956040"/>
            <a:ext cx="2751120" cy="240048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64240" y="6004080"/>
            <a:ext cx="118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забуд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35840" y="3956040"/>
            <a:ext cx="2751120" cy="240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35840" y="3956040"/>
            <a:ext cx="2751120" cy="240048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088040" y="6004080"/>
            <a:ext cx="96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оп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762120" y="698400"/>
            <a:ext cx="2149200" cy="51008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3211560" y="3998880"/>
            <a:ext cx="2579760" cy="19717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6221520" y="4041720"/>
            <a:ext cx="2620800" cy="19288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736560" y="8575560"/>
            <a:ext cx="6018120" cy="1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860640" y="297000"/>
            <a:ext cx="4083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Сложн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11200" y="766800"/>
            <a:ext cx="5834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сложный зонт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73240" y="1494000"/>
            <a:ext cx="3364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т верхушки общего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67120" y="1870200"/>
            <a:ext cx="4782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носного побега отходят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67480" y="2246400"/>
            <a:ext cx="2783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ростые зонтик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97320" y="3230640"/>
            <a:ext cx="2658960" cy="235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97320" y="3230640"/>
            <a:ext cx="2658960" cy="235260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6240" y="5275440"/>
            <a:ext cx="100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рков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227640" y="3273480"/>
            <a:ext cx="2659320" cy="235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27640" y="3273480"/>
            <a:ext cx="2659320" cy="235260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232040" y="5275440"/>
            <a:ext cx="67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кро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09480" y="1305000"/>
            <a:ext cx="2573280" cy="4919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483000" y="3316320"/>
            <a:ext cx="2487600" cy="18381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6313320" y="3359160"/>
            <a:ext cx="2487960" cy="18810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584280" y="8628120"/>
            <a:ext cx="5925960" cy="14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987360" y="417600"/>
            <a:ext cx="4083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Сложн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92280" y="919080"/>
            <a:ext cx="5499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сложный кол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08520" y="1496880"/>
            <a:ext cx="428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длинном, тонком общ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71080" y="1863720"/>
            <a:ext cx="321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оносном побег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00960" y="2232000"/>
            <a:ext cx="518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олагаются простые колос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96280" y="2598840"/>
            <a:ext cx="4305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стоящие из 2-3-х сидячи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26440" y="2965320"/>
            <a:ext cx="130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630840" y="3341520"/>
            <a:ext cx="2262240" cy="325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30840" y="3341520"/>
            <a:ext cx="2262240" cy="325764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90800" y="6297480"/>
            <a:ext cx="102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шени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0" y="3633840"/>
            <a:ext cx="3224160" cy="275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40000" y="3633840"/>
            <a:ext cx="3224160" cy="275580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73280" y="6130800"/>
            <a:ext cx="87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чм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85800" y="1504800"/>
            <a:ext cx="2386080" cy="41338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3365640" y="3676680"/>
            <a:ext cx="3014640" cy="24210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6715080" y="3425760"/>
            <a:ext cx="2094120" cy="28386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660240" y="8678880"/>
            <a:ext cx="6213600" cy="14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4206960" y="219240"/>
            <a:ext cx="3949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ff"/>
                </a:solidFill>
                <a:latin typeface="Arial"/>
              </a:rPr>
              <a:t>Сложные соцветия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57280" y="692280"/>
            <a:ext cx="39996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0080"/>
                </a:solidFill>
                <a:latin typeface="Arial"/>
              </a:rPr>
              <a:t>Соцветие  метелка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78360" y="1353960"/>
            <a:ext cx="428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длинном, тонком общ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945600" y="1717560"/>
            <a:ext cx="321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оносном побег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50640" y="2082960"/>
            <a:ext cx="4717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олагаются простые ки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14960" y="3200400"/>
            <a:ext cx="2779920" cy="2732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14960" y="3200400"/>
            <a:ext cx="2779920" cy="273204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80320" y="567684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иногра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762120" y="1047600"/>
            <a:ext cx="2282760" cy="46371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6238800" y="3282840"/>
            <a:ext cx="2614680" cy="23608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168720" y="3200400"/>
            <a:ext cx="2738520" cy="269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68720" y="3200400"/>
            <a:ext cx="2738520" cy="269064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074840" y="5635800"/>
            <a:ext cx="85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р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3292560" y="3282840"/>
            <a:ext cx="2531880" cy="23608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736560" y="8408880"/>
            <a:ext cx="5743440" cy="18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51040" y="457200"/>
            <a:ext cx="829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спрятано под табличкам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1563840"/>
            <a:ext cx="8229600" cy="5006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1447920" cy="763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705720" y="1905120"/>
            <a:ext cx="1447560" cy="850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410080" y="5668920"/>
            <a:ext cx="1981440" cy="765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676520" cy="771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684800" y="-7920"/>
            <a:ext cx="6057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абораторная раб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30960" y="973080"/>
            <a:ext cx="82929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1. Рассмотрите соцветия на гербарном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45720" y="1459080"/>
            <a:ext cx="54504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материале или картинках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63720" y="2187720"/>
            <a:ext cx="7009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2. Определите, как расположены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63360" y="2673360"/>
            <a:ext cx="75931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цветки  у рассмотренных растений.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82080" y="3160800"/>
            <a:ext cx="70858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Пользуясь схемами в учебнике и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60120" y="3646440"/>
            <a:ext cx="76345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тетради, выясните, как называются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73800" y="4132440"/>
            <a:ext cx="28720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эти соцветия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38880" y="4757760"/>
            <a:ext cx="46306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3. Заполните таблицу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49320" y="5486400"/>
            <a:ext cx="6270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4. Сделайте вывод по итогам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50400" y="5972040"/>
            <a:ext cx="47890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лабораторной работы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750960" y="8204040"/>
            <a:ext cx="6476760" cy="18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914400" y="1239840"/>
            <a:ext cx="795348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496640" y="1515960"/>
            <a:ext cx="114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11040" y="1776240"/>
            <a:ext cx="104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449720" y="1546200"/>
            <a:ext cx="114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52960" y="1806480"/>
            <a:ext cx="105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вет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77520" y="1508040"/>
            <a:ext cx="150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стое ил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15840" y="1768320"/>
            <a:ext cx="97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ож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72280" y="202896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вет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21800" y="1546200"/>
            <a:ext cx="77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хем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51520" y="1806480"/>
            <a:ext cx="105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вет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17560" y="372960"/>
            <a:ext cx="6690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Заполните таблицу к лабораторной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74360" y="803160"/>
            <a:ext cx="12718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работе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890640" y="8612280"/>
            <a:ext cx="5940360" cy="1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14400" y="25909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43200" y="121932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724280" y="114300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086600" y="121932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295640" y="2954160"/>
            <a:ext cx="6857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даточный материал(картинк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2030400" cy="25304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2884320" y="423720"/>
            <a:ext cx="1860840" cy="25304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4871880" y="423720"/>
            <a:ext cx="1987560" cy="253044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6986520" y="423720"/>
            <a:ext cx="1860480" cy="253044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tretch/>
        </p:blipFill>
        <p:spPr>
          <a:xfrm>
            <a:off x="728640" y="3543480"/>
            <a:ext cx="1860480" cy="28256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tretch/>
        </p:blipFill>
        <p:spPr>
          <a:xfrm>
            <a:off x="2716200" y="3543480"/>
            <a:ext cx="1944720" cy="28256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7"/>
          <a:stretch/>
        </p:blipFill>
        <p:spPr>
          <a:xfrm>
            <a:off x="4830840" y="3502080"/>
            <a:ext cx="1987560" cy="28670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8"/>
          <a:stretch/>
        </p:blipFill>
        <p:spPr>
          <a:xfrm>
            <a:off x="6945480" y="3543480"/>
            <a:ext cx="1860480" cy="282564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9"/>
          <a:stretch/>
        </p:blipFill>
        <p:spPr>
          <a:xfrm>
            <a:off x="685800" y="8520120"/>
            <a:ext cx="6005520" cy="14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718640" y="297000"/>
            <a:ext cx="5252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Вопросы к выводу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158840" y="1428840"/>
            <a:ext cx="57751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1. Что называется соцветием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936480" y="1428840"/>
            <a:ext cx="241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93760" y="2394000"/>
            <a:ext cx="68817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2. Каково биологическое значение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106280" y="2857680"/>
            <a:ext cx="18385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соцветий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61360" y="2857680"/>
            <a:ext cx="241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907920" y="7969320"/>
            <a:ext cx="6245280" cy="14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5181480" y="3262320"/>
            <a:ext cx="320040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361960" y="609480"/>
            <a:ext cx="469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ыполните тес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8720" y="174312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36360" y="238608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63360" y="310032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8720" y="384192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63360" y="455616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74440" y="1743120"/>
            <a:ext cx="6971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енчик и тычинки - главные части цветк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78760" y="3038400"/>
            <a:ext cx="68893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 пыльниках тычинок созревает пыльц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81280" y="3770280"/>
            <a:ext cx="68479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 яблони и вишни цветок неправильны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15480" y="4573440"/>
            <a:ext cx="5857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 тюльпана околоцветник просто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67240" y="2413080"/>
            <a:ext cx="5148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Чашечка состоит из лепестк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95160" y="9593280"/>
            <a:ext cx="3213360" cy="1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64880" y="5562720"/>
            <a:ext cx="44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ьные ответ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4000" y="541008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,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19320" y="228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ем отличаются эти цветки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3400" y="1366920"/>
            <a:ext cx="3640320" cy="324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3400" y="1366920"/>
            <a:ext cx="3640320" cy="324000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3920" y="4267080"/>
            <a:ext cx="187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локси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82640" y="5073480"/>
            <a:ext cx="3379680" cy="1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100480" y="1366920"/>
            <a:ext cx="3640320" cy="324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00480" y="1366920"/>
            <a:ext cx="3640320" cy="324468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43760" y="4210200"/>
            <a:ext cx="1591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юльп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049720" y="5078520"/>
            <a:ext cx="3353040" cy="1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4952880"/>
            <a:ext cx="33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авильный отве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495288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 глоксинии околоцветник двойной, а у тюльпана – прост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5259240" y="1523880"/>
            <a:ext cx="3198960" cy="2686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990720" y="1523880"/>
            <a:ext cx="32763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219320" y="228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ем отличаются эти цветки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02360" y="1468440"/>
            <a:ext cx="3149640" cy="280512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1447920"/>
            <a:ext cx="3124440" cy="2819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2925720" cy="2411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295280" y="1447920"/>
            <a:ext cx="3149640" cy="280512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1447920"/>
            <a:ext cx="3048120" cy="2819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2895480" cy="2398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12560" y="388620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ш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09880"/>
            <a:ext cx="11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гуре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4952880"/>
            <a:ext cx="33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авильный отве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495288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  вишни цветки обоеполые, а у огурца - раздельнополы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239840" y="1467000"/>
            <a:ext cx="3137040" cy="279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39840" y="1467000"/>
            <a:ext cx="3137040" cy="279540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07960" y="1579680"/>
            <a:ext cx="2800440" cy="2346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41960" y="391464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93760" y="4664160"/>
            <a:ext cx="2892600" cy="1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85800" y="2286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ем отличаются эти растения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02360" y="1468440"/>
            <a:ext cx="3149640" cy="280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02360" y="1468440"/>
            <a:ext cx="3149640" cy="280512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92720" y="3981600"/>
            <a:ext cx="956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ык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157720" y="4676760"/>
            <a:ext cx="2924280" cy="1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85800" y="4952880"/>
            <a:ext cx="33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авильный отве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487692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ва относится к двудомным растениям, а тыква – к однодомны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5334120" y="1523880"/>
            <a:ext cx="2895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81440" y="0"/>
            <a:ext cx="28537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ff"/>
                </a:solidFill>
                <a:latin typeface="Arial"/>
              </a:rPr>
              <a:t>Соцветия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33000" y="-9360"/>
            <a:ext cx="4838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54280" y="119160"/>
            <a:ext cx="423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 группы цветков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60640" y="650880"/>
            <a:ext cx="8140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сположенных близко один к другом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10960" y="1130400"/>
            <a:ext cx="5232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определенном поряд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64240" y="2895480"/>
            <a:ext cx="69912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ff"/>
                </a:solidFill>
                <a:latin typeface="Arial"/>
              </a:rPr>
              <a:t>Биологическое значение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18520" y="3530520"/>
            <a:ext cx="29253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ff"/>
                </a:solidFill>
                <a:latin typeface="Arial"/>
              </a:rPr>
              <a:t>соцветий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73760" y="3649680"/>
            <a:ext cx="4950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ключается в том,  чт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61360" y="4179960"/>
            <a:ext cx="7110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лкие, часто невзрачные цветки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8760" y="4660920"/>
            <a:ext cx="6438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бранные вместе, становят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30760" y="5140440"/>
            <a:ext cx="6302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метными, дают наибольше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0480" y="5619600"/>
            <a:ext cx="6034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личество пыльцы и лучш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71440" y="6099120"/>
            <a:ext cx="7553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влекают насекомых опылител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07000" y="1251000"/>
            <a:ext cx="2276640" cy="1755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36640" y="8172360"/>
            <a:ext cx="6597720" cy="1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3880" y="252360"/>
            <a:ext cx="6858000" cy="6147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587760" y="68400"/>
            <a:ext cx="42512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53080" y="480960"/>
            <a:ext cx="3618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0080"/>
                </a:solidFill>
                <a:latin typeface="Arial"/>
              </a:rPr>
              <a:t>Соцветие кисть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18600" y="1143000"/>
            <a:ext cx="6220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тдельные цветки расположены один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24720" y="1522440"/>
            <a:ext cx="5034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за другим на хорошо заметных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14280" y="1900080"/>
            <a:ext cx="5944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ножках, отходящих от длинной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68560" y="2279520"/>
            <a:ext cx="1771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бщей ос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84280" y="8510760"/>
            <a:ext cx="6557760" cy="1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743200" y="2438280"/>
            <a:ext cx="3048120" cy="2259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943600" y="2417760"/>
            <a:ext cx="2895480" cy="2146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590920" y="4429080"/>
            <a:ext cx="3276360" cy="2428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5867280" y="4599000"/>
            <a:ext cx="3048120" cy="2259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609480" y="685800"/>
            <a:ext cx="2024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5T18:24:21Z</dcterms:created>
  <dc:creator>olga</dc:creator>
  <dc:description/>
  <dc:language>en-US</dc:language>
  <cp:lastModifiedBy>КарМаН</cp:lastModifiedBy>
  <dcterms:modified xsi:type="dcterms:W3CDTF">2011-03-07T11:49:16Z</dcterms:modified>
  <cp:revision>14</cp:revision>
  <dc:subject/>
  <dc:title>Презентация PowerPoint</dc:title>
</cp:coreProperties>
</file>