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6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A6A-24ED-459A-8869-08E5103B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DA9-6C20-4EB6-963C-91262ACE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92C-E3D7-4B73-9F2F-4C5275F1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2F3-370E-4B36-8FEB-CDA56EB5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F1DA-6F7D-4E93-9079-3A930944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855D-411F-4F7D-A6AB-C50873BD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6C64-6B6E-4D64-98D8-99777C75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46F3-4049-4B67-A644-484F87AA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77D0-BEE5-4271-9BFD-518128DB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742F-25F2-4CBC-B882-CDA61990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0DF0-8C05-41F5-BB42-1A593570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184-F5A8-4C2C-9563-03E371C9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FB1C-108A-425F-959D-31590657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A47C-DE3C-42D3-92C1-1BB8D5DF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0414-841E-4244-BF54-D46DF032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BFC6-952E-4CF7-9FAD-A1168DCC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D99C-4397-4EFE-904F-E847349F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589E-0B18-4ECB-B84B-DB034942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6D6-A54E-4B8A-8A5D-241CB2F7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9BD-D33A-4087-B352-12A5848E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4C4D-190E-4D25-A7A1-EE2A3FD7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761E-6F0A-4585-97B6-28D42FBC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979-9A55-483E-A781-D8E0E004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6353-281B-4465-B57B-0E30C077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0426-315A-452E-8557-01C72702F7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DA07-7832-420C-9C51-2A327B8F85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26560" y="2492280"/>
            <a:ext cx="7417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А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Сущность рынка, условия его успешного функцион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функции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юсы и минусы рыночного меха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виды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пособствует сохранению невоспроизводимых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стимулов для производства товаров и услуг коллективного поль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гарантирует полной занятости и стабильного уровня це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условия для развития науки, образования, учреждений куль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рождает социальную несправедливость и расслоение общества на богатых и бед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Arial"/>
              </a:rPr>
              <a:t>Недостатки рын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687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672920" y="40068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Основные виды рынка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84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32000" y="2060640"/>
            <a:ext cx="69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Что такое рынок в общепринятом понят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ому и зачем нужен рын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Укажите условия функционирования ры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Назовите функции рынка и расскажите об их реа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аковы преимущества рыночной экономи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В чем заключаются недостатки рын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Перечислите виды рынков и приведите соответствующие прим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8ae"/>
                </a:solidFill>
                <a:latin typeface="Arial"/>
              </a:rPr>
              <a:t>Вопросы для закреп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50920" y="2204640"/>
            <a:ext cx="1752480" cy="1676520"/>
            <a:chOff x="250920" y="2204640"/>
            <a:chExt cx="1752480" cy="1676520"/>
          </a:xfrm>
        </p:grpSpPr>
        <p:grpSp>
          <p:nvGrpSpPr>
            <p:cNvPr id="272" name=""/>
            <p:cNvGrpSpPr/>
            <p:nvPr/>
          </p:nvGrpSpPr>
          <p:grpSpPr>
            <a:xfrm>
              <a:off x="250920" y="2204640"/>
              <a:ext cx="1752480" cy="1676520"/>
              <a:chOff x="250920" y="2204640"/>
              <a:chExt cx="1752480" cy="16765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 txBox="1"/>
            <p:nvPr/>
          </p:nvSpPr>
          <p:spPr>
            <a:xfrm>
              <a:off x="708120" y="2205000"/>
              <a:ext cx="752400" cy="148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900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16000" y="2924280"/>
            <a:ext cx="7848720" cy="23050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15920"/>
            <a:ext cx="7128000" cy="144144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рыночная площадь, место торговли, т.е. место встречи продавцов и покупателей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292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форма функционирования экономики, при которой обеспечивается взаимодействие производства и потребления через обмен, куплю-продажу товаров и услуг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2706840" cy="1828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08000" y="4941720"/>
            <a:ext cx="251928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333360"/>
            <a:ext cx="8280360" cy="11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Comic Sans MS"/>
              </a:rPr>
              <a:t>Материальная основа рынк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645000"/>
            <a:ext cx="3311280" cy="2809800"/>
          </a:xfrm>
          <a:custGeom>
            <a:avLst/>
            <a:gdLst>
              <a:gd name="textAreaLeft" fmla="*/ 756000 w 3311280"/>
              <a:gd name="textAreaRight" fmla="*/ 2555280 w 3311280"/>
              <a:gd name="textAreaTop" fmla="*/ 641520 h 2809800"/>
              <a:gd name="textAreaBottom" fmla="*/ 2168280 h 280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това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1484280"/>
            <a:ext cx="3168720" cy="28796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57360 h 2879640"/>
              <a:gd name="textAreaBottom" fmla="*/ 222228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день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819520" y="3261600"/>
            <a:ext cx="3078720" cy="1080360"/>
            <a:chOff x="2819520" y="3261600"/>
            <a:chExt cx="3078720" cy="1080360"/>
          </a:xfrm>
        </p:grpSpPr>
        <p:sp>
          <p:nvSpPr>
            <p:cNvPr id="224" name="_s8208"/>
            <p:cNvSpPr/>
            <p:nvPr/>
          </p:nvSpPr>
          <p:spPr>
            <a:xfrm>
              <a:off x="3209400" y="326160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8209"/>
            <p:cNvSpPr/>
            <p:nvPr/>
          </p:nvSpPr>
          <p:spPr>
            <a:xfrm rot="10800000">
              <a:off x="3209040" y="343368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8210"/>
            <p:cNvSpPr/>
            <p:nvPr/>
          </p:nvSpPr>
          <p:spPr>
            <a:xfrm>
              <a:off x="487260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8211"/>
            <p:cNvSpPr/>
            <p:nvPr/>
          </p:nvSpPr>
          <p:spPr>
            <a:xfrm>
              <a:off x="281952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664000" cy="2154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19461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84720" y="5084640"/>
            <a:ext cx="23767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508464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19640" y="2637000"/>
            <a:ext cx="35989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249228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DownRibbonSharp"/>
          <p:cNvSpPr/>
          <p:nvPr/>
        </p:nvSpPr>
        <p:spPr>
          <a:xfrm>
            <a:off x="250920" y="260280"/>
            <a:ext cx="8785080" cy="1081080"/>
          </a:xfrm>
          <a:custGeom>
            <a:avLst/>
            <a:gdLst>
              <a:gd name="textAreaLeft" fmla="*/ 1209960 w 8785080"/>
              <a:gd name="textAreaRight" fmla="*/ 7575120 w 8785080"/>
              <a:gd name="textAreaTop" fmla="*/ 13320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Условия возникнов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рыночной экономики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9084200">
            <a:off x="6784920" y="1680840"/>
            <a:ext cx="239760" cy="1025640"/>
          </a:xfrm>
          <a:prstGeom prst="downArrow">
            <a:avLst>
              <a:gd name="adj1" fmla="val 50000"/>
              <a:gd name="adj2" fmla="val 10694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084200">
            <a:off x="4932000" y="1773000"/>
            <a:ext cx="289080" cy="3673440"/>
          </a:xfrm>
          <a:prstGeom prst="downArrow">
            <a:avLst>
              <a:gd name="adj1" fmla="val 50000"/>
              <a:gd name="adj2" fmla="val 31768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259000">
            <a:off x="3007800" y="1851120"/>
            <a:ext cx="289080" cy="3529080"/>
          </a:xfrm>
          <a:prstGeom prst="downArrow">
            <a:avLst>
              <a:gd name="adj1" fmla="val 50000"/>
              <a:gd name="adj2" fmla="val 30519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2636280"/>
            <a:ext cx="23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бщественное разделение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64000" y="26362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Частная собственность на средства производств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5299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. Конкуренц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228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. Свободное ценообразование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ae8"/>
                </a:solidFill>
                <a:latin typeface="Comic Sans MS"/>
              </a:rPr>
              <a:t>Основными субъектами рынка являются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2735280" cy="1008000"/>
          </a:xfrm>
          <a:prstGeom prst="rect">
            <a:avLst/>
          </a:prstGeom>
          <a:blipFill rotWithShape="0">
            <a:blip r:embed="rId1">
              <a:alphaModFix amt="50000"/>
            </a:blip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машнее хозяйств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8360" y="4869000"/>
            <a:ext cx="4248360" cy="129528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знес (предпринима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2060640"/>
            <a:ext cx="3240000" cy="12254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сударство (прави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 flipH="1">
            <a:off x="323280" y="620640"/>
            <a:ext cx="8569080" cy="623736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Таким образом, рынок – это такая организация хозяйственной жизни, при которой производители, опираясь на спрос покупателей, самостоятельно решают </a:t>
            </a: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основные экономические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835280" y="2276640"/>
            <a:ext cx="6984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DownRibbonSharp"/>
          <p:cNvSpPr/>
          <p:nvPr/>
        </p:nvSpPr>
        <p:spPr>
          <a:xfrm>
            <a:off x="611280" y="476280"/>
            <a:ext cx="8229600" cy="1139760"/>
          </a:xfrm>
          <a:custGeom>
            <a:avLst/>
            <a:gdLst>
              <a:gd name="textAreaLeft" fmla="*/ 1133280 w 8229600"/>
              <a:gd name="textAreaRight" fmla="*/ 7096320 w 8229600"/>
              <a:gd name="textAreaTop" fmla="*/ 140400 h 1139760"/>
              <a:gd name="textAreaBottom" fmla="*/ 114012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8ae"/>
                </a:solidFill>
                <a:latin typeface="Arial"/>
              </a:rPr>
              <a:t>Сформулируйте данные вопросы и раскройте их содерж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95280" y="1916280"/>
            <a:ext cx="1752480" cy="1676160"/>
            <a:chOff x="395280" y="1916280"/>
            <a:chExt cx="1752480" cy="1676160"/>
          </a:xfrm>
        </p:grpSpPr>
        <p:grpSp>
          <p:nvGrpSpPr>
            <p:cNvPr id="253" name=""/>
            <p:cNvGrpSpPr/>
            <p:nvPr/>
          </p:nvGrpSpPr>
          <p:grpSpPr>
            <a:xfrm>
              <a:off x="395280" y="1916280"/>
              <a:ext cx="1752480" cy="1676160"/>
              <a:chOff x="395280" y="1916280"/>
              <a:chExt cx="1752480" cy="1676160"/>
            </a:xfrm>
          </p:grpSpPr>
          <p:sp>
            <p:nvSpPr>
              <p:cNvPr id="254" name=""/>
              <p:cNvSpPr/>
              <p:nvPr/>
            </p:nvSpPr>
            <p:spPr>
              <a:xfrm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 txBox="1"/>
            <p:nvPr/>
          </p:nvSpPr>
          <p:spPr>
            <a:xfrm>
              <a:off x="852480" y="1916280"/>
              <a:ext cx="752400" cy="14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5486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ae8"/>
                </a:solidFill>
                <a:latin typeface="Comic Sans MS"/>
              </a:rPr>
              <a:t>Основные функции рынк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6408720" cy="3628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9640" y="173412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пираясь на материалы учебника Куликова Л.М. «Основы экономических знаний» (С.102-104), рассмотрите основные функции рынка и дайте им объясн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ффективное распределение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ибкость, высокая адаптивность (т.е. приспосабливаемость) к изменяющимся услови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вобода выбора и действий производителей и потреб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аксимальное использование достижений НТ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особность к удовлетворению разнообразных потребностей, повышению качества товаров и усл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Comic Sans MS"/>
              </a:rPr>
              <a:t>Преимущества рынк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352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0:52:40Z</dcterms:created>
  <dc:creator>USER</dc:creator>
  <dc:description/>
  <dc:language>en-US</dc:language>
  <cp:lastModifiedBy>USER</cp:lastModifiedBy>
  <dcterms:modified xsi:type="dcterms:W3CDTF">2009-01-29T07:46:30Z</dcterms:modified>
  <cp:revision>4</cp:revision>
  <dc:subject/>
  <dc:title>Слайд 1</dc:title>
</cp:coreProperties>
</file>