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0F4-225C-4B03-8BD1-509DDCFB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3D63-0F1F-4EFB-83CD-AF3BEE1C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9927C9-A155-41DC-8CC1-A6A6769A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0911C4-CF7D-4150-9B31-7FC04EE6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4E77FF-2D05-49DA-B448-5002CA1B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05591C-16CE-45E3-A07C-1245A34D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FF33A8-767D-40D8-B3FB-98D69FE6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1643D-3722-433D-97D0-999B5AA3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9DD11-268A-4C3B-AC42-4AB14373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5699F4-7CAE-4B7E-8CE5-E5EA869C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F16B98-5E8F-495B-8315-5E590590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0DED5B-7346-46ED-BF4F-20200E04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DD0-D88E-429C-BECC-EA98CA04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BE12A8-22DC-4D5E-8501-298FD26E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B430C4-5FCE-46F6-B36F-5F1B5E8A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FA1D12-C330-4EA1-9666-EB2FFF70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F9812C-4B9B-4FEA-B058-560CF216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62D908-D3AC-4239-A4B5-C91CA74E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C6F051-E809-473C-8C76-A544579E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73A2BE-FBA7-43EC-9223-DC66C843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A77B17-DA86-4770-B3F7-F92B3594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99B014-004D-49AF-A279-7973BE01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4FD99C-D383-46B6-A5BC-EB1ADEF4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AFC-ADE1-45F8-A4A4-5783E1BA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FABC86-C24A-4951-972A-DEE08FEE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DD78A-4399-43DC-8926-D3DC11FE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B958B-210F-4EFB-844F-09EDBEE7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508BB-EFBB-42E2-BFC1-CB05FAC5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A0E9D-5005-4299-B255-741B5586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42380-89F7-4E5A-8CE8-EBC28E73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CDCB2-289E-4F88-8E45-15C73678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896C9-F4C6-4517-BF04-1F4D41DD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5D925-4908-4599-83EC-DEC837F1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81B88-FEBA-461C-9D26-ECF5A285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8F81-9233-416E-8090-43FC8BFA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F3BDE-3D33-4ED3-B1AA-B3C9D218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667A0-3439-4B64-8464-8F2892D4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C17F4-BF6E-4C4B-A103-3081D9FF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4859F1-60A9-4947-ABE6-4F559D56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8714F1-C9B4-4F5B-8E52-C05A361D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EE8436-872D-4FDC-BDA9-A545693E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CA4B17-117E-4E72-B600-F114428C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2233FD-1930-44E8-82A8-496B6E84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8B187E-E2C6-426C-B45C-2D919FF1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909CF8-FD1B-4734-8465-1123554A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B22E-EC69-40AF-A4A3-A9572523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41B7A3-0E1B-41FF-8C9B-B31A2FDE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299331-50D4-44BC-83E5-9A92BC38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62CB62-E8BF-43CF-91AE-71CF3CEA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8B42E6-67D6-4AD9-8396-0E4E0CDC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0911F9-DDE9-4A65-9832-4F33C1EC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E53B-3ADC-4570-B8CC-2B2E8D13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AC8B-E838-4ECA-8DE7-83CDD5D3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82FE-0E3F-4FC5-A5D2-F0814419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56A6-EFA3-4330-9D37-8F117983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FA8F-26DF-412E-8AAA-7CE26211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8C59-AE82-4896-95B0-B9D12836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894D-CAE3-4AB9-9EC8-70DB3425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BA1F-127D-4C16-A698-14658FA6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85A7-2348-45F9-B3D7-2D5DA0CE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F074-95C7-47E7-B83A-FEFA739A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068F-9FBC-426A-868D-DA449A1F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45318-8767-4CEE-99B6-3DEFF05B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C9170-65D4-400F-A12F-4B6BCDBB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6FA32-61EA-4F69-947E-156A0A47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A7E28-9213-4740-9D1F-DCD02DC0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B4D41-3AA8-4911-A0B7-8416EDD6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7F6-8BF4-476B-A38D-D1F7E331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056A0-BEEE-424B-9E54-AE0BAF09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6A6E1-C047-4906-B2EB-86CFCA7F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6799F-9F67-462F-B7F8-496B04B6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6B380-82D3-4961-A819-817D586B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860D4-841E-435C-9784-D0B7DD11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99994-F809-4D4F-B608-C72CE9C9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B9723-6D73-4178-807E-758C536E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C3915-3A01-4E03-BF6D-348FF80D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33FDA-7627-46ED-B5B5-4C085D1D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85E2E-1061-49A7-A0F5-099402C9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3B68-A3C4-4A79-81B2-D550DDAF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08D08-E63B-4637-BFCE-39FBCFDA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CC79E-B7FF-413F-906D-79156F1D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CF223-03B6-4892-B38F-ABFCE19B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09E1D-AB76-43E6-9E9D-8ECE7A89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545C0-6943-4452-9E23-DA85B6BE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5A640-713B-4765-B6A2-A7A63DEC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74EC3-47A2-4A82-A887-D026057C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E498C-6B70-42EA-A569-646F5333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92832-B0DC-4DBE-817A-27442299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78E5A-FA60-4308-820D-6C18B41C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EB0E-69E1-42E9-BC23-8B04A750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6FF50-9A40-4455-907D-497ED65C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A3387-B30B-4DC2-A81C-20DBB213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CAAED-839E-4B4E-9655-237BCAB6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95E85-AAA9-476D-9A6C-E811D997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530AD-96DF-430A-8170-49116EE3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A553D-5E25-412E-8CF6-6B09E502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BECE8-C9F0-4C28-8F0B-5858F5A9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03945-9A9E-4244-843D-99CF869F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B0CFE-F93E-40C8-89EA-5EC57B8B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FD04B-FF10-44E6-AC12-47584F66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2D6B-5854-4436-9651-2563335B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5FF8C-4EE1-42C4-90F3-2A0F84D6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4422D-4FA8-4FBE-868E-38D3FBB1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D4A1F-A27D-4937-BA5A-D67BD62B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147ED-6A4D-4317-B3CA-271EEDF8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3D23E-C487-42A9-B64A-0F3136AF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879C6-3326-454C-A027-E84EE2E3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29037-A020-4427-81B6-30CC020C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4718C-46C1-4534-8A04-CFA37D9E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8B7D1-1DDC-4CF2-84A6-8EC5E9A8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93275-2547-4EDC-885A-3E37BFB5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76C-D6F3-4604-A004-560FDAA3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768D7-7905-4825-8D0B-C2E37B32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B3353-F0FF-4D10-8B15-D19366FD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A4164-4338-489F-93AD-7C309899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57EAD-6314-46D0-94CC-3A14DEC3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69693-9772-48BC-B6F7-1B7EB2D3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A7FE1-399B-46E3-9B86-A914FA28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9C320-46B0-4251-A753-287301C0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0BFB5-FA78-44DF-A3F9-12B6CD75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CDF6A-DE14-4EF6-A376-927DA848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2FB4D-6589-4A11-B733-3CDB267B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7729-CF69-4AC6-B667-799D659E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C73F7-1427-49FD-AB53-0B09F7A9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B1DCC-95D6-4965-8DEA-6C7DE66E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3B66D-0F8A-4A74-AD5B-66BAD2AF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8AC3D-7BAA-4CA9-8793-4ECF1559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AADE2-306F-4CF1-BE40-A2547D6F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E186B-F5BC-48EC-807B-91114EDE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705CB-DC6E-427F-9B8B-9861141C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34BBB-A63A-43A9-9652-1F6EF8A3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36534-28BB-4EAF-95C2-41101E25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2C107-C93C-4557-9FCE-34342CEE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6542-7F67-40C2-ACB8-106C6347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19F45-9686-45A8-9E91-A405D60C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CFF05-624B-44E5-B098-9872D2ED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CF9F1-A18C-4212-9AB9-99ACAE1E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58A6B-43A6-4A72-8956-3978A2B2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87AB6-0154-401D-A7C3-EA6D756A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C7E7A-79CE-4F48-892A-0DB6AA76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A1351-EBBC-45D3-BA8F-25DA6122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C1AFA8-9CA3-4FBB-AAC5-FEBF27F8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1D0F6A-96F0-4EB7-8130-E4DDFFBA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902683-DE2F-4377-B843-E656AE9E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5152-60CD-4F6B-99A9-79464D864B1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C0A2-9E32-4689-B1A1-43222FA90B9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1EDD-9A52-4CEA-AB8B-3D36DBC6162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6760-7B4B-4D2B-931C-E6481F4000F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BDAA-0BEC-42B2-BC3F-1161D1C0109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9DC5-DEF9-43CC-944D-23C1AF39FC9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8F80-A4C0-4019-BE13-B32CBCF97FA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2301-709B-45CE-B586-82BA4781A37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9A9B-9DD9-4111-B8AB-5CDB8EC8971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AB48-FA43-4DB5-B5F0-B6702023128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594B-D5F2-45B9-ABB9-3E52AF518F9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7133-4302-41B0-AD4B-FE2023CB9D6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64008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Давление газов</a:t>
            </a:r>
            <a:br>
              <a:rPr sz="4200"/>
            </a:b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 Закон  Паскаля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68360" y="2349000"/>
            <a:ext cx="5400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сосуде под поршнем находитс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аз. Поршень переместили из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ложения А в положение 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динаково ли увеличилось пр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том  давление газа на стен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суда в точках 1, 2, 3, 4 и 5 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5" name="Picture 5" descr="ipoiibiii"/>
          <p:cNvPicPr/>
          <p:nvPr/>
        </p:nvPicPr>
        <p:blipFill>
          <a:blip r:embed="rId1"/>
          <a:stretch/>
        </p:blipFill>
        <p:spPr>
          <a:xfrm>
            <a:off x="6012000" y="2276640"/>
            <a:ext cx="2730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182600" y="2017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сли из мелкокалиберной винтовки выстрелить в      вареное яйцо, в нем образуется отверстие. Есл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же выстрелить в сырое, оно разлетится. Ка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ъяснить это явление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1403280" y="2924280"/>
            <a:ext cx="700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1311120" y="4214880"/>
            <a:ext cx="707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6"/>
          <p:cNvSpPr/>
          <p:nvPr/>
        </p:nvSpPr>
        <p:spPr>
          <a:xfrm>
            <a:off x="1042920" y="414972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694f07"/>
              </a:buClr>
              <a:buFont typeface="Wingdings" charset="2"/>
              <a:buChar char="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взрыв снаряда под водой губителен        для живущих в воде организм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1116000" y="5516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694f07"/>
              </a:buClr>
              <a:buFont typeface="Wingdings" charset="2"/>
              <a:buChar char="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мыльный пузырь имеет форму ша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Итог урока: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839600" y="2133360"/>
            <a:ext cx="73040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ление газа на стенки сосуда и на помещенное в газ тело, вызывается ударами молекул газ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ление газа зависит от температуры и от объема занимаемого данной массой газа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идкости и газы передают давление по всем направлениям одинаков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Домашнее задание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186920" y="3212640"/>
            <a:ext cx="6697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35,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пражнение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4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 - 4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b9899"/>
                </a:solidFill>
                <a:latin typeface="Georgia"/>
              </a:rPr>
              <a:t>Сегодня на уроке …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619280" y="2204640"/>
            <a:ext cx="726912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1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  Почему газ давит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2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  От чего зависит давление газа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3</a:t>
            </a:r>
            <a:r>
              <a:rPr b="1" lang="ru-RU" sz="1600" spc="-1" strike="noStrike">
                <a:solidFill>
                  <a:srgbClr val="cc3300"/>
                </a:solidFill>
                <a:latin typeface="Georgia"/>
              </a:rPr>
              <a:t>   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Как газ передает давление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b9899"/>
                </a:solidFill>
                <a:latin typeface="Georgia"/>
              </a:rPr>
              <a:t>Повторение</a:t>
            </a:r>
            <a:br>
              <a:rPr sz="5400"/>
            </a:b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4788000" y="5445000"/>
            <a:ext cx="1511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46b86"/>
                </a:solidFill>
                <a:latin typeface="Arial"/>
              </a:rPr>
              <a:t>П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468360" y="2421000"/>
            <a:ext cx="53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ла расчета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212400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468360" y="5661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ицы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11" descr="paskal"/>
          <p:cNvPicPr/>
          <p:nvPr/>
        </p:nvPicPr>
        <p:blipFill>
          <a:blip r:embed="rId1"/>
          <a:stretch/>
        </p:blipFill>
        <p:spPr>
          <a:xfrm>
            <a:off x="5940360" y="1268280"/>
            <a:ext cx="2525760" cy="264024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12"/>
          <p:cNvSpPr/>
          <p:nvPr/>
        </p:nvSpPr>
        <p:spPr>
          <a:xfrm>
            <a:off x="5943240" y="4076640"/>
            <a:ext cx="26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каль Бл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23 -16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15"/>
              <p:cNvSpPr txBox="1"/>
              <p:nvPr/>
            </p:nvSpPr>
            <p:spPr>
              <a:xfrm>
                <a:off x="2195640" y="3284640"/>
                <a:ext cx="2376360" cy="21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вторе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з трех одинаковых брусков производит на стол большее давлени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0" name="Picture 4" descr="Изображение1 001"/>
          <p:cNvPicPr/>
          <p:nvPr/>
        </p:nvPicPr>
        <p:blipFill>
          <a:blip r:embed="rId1"/>
          <a:stretch/>
        </p:blipFill>
        <p:spPr>
          <a:xfrm>
            <a:off x="1332000" y="3500280"/>
            <a:ext cx="6840360" cy="26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Новый материал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Почему шарик увеличивает свой объем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4" descr="05d-i1"/>
          <p:cNvPicPr/>
          <p:nvPr/>
        </p:nvPicPr>
        <p:blipFill>
          <a:blip r:embed="rId1"/>
          <a:stretch/>
        </p:blipFill>
        <p:spPr>
          <a:xfrm>
            <a:off x="900000" y="2852640"/>
            <a:ext cx="3600720" cy="188460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6"/>
          <p:cNvSpPr/>
          <p:nvPr/>
        </p:nvSpPr>
        <p:spPr>
          <a:xfrm>
            <a:off x="1258920" y="206064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611280" y="4653000"/>
            <a:ext cx="83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6b86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ление газа на стенки ссуда и на помещенное в 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вызывается ударами молекул г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11" descr="05d-i2"/>
          <p:cNvPicPr/>
          <p:nvPr/>
        </p:nvPicPr>
        <p:blipFill>
          <a:blip r:embed="rId2"/>
          <a:stretch/>
        </p:blipFill>
        <p:spPr>
          <a:xfrm>
            <a:off x="5508720" y="2781360"/>
            <a:ext cx="19144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cb400"/>
                </a:solidFill>
                <a:latin typeface="Georgia"/>
              </a:rPr>
              <a:t>От чего зависит давление газа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Georgia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 температуры газ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 объема, занимаемого газ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9" name="Picture 4" descr="05d-i3"/>
          <p:cNvPicPr/>
          <p:nvPr/>
        </p:nvPicPr>
        <p:blipFill>
          <a:blip r:embed="rId1"/>
          <a:stretch/>
        </p:blipFill>
        <p:spPr>
          <a:xfrm>
            <a:off x="971640" y="2349360"/>
            <a:ext cx="3671640" cy="18241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8" descr="gnjkk"/>
          <p:cNvPicPr/>
          <p:nvPr/>
        </p:nvPicPr>
        <p:blipFill>
          <a:blip r:embed="rId2"/>
          <a:stretch/>
        </p:blipFill>
        <p:spPr>
          <a:xfrm>
            <a:off x="6300720" y="2133720"/>
            <a:ext cx="134640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Как газы и жидкости передают давление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Picture 5" descr="iiigv"/>
          <p:cNvPicPr/>
          <p:nvPr/>
        </p:nvPicPr>
        <p:blipFill>
          <a:blip r:embed="rId1"/>
          <a:stretch/>
        </p:blipFill>
        <p:spPr>
          <a:xfrm>
            <a:off x="468360" y="1844640"/>
            <a:ext cx="2232000" cy="43210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05c-i1"/>
          <p:cNvPicPr/>
          <p:nvPr/>
        </p:nvPicPr>
        <p:blipFill>
          <a:blip r:embed="rId2"/>
          <a:stretch/>
        </p:blipFill>
        <p:spPr>
          <a:xfrm>
            <a:off x="2484360" y="2565360"/>
            <a:ext cx="6121440" cy="18972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4"/>
          <p:cNvSpPr/>
          <p:nvPr/>
        </p:nvSpPr>
        <p:spPr>
          <a:xfrm>
            <a:off x="2627280" y="5084640"/>
            <a:ext cx="59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Закон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дкости и газы передают давление по всем направлениям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343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39280" y="206064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Цифрами 1, 2 и 3 обозначены круглые отверстия, затянутые одинаковыми резиновыми пленками. Когда поршень переместили  из положения А в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К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ложение В, пленки выгнулись наружу. На каком из рисунк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4" descr="Изображение1 004"/>
          <p:cNvPicPr/>
          <p:nvPr/>
        </p:nvPicPr>
        <p:blipFill>
          <a:blip r:embed="rId1"/>
          <a:stretch/>
        </p:blipFill>
        <p:spPr>
          <a:xfrm>
            <a:off x="287280" y="3573360"/>
            <a:ext cx="8856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Picture 5" descr="ghhbfggo"/>
          <p:cNvPicPr/>
          <p:nvPr/>
        </p:nvPicPr>
        <p:blipFill>
          <a:blip r:embed="rId1"/>
          <a:stretch/>
        </p:blipFill>
        <p:spPr>
          <a:xfrm>
            <a:off x="179280" y="2133720"/>
            <a:ext cx="2949840" cy="23526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6"/>
          <p:cNvSpPr/>
          <p:nvPr/>
        </p:nvSpPr>
        <p:spPr>
          <a:xfrm>
            <a:off x="3564000" y="2276640"/>
            <a:ext cx="5172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дном сосуде находится металлический кубик, в другом – вода. Как будут передавать эти тела производимое на них давл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7" descr="ghjj"/>
          <p:cNvPicPr/>
          <p:nvPr/>
        </p:nvPicPr>
        <p:blipFill>
          <a:blip r:embed="rId2"/>
          <a:stretch/>
        </p:blipFill>
        <p:spPr>
          <a:xfrm>
            <a:off x="468360" y="4365720"/>
            <a:ext cx="2232000" cy="192384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12"/>
          <p:cNvSpPr/>
          <p:nvPr/>
        </p:nvSpPr>
        <p:spPr>
          <a:xfrm>
            <a:off x="3419640" y="4437000"/>
            <a:ext cx="540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уд плотно закрыт пробкой, В котор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авлены две трубки. Если подуть в трубку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вод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трубк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  выливается из сосуда .Будет ли вытекать вода из трубк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,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дуть в трубк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б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8:04:20Z</dcterms:created>
  <dc:creator/>
  <dc:description/>
  <dc:language>en-US</dc:language>
  <cp:lastModifiedBy>Пк</cp:lastModifiedBy>
  <dcterms:modified xsi:type="dcterms:W3CDTF">2012-11-05T03:41:45Z</dcterms:modified>
  <cp:revision>18</cp:revision>
  <dc:subject/>
  <dc:title>Давление газов  Закон  Паска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