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A993-4DBF-4E35-97C3-D40F31FC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8C5-8F7F-4F48-9659-2B38791B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C3F-30BC-4378-B735-080FD356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52B-0E27-413E-92D0-E318B4D9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E973-A8E8-4CC8-8355-9DDB13B4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B33-F881-41D1-A834-10474F5E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9245-F20C-4A09-8A10-D88C9C95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11D2-DC30-4E0E-84AC-E4A2766A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681-7B26-4809-A615-DDB2222B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7B8F-B2B3-45E5-9B47-AF6EDA3C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0F31-E63F-41CA-9D78-FD88DFC7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27B7-5615-4DB9-B030-7200B55A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C9279-75C3-4146-8CE8-EEFB824E6C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3240000"/>
            <a:ext cx="1079640" cy="179640"/>
          </a:xfrm>
          <a:prstGeom prst="roundRect">
            <a:avLst>
              <a:gd name="adj" fmla="val 889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00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01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04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grpSp>
          <p:nvGrpSpPr>
            <p:cNvPr id="111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12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040360" y="2879640"/>
              <a:ext cx="720720" cy="360360"/>
              <a:chOff x="5040360" y="2879640"/>
              <a:chExt cx="720720" cy="360360"/>
            </a:xfrm>
          </p:grpSpPr>
          <p:sp>
            <p:nvSpPr>
              <p:cNvPr id="115" name=""/>
              <p:cNvSpPr/>
              <p:nvPr/>
            </p:nvSpPr>
            <p:spPr>
              <a:xfrm>
                <a:off x="5400720" y="28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040360" y="287964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7559640" y="398520"/>
            <a:ext cx="197964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Цили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Клапан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Порш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Клапан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Атмосфер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Ное давл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Жид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935680" y="720720"/>
            <a:ext cx="1449360" cy="36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754240" y="1979640"/>
            <a:ext cx="1809720" cy="107964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394240" y="1440000"/>
            <a:ext cx="2170080" cy="143964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394240" y="3060720"/>
            <a:ext cx="2170080" cy="36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95680" y="4140360"/>
            <a:ext cx="1089000" cy="72072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80360" y="4140360"/>
            <a:ext cx="1440" cy="72072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5759280"/>
            <a:ext cx="1800" cy="90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46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87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88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91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94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97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 rot="10800000">
            <a:off x="5223960" y="5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480000" y="539640"/>
            <a:ext cx="3060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Начало движения поршня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0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527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528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531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3" name=""/>
          <p:cNvGrpSpPr/>
          <p:nvPr/>
        </p:nvGrpSpPr>
        <p:grpSpPr>
          <a:xfrm>
            <a:off x="4859280" y="1800360"/>
            <a:ext cx="1079640" cy="539640"/>
            <a:chOff x="4859280" y="1800360"/>
            <a:chExt cx="1079640" cy="539640"/>
          </a:xfrm>
        </p:grpSpPr>
        <p:grpSp>
          <p:nvGrpSpPr>
            <p:cNvPr id="534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535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538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"/>
          <p:cNvSpPr/>
          <p:nvPr/>
        </p:nvSpPr>
        <p:spPr>
          <a:xfrm rot="10800000">
            <a:off x="5223960" y="7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029200" y="2334960"/>
            <a:ext cx="734760" cy="549000"/>
            <a:chOff x="5029200" y="2334960"/>
            <a:chExt cx="734760" cy="549000"/>
          </a:xfrm>
        </p:grpSpPr>
        <p:sp>
          <p:nvSpPr>
            <p:cNvPr id="542" name=""/>
            <p:cNvSpPr/>
            <p:nvPr/>
          </p:nvSpPr>
          <p:spPr>
            <a:xfrm flipV="1">
              <a:off x="5029200" y="233496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>
              <a:off x="5511600" y="233496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54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5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5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5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"/>
          <p:cNvGrpSpPr/>
          <p:nvPr/>
        </p:nvGrpSpPr>
        <p:grpSpPr>
          <a:xfrm>
            <a:off x="4865760" y="2043000"/>
            <a:ext cx="1079280" cy="541440"/>
            <a:chOff x="4865760" y="2043000"/>
            <a:chExt cx="1079280" cy="541440"/>
          </a:xfrm>
        </p:grpSpPr>
        <p:grpSp>
          <p:nvGrpSpPr>
            <p:cNvPr id="581" name=""/>
            <p:cNvGrpSpPr/>
            <p:nvPr/>
          </p:nvGrpSpPr>
          <p:grpSpPr>
            <a:xfrm>
              <a:off x="4865760" y="2224080"/>
              <a:ext cx="1079280" cy="360360"/>
              <a:chOff x="4865760" y="2224080"/>
              <a:chExt cx="1079280" cy="360360"/>
            </a:xfrm>
          </p:grpSpPr>
          <p:sp>
            <p:nvSpPr>
              <p:cNvPr id="582" name=""/>
              <p:cNvSpPr/>
              <p:nvPr/>
            </p:nvSpPr>
            <p:spPr>
              <a:xfrm>
                <a:off x="4865760" y="222408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224320" y="22240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5045040" y="2043000"/>
              <a:ext cx="720720" cy="360360"/>
              <a:chOff x="5045040" y="2043000"/>
              <a:chExt cx="720720" cy="360360"/>
            </a:xfrm>
          </p:grpSpPr>
          <p:sp>
            <p:nvSpPr>
              <p:cNvPr id="585" name=""/>
              <p:cNvSpPr/>
              <p:nvPr/>
            </p:nvSpPr>
            <p:spPr>
              <a:xfrm>
                <a:off x="5405400" y="204300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045040" y="204300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"/>
          <p:cNvSpPr/>
          <p:nvPr/>
        </p:nvSpPr>
        <p:spPr>
          <a:xfrm rot="10800000">
            <a:off x="5223960" y="9032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5029200" y="2695320"/>
            <a:ext cx="734760" cy="549000"/>
            <a:chOff x="5029200" y="2695320"/>
            <a:chExt cx="734760" cy="549000"/>
          </a:xfrm>
        </p:grpSpPr>
        <p:sp>
          <p:nvSpPr>
            <p:cNvPr id="589" name=""/>
            <p:cNvSpPr/>
            <p:nvPr/>
          </p:nvSpPr>
          <p:spPr>
            <a:xfrm flipV="1">
              <a:off x="502920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5511600" y="269532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592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99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621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622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625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4859280" y="2160720"/>
            <a:ext cx="1079640" cy="539640"/>
            <a:chOff x="4859280" y="2160720"/>
            <a:chExt cx="1079640" cy="539640"/>
          </a:xfrm>
        </p:grpSpPr>
        <p:grpSp>
          <p:nvGrpSpPr>
            <p:cNvPr id="628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629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632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"/>
          <p:cNvSpPr/>
          <p:nvPr/>
        </p:nvSpPr>
        <p:spPr>
          <a:xfrm rot="10800000">
            <a:off x="5223960" y="10843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40360" y="2695320"/>
            <a:ext cx="735120" cy="549000"/>
            <a:chOff x="5040360" y="2695320"/>
            <a:chExt cx="735120" cy="549000"/>
          </a:xfrm>
        </p:grpSpPr>
        <p:sp>
          <p:nvSpPr>
            <p:cNvPr id="636" name=""/>
            <p:cNvSpPr/>
            <p:nvPr/>
          </p:nvSpPr>
          <p:spPr>
            <a:xfrm flipV="1">
              <a:off x="504036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5522760" y="2695320"/>
              <a:ext cx="25272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63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64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668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669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672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"/>
          <p:cNvGrpSpPr/>
          <p:nvPr/>
        </p:nvGrpSpPr>
        <p:grpSpPr>
          <a:xfrm>
            <a:off x="4859280" y="2340000"/>
            <a:ext cx="1079640" cy="539640"/>
            <a:chOff x="4859280" y="2340000"/>
            <a:chExt cx="1079640" cy="539640"/>
          </a:xfrm>
        </p:grpSpPr>
        <p:grpSp>
          <p:nvGrpSpPr>
            <p:cNvPr id="675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676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679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1" name=""/>
          <p:cNvSpPr/>
          <p:nvPr/>
        </p:nvSpPr>
        <p:spPr>
          <a:xfrm rot="10800000">
            <a:off x="5223960" y="12636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5029200" y="2874600"/>
            <a:ext cx="734760" cy="369720"/>
            <a:chOff x="5029200" y="2874600"/>
            <a:chExt cx="734760" cy="369720"/>
          </a:xfrm>
        </p:grpSpPr>
        <p:sp>
          <p:nvSpPr>
            <p:cNvPr id="683" name=""/>
            <p:cNvSpPr/>
            <p:nvPr/>
          </p:nvSpPr>
          <p:spPr>
            <a:xfrm flipV="1">
              <a:off x="5029200" y="2874600"/>
              <a:ext cx="24300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5511600" y="2874600"/>
              <a:ext cx="25236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686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69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9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715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716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719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"/>
          <p:cNvGrpSpPr/>
          <p:nvPr/>
        </p:nvGrpSpPr>
        <p:grpSpPr>
          <a:xfrm>
            <a:off x="4838760" y="2546280"/>
            <a:ext cx="1079280" cy="540000"/>
            <a:chOff x="4838760" y="2546280"/>
            <a:chExt cx="1079280" cy="540000"/>
          </a:xfrm>
        </p:grpSpPr>
        <p:grpSp>
          <p:nvGrpSpPr>
            <p:cNvPr id="722" name=""/>
            <p:cNvGrpSpPr/>
            <p:nvPr/>
          </p:nvGrpSpPr>
          <p:grpSpPr>
            <a:xfrm>
              <a:off x="4838760" y="2725560"/>
              <a:ext cx="1079280" cy="360720"/>
              <a:chOff x="4838760" y="2725560"/>
              <a:chExt cx="1079280" cy="360720"/>
            </a:xfrm>
          </p:grpSpPr>
          <p:sp>
            <p:nvSpPr>
              <p:cNvPr id="723" name=""/>
              <p:cNvSpPr/>
              <p:nvPr/>
            </p:nvSpPr>
            <p:spPr>
              <a:xfrm>
                <a:off x="4838760" y="2725560"/>
                <a:ext cx="1079280" cy="36072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199120" y="2725560"/>
                <a:ext cx="360360" cy="360720"/>
              </a:xfrm>
              <a:custGeom>
                <a:avLst/>
                <a:gdLst>
                  <a:gd name="textAreaLeft" fmla="*/ 360 w 360360"/>
                  <a:gd name="textAreaRight" fmla="*/ 360000 w 360360"/>
                  <a:gd name="textAreaTop" fmla="*/ 360 h 360720"/>
                  <a:gd name="textAreaBottom" fmla="*/ 360360 h 360720"/>
                </a:gdLst>
                <a:ahLst/>
                <a:rect l="textAreaLeft" t="textAreaTop" r="textAreaRight" b="textAreaBottom"/>
                <a:pathLst>
                  <a:path w="21600" h="21622">
                    <a:moveTo>
                      <a:pt x="95" y="0"/>
                    </a:moveTo>
                    <a:arcTo wR="95" hR="95" stAng="16200000" swAng="-5400000"/>
                    <a:lnTo>
                      <a:pt x="0" y="21527"/>
                    </a:lnTo>
                    <a:arcTo wR="95" hR="95" stAng="10800000" swAng="-5400000"/>
                    <a:lnTo>
                      <a:pt x="21505" y="21622"/>
                    </a:lnTo>
                    <a:arcTo wR="95" hR="95" stAng="5400000" swAng="-5400000"/>
                    <a:lnTo>
                      <a:pt x="21600" y="95"/>
                    </a:lnTo>
                    <a:arcTo wR="95" hR="95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5018040" y="2546280"/>
              <a:ext cx="720720" cy="360360"/>
              <a:chOff x="5018040" y="2546280"/>
              <a:chExt cx="720720" cy="360360"/>
            </a:xfrm>
          </p:grpSpPr>
          <p:sp>
            <p:nvSpPr>
              <p:cNvPr id="726" name=""/>
              <p:cNvSpPr/>
              <p:nvPr/>
            </p:nvSpPr>
            <p:spPr>
              <a:xfrm>
                <a:off x="5378400" y="254628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018040" y="2546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"/>
          <p:cNvSpPr/>
          <p:nvPr/>
        </p:nvSpPr>
        <p:spPr>
          <a:xfrm rot="10800000">
            <a:off x="5223960" y="14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5040360" y="3056040"/>
            <a:ext cx="723600" cy="188640"/>
            <a:chOff x="5040360" y="3056040"/>
            <a:chExt cx="723600" cy="188640"/>
          </a:xfrm>
        </p:grpSpPr>
        <p:sp>
          <p:nvSpPr>
            <p:cNvPr id="730" name=""/>
            <p:cNvSpPr/>
            <p:nvPr/>
          </p:nvSpPr>
          <p:spPr>
            <a:xfrm flipV="1">
              <a:off x="5040360" y="3056040"/>
              <a:ext cx="23328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5511600" y="3056040"/>
              <a:ext cx="25236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73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740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741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762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763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766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4859280" y="2700360"/>
            <a:ext cx="1079640" cy="539640"/>
            <a:chOff x="4859280" y="2700360"/>
            <a:chExt cx="1079640" cy="539640"/>
          </a:xfrm>
        </p:grpSpPr>
        <p:grpSp>
          <p:nvGrpSpPr>
            <p:cNvPr id="769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770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773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"/>
          <p:cNvSpPr/>
          <p:nvPr/>
        </p:nvSpPr>
        <p:spPr>
          <a:xfrm rot="10800000">
            <a:off x="5223960" y="16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77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784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785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2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806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807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2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sp>
          <p:nvSpPr>
            <p:cNvPr id="813" name=""/>
            <p:cNvSpPr/>
            <p:nvPr/>
          </p:nvSpPr>
          <p:spPr>
            <a:xfrm>
              <a:off x="4859280" y="287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19640" y="287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5040360" y="2879640"/>
            <a:ext cx="720720" cy="360360"/>
            <a:chOff x="5040360" y="2879640"/>
            <a:chExt cx="720720" cy="360360"/>
          </a:xfrm>
        </p:grpSpPr>
        <p:sp>
          <p:nvSpPr>
            <p:cNvPr id="816" name=""/>
            <p:cNvSpPr/>
            <p:nvPr/>
          </p:nvSpPr>
          <p:spPr>
            <a:xfrm>
              <a:off x="5400720" y="287964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040360" y="287964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6480000" y="539640"/>
            <a:ext cx="306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О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2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4859280" y="2700360"/>
            <a:ext cx="1079640" cy="360360"/>
            <a:chOff x="4859280" y="2700360"/>
            <a:chExt cx="1079640" cy="360360"/>
          </a:xfrm>
        </p:grpSpPr>
        <p:grpSp>
          <p:nvGrpSpPr>
            <p:cNvPr id="845" name=""/>
            <p:cNvGrpSpPr/>
            <p:nvPr/>
          </p:nvGrpSpPr>
          <p:grpSpPr>
            <a:xfrm>
              <a:off x="4859280" y="2700360"/>
              <a:ext cx="1079640" cy="360360"/>
              <a:chOff x="4859280" y="2700360"/>
              <a:chExt cx="1079640" cy="360360"/>
            </a:xfrm>
          </p:grpSpPr>
          <p:sp>
            <p:nvSpPr>
              <p:cNvPr id="846" name=""/>
              <p:cNvSpPr/>
              <p:nvPr/>
            </p:nvSpPr>
            <p:spPr>
              <a:xfrm>
                <a:off x="4859280" y="27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219640" y="27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849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852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855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219640" y="144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5400720" y="6114600"/>
            <a:ext cx="1440" cy="730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480000" y="539640"/>
            <a:ext cx="3060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Движение поршня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480000" y="2160720"/>
            <a:ext cx="324036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Жидкость поднимается за поршнем под действием атмосферного д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5578200" y="3959280"/>
            <a:ext cx="723960" cy="197964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868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77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78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5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4859280" y="2519280"/>
            <a:ext cx="1079640" cy="360360"/>
            <a:chOff x="4859280" y="2519280"/>
            <a:chExt cx="1079640" cy="360360"/>
          </a:xfrm>
        </p:grpSpPr>
        <p:grpSp>
          <p:nvGrpSpPr>
            <p:cNvPr id="899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900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5040360" y="2519280"/>
              <a:ext cx="720720" cy="360360"/>
              <a:chOff x="5040360" y="2519280"/>
              <a:chExt cx="720720" cy="360360"/>
            </a:xfrm>
          </p:grpSpPr>
          <p:sp>
            <p:nvSpPr>
              <p:cNvPr id="903" name=""/>
              <p:cNvSpPr/>
              <p:nvPr/>
            </p:nvSpPr>
            <p:spPr>
              <a:xfrm>
                <a:off x="5400720" y="251928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0360" y="2519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906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909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5219640" y="12603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5400720" y="5935320"/>
            <a:ext cx="1440" cy="9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916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3240000"/>
            <a:ext cx="1079640" cy="179640"/>
          </a:xfrm>
          <a:prstGeom prst="roundRect">
            <a:avLst>
              <a:gd name="adj" fmla="val 889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4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4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4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grpSp>
          <p:nvGrpSpPr>
            <p:cNvPr id="155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56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040360" y="2879640"/>
              <a:ext cx="720720" cy="360360"/>
              <a:chOff x="5040360" y="2879640"/>
              <a:chExt cx="720720" cy="360360"/>
            </a:xfrm>
          </p:grpSpPr>
          <p:sp>
            <p:nvSpPr>
              <p:cNvPr id="159" name=""/>
              <p:cNvSpPr/>
              <p:nvPr/>
            </p:nvSpPr>
            <p:spPr>
              <a:xfrm>
                <a:off x="5400720" y="28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40360" y="287964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92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4859280" y="2340000"/>
            <a:ext cx="1079640" cy="360360"/>
            <a:chOff x="4859280" y="2340000"/>
            <a:chExt cx="1079640" cy="360360"/>
          </a:xfrm>
        </p:grpSpPr>
        <p:grpSp>
          <p:nvGrpSpPr>
            <p:cNvPr id="947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948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951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954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957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5224320" y="107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5400720" y="5756040"/>
            <a:ext cx="1440" cy="108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964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97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859280" y="2160720"/>
            <a:ext cx="1079640" cy="360360"/>
            <a:chOff x="4859280" y="2160720"/>
            <a:chExt cx="1079640" cy="360360"/>
          </a:xfrm>
        </p:grpSpPr>
        <p:grpSp>
          <p:nvGrpSpPr>
            <p:cNvPr id="995" name=""/>
            <p:cNvGrpSpPr/>
            <p:nvPr/>
          </p:nvGrpSpPr>
          <p:grpSpPr>
            <a:xfrm>
              <a:off x="4859280" y="2160720"/>
              <a:ext cx="1079640" cy="360360"/>
              <a:chOff x="4859280" y="2160720"/>
              <a:chExt cx="1079640" cy="360360"/>
            </a:xfrm>
          </p:grpSpPr>
          <p:sp>
            <p:nvSpPr>
              <p:cNvPr id="996" name=""/>
              <p:cNvSpPr/>
              <p:nvPr/>
            </p:nvSpPr>
            <p:spPr>
              <a:xfrm>
                <a:off x="4859280" y="216072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219640" y="21607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999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02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005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5219640" y="90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400720" y="5575320"/>
            <a:ext cx="1440" cy="12700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012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021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022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9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4859280" y="1979640"/>
            <a:ext cx="1079640" cy="360360"/>
            <a:chOff x="4859280" y="1979640"/>
            <a:chExt cx="1079640" cy="360360"/>
          </a:xfrm>
        </p:grpSpPr>
        <p:grpSp>
          <p:nvGrpSpPr>
            <p:cNvPr id="1043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1044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5040360" y="1979640"/>
              <a:ext cx="720720" cy="360360"/>
              <a:chOff x="5040360" y="1979640"/>
              <a:chExt cx="720720" cy="360360"/>
            </a:xfrm>
          </p:grpSpPr>
          <p:sp>
            <p:nvSpPr>
              <p:cNvPr id="1047" name=""/>
              <p:cNvSpPr/>
              <p:nvPr/>
            </p:nvSpPr>
            <p:spPr>
              <a:xfrm>
                <a:off x="5400720" y="19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040360" y="197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9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50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053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5219640" y="7207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5400720" y="5396040"/>
            <a:ext cx="1440" cy="1449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060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069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070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7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4859280" y="1800360"/>
            <a:ext cx="1079640" cy="360360"/>
            <a:chOff x="4859280" y="1800360"/>
            <a:chExt cx="1079640" cy="360360"/>
          </a:xfrm>
        </p:grpSpPr>
        <p:grpSp>
          <p:nvGrpSpPr>
            <p:cNvPr id="1091" name=""/>
            <p:cNvGrpSpPr/>
            <p:nvPr/>
          </p:nvGrpSpPr>
          <p:grpSpPr>
            <a:xfrm>
              <a:off x="4859280" y="1800360"/>
              <a:ext cx="1079640" cy="360360"/>
              <a:chOff x="4859280" y="1800360"/>
              <a:chExt cx="1079640" cy="360360"/>
            </a:xfrm>
          </p:grpSpPr>
          <p:sp>
            <p:nvSpPr>
              <p:cNvPr id="1092" name=""/>
              <p:cNvSpPr/>
              <p:nvPr/>
            </p:nvSpPr>
            <p:spPr>
              <a:xfrm>
                <a:off x="4859280" y="18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219640" y="18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095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98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101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5219640" y="53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4251240" y="1800360"/>
            <a:ext cx="612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5400720" y="5216040"/>
            <a:ext cx="1440" cy="162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108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17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18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859280" y="1800360"/>
            <a:ext cx="1079640" cy="360360"/>
            <a:chOff x="4859280" y="1800360"/>
            <a:chExt cx="1079640" cy="360360"/>
          </a:xfrm>
        </p:grpSpPr>
        <p:grpSp>
          <p:nvGrpSpPr>
            <p:cNvPr id="1139" name=""/>
            <p:cNvGrpSpPr/>
            <p:nvPr/>
          </p:nvGrpSpPr>
          <p:grpSpPr>
            <a:xfrm>
              <a:off x="4859280" y="1800360"/>
              <a:ext cx="1079640" cy="360360"/>
              <a:chOff x="4859280" y="1800360"/>
              <a:chExt cx="1079640" cy="360360"/>
            </a:xfrm>
          </p:grpSpPr>
          <p:sp>
            <p:nvSpPr>
              <p:cNvPr id="1140" name=""/>
              <p:cNvSpPr/>
              <p:nvPr/>
            </p:nvSpPr>
            <p:spPr>
              <a:xfrm>
                <a:off x="4859280" y="18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219640" y="18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143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146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149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1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1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1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"/>
          <p:cNvGrpSpPr/>
          <p:nvPr/>
        </p:nvGrpSpPr>
        <p:grpSpPr>
          <a:xfrm>
            <a:off x="4859280" y="1800360"/>
            <a:ext cx="1079640" cy="539640"/>
            <a:chOff x="4859280" y="1800360"/>
            <a:chExt cx="1079640" cy="539640"/>
          </a:xfrm>
        </p:grpSpPr>
        <p:grpSp>
          <p:nvGrpSpPr>
            <p:cNvPr id="1181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1182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185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7" name=""/>
          <p:cNvSpPr/>
          <p:nvPr/>
        </p:nvSpPr>
        <p:spPr>
          <a:xfrm rot="10800000">
            <a:off x="5223960" y="7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5029200" y="2334960"/>
            <a:ext cx="734760" cy="549000"/>
            <a:chOff x="5029200" y="2334960"/>
            <a:chExt cx="734760" cy="549000"/>
          </a:xfrm>
        </p:grpSpPr>
        <p:sp>
          <p:nvSpPr>
            <p:cNvPr id="1189" name=""/>
            <p:cNvSpPr/>
            <p:nvPr/>
          </p:nvSpPr>
          <p:spPr>
            <a:xfrm flipV="1">
              <a:off x="5029200" y="233496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 flipV="1">
              <a:off x="5511600" y="233496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9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9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1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1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1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0" name=""/>
          <p:cNvGrpSpPr/>
          <p:nvPr/>
        </p:nvGrpSpPr>
        <p:grpSpPr>
          <a:xfrm>
            <a:off x="4865760" y="2043000"/>
            <a:ext cx="1079280" cy="541440"/>
            <a:chOff x="4865760" y="2043000"/>
            <a:chExt cx="1079280" cy="541440"/>
          </a:xfrm>
        </p:grpSpPr>
        <p:grpSp>
          <p:nvGrpSpPr>
            <p:cNvPr id="1221" name=""/>
            <p:cNvGrpSpPr/>
            <p:nvPr/>
          </p:nvGrpSpPr>
          <p:grpSpPr>
            <a:xfrm>
              <a:off x="4865760" y="2224080"/>
              <a:ext cx="1079280" cy="360360"/>
              <a:chOff x="4865760" y="2224080"/>
              <a:chExt cx="1079280" cy="360360"/>
            </a:xfrm>
          </p:grpSpPr>
          <p:sp>
            <p:nvSpPr>
              <p:cNvPr id="1222" name=""/>
              <p:cNvSpPr/>
              <p:nvPr/>
            </p:nvSpPr>
            <p:spPr>
              <a:xfrm>
                <a:off x="4865760" y="222408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224320" y="22240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5045040" y="2043000"/>
              <a:ext cx="720720" cy="360360"/>
              <a:chOff x="5045040" y="2043000"/>
              <a:chExt cx="720720" cy="360360"/>
            </a:xfrm>
          </p:grpSpPr>
          <p:sp>
            <p:nvSpPr>
              <p:cNvPr id="1225" name=""/>
              <p:cNvSpPr/>
              <p:nvPr/>
            </p:nvSpPr>
            <p:spPr>
              <a:xfrm>
                <a:off x="5405400" y="204300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045040" y="204300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7" name=""/>
          <p:cNvSpPr/>
          <p:nvPr/>
        </p:nvSpPr>
        <p:spPr>
          <a:xfrm rot="10800000">
            <a:off x="5223960" y="9032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5029200" y="2695320"/>
            <a:ext cx="734760" cy="549000"/>
            <a:chOff x="5029200" y="2695320"/>
            <a:chExt cx="734760" cy="549000"/>
          </a:xfrm>
        </p:grpSpPr>
        <p:sp>
          <p:nvSpPr>
            <p:cNvPr id="1229" name=""/>
            <p:cNvSpPr/>
            <p:nvPr/>
          </p:nvSpPr>
          <p:spPr>
            <a:xfrm flipV="1">
              <a:off x="502920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 flipV="1">
              <a:off x="5511600" y="269532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3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3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5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5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0" name=""/>
          <p:cNvGrpSpPr/>
          <p:nvPr/>
        </p:nvGrpSpPr>
        <p:grpSpPr>
          <a:xfrm>
            <a:off x="4859280" y="2160720"/>
            <a:ext cx="1079640" cy="539640"/>
            <a:chOff x="4859280" y="2160720"/>
            <a:chExt cx="1079640" cy="539640"/>
          </a:xfrm>
        </p:grpSpPr>
        <p:grpSp>
          <p:nvGrpSpPr>
            <p:cNvPr id="1261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1262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1265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7" name=""/>
          <p:cNvSpPr/>
          <p:nvPr/>
        </p:nvSpPr>
        <p:spPr>
          <a:xfrm rot="10800000">
            <a:off x="5223960" y="10843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5040360" y="2695320"/>
            <a:ext cx="735120" cy="549000"/>
            <a:chOff x="5040360" y="2695320"/>
            <a:chExt cx="735120" cy="549000"/>
          </a:xfrm>
        </p:grpSpPr>
        <p:sp>
          <p:nvSpPr>
            <p:cNvPr id="1269" name=""/>
            <p:cNvSpPr/>
            <p:nvPr/>
          </p:nvSpPr>
          <p:spPr>
            <a:xfrm flipV="1">
              <a:off x="504036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 flipV="1">
              <a:off x="5522760" y="2695320"/>
              <a:ext cx="25272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7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9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9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9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0" name=""/>
          <p:cNvGrpSpPr/>
          <p:nvPr/>
        </p:nvGrpSpPr>
        <p:grpSpPr>
          <a:xfrm>
            <a:off x="4859280" y="2340000"/>
            <a:ext cx="1079640" cy="539640"/>
            <a:chOff x="4859280" y="2340000"/>
            <a:chExt cx="1079640" cy="539640"/>
          </a:xfrm>
        </p:grpSpPr>
        <p:grpSp>
          <p:nvGrpSpPr>
            <p:cNvPr id="1301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1302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1305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7" name=""/>
          <p:cNvSpPr/>
          <p:nvPr/>
        </p:nvSpPr>
        <p:spPr>
          <a:xfrm rot="10800000">
            <a:off x="5223960" y="12636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5029200" y="2874600"/>
            <a:ext cx="734760" cy="369720"/>
            <a:chOff x="5029200" y="2874600"/>
            <a:chExt cx="734760" cy="369720"/>
          </a:xfrm>
        </p:grpSpPr>
        <p:sp>
          <p:nvSpPr>
            <p:cNvPr id="1309" name=""/>
            <p:cNvSpPr/>
            <p:nvPr/>
          </p:nvSpPr>
          <p:spPr>
            <a:xfrm flipV="1">
              <a:off x="5029200" y="2874600"/>
              <a:ext cx="24300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flipV="1">
              <a:off x="5511600" y="2874600"/>
              <a:ext cx="25236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31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31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33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33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33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0" name=""/>
          <p:cNvGrpSpPr/>
          <p:nvPr/>
        </p:nvGrpSpPr>
        <p:grpSpPr>
          <a:xfrm>
            <a:off x="4838760" y="2546280"/>
            <a:ext cx="1079280" cy="540000"/>
            <a:chOff x="4838760" y="2546280"/>
            <a:chExt cx="1079280" cy="540000"/>
          </a:xfrm>
        </p:grpSpPr>
        <p:grpSp>
          <p:nvGrpSpPr>
            <p:cNvPr id="1341" name=""/>
            <p:cNvGrpSpPr/>
            <p:nvPr/>
          </p:nvGrpSpPr>
          <p:grpSpPr>
            <a:xfrm>
              <a:off x="4838760" y="2725560"/>
              <a:ext cx="1079280" cy="360720"/>
              <a:chOff x="4838760" y="2725560"/>
              <a:chExt cx="1079280" cy="360720"/>
            </a:xfrm>
          </p:grpSpPr>
          <p:sp>
            <p:nvSpPr>
              <p:cNvPr id="1342" name=""/>
              <p:cNvSpPr/>
              <p:nvPr/>
            </p:nvSpPr>
            <p:spPr>
              <a:xfrm>
                <a:off x="4838760" y="2725560"/>
                <a:ext cx="1079280" cy="36072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199120" y="2725560"/>
                <a:ext cx="360360" cy="360720"/>
              </a:xfrm>
              <a:custGeom>
                <a:avLst/>
                <a:gdLst>
                  <a:gd name="textAreaLeft" fmla="*/ 360 w 360360"/>
                  <a:gd name="textAreaRight" fmla="*/ 360000 w 360360"/>
                  <a:gd name="textAreaTop" fmla="*/ 360 h 360720"/>
                  <a:gd name="textAreaBottom" fmla="*/ 360360 h 360720"/>
                </a:gdLst>
                <a:ahLst/>
                <a:rect l="textAreaLeft" t="textAreaTop" r="textAreaRight" b="textAreaBottom"/>
                <a:pathLst>
                  <a:path w="21600" h="21622">
                    <a:moveTo>
                      <a:pt x="95" y="0"/>
                    </a:moveTo>
                    <a:arcTo wR="95" hR="95" stAng="16200000" swAng="-5400000"/>
                    <a:lnTo>
                      <a:pt x="0" y="21527"/>
                    </a:lnTo>
                    <a:arcTo wR="95" hR="95" stAng="10800000" swAng="-5400000"/>
                    <a:lnTo>
                      <a:pt x="21505" y="21622"/>
                    </a:lnTo>
                    <a:arcTo wR="95" hR="95" stAng="5400000" swAng="-5400000"/>
                    <a:lnTo>
                      <a:pt x="21600" y="95"/>
                    </a:lnTo>
                    <a:arcTo wR="95" hR="95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5018040" y="2546280"/>
              <a:ext cx="720720" cy="360360"/>
              <a:chOff x="5018040" y="2546280"/>
              <a:chExt cx="720720" cy="360360"/>
            </a:xfrm>
          </p:grpSpPr>
          <p:sp>
            <p:nvSpPr>
              <p:cNvPr id="1345" name=""/>
              <p:cNvSpPr/>
              <p:nvPr/>
            </p:nvSpPr>
            <p:spPr>
              <a:xfrm>
                <a:off x="5378400" y="254628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018040" y="2546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7" name=""/>
          <p:cNvSpPr/>
          <p:nvPr/>
        </p:nvSpPr>
        <p:spPr>
          <a:xfrm rot="10800000">
            <a:off x="5223960" y="14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5040360" y="3056040"/>
            <a:ext cx="723600" cy="188640"/>
            <a:chOff x="5040360" y="3056040"/>
            <a:chExt cx="723600" cy="188640"/>
          </a:xfrm>
        </p:grpSpPr>
        <p:sp>
          <p:nvSpPr>
            <p:cNvPr id="1349" name=""/>
            <p:cNvSpPr/>
            <p:nvPr/>
          </p:nvSpPr>
          <p:spPr>
            <a:xfrm flipV="1">
              <a:off x="5040360" y="3056040"/>
              <a:ext cx="23328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 flipV="1">
              <a:off x="5511600" y="3056040"/>
              <a:ext cx="25236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6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859280" y="2700360"/>
            <a:ext cx="1079640" cy="360360"/>
            <a:chOff x="4859280" y="2700360"/>
            <a:chExt cx="1079640" cy="360360"/>
          </a:xfrm>
        </p:grpSpPr>
        <p:grpSp>
          <p:nvGrpSpPr>
            <p:cNvPr id="184" name=""/>
            <p:cNvGrpSpPr/>
            <p:nvPr/>
          </p:nvGrpSpPr>
          <p:grpSpPr>
            <a:xfrm>
              <a:off x="4859280" y="2700360"/>
              <a:ext cx="1079640" cy="360360"/>
              <a:chOff x="4859280" y="2700360"/>
              <a:chExt cx="1079640" cy="360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59280" y="27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19640" y="27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188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91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94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219640" y="144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400720" y="6114600"/>
            <a:ext cx="1440" cy="730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9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3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3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3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3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"/>
          <p:cNvGrpSpPr/>
          <p:nvPr/>
        </p:nvGrpSpPr>
        <p:grpSpPr>
          <a:xfrm>
            <a:off x="4859280" y="2700360"/>
            <a:ext cx="1079640" cy="539640"/>
            <a:chOff x="4859280" y="2700360"/>
            <a:chExt cx="1079640" cy="539640"/>
          </a:xfrm>
        </p:grpSpPr>
        <p:grpSp>
          <p:nvGrpSpPr>
            <p:cNvPr id="1381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382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1385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7" name=""/>
          <p:cNvSpPr/>
          <p:nvPr/>
        </p:nvSpPr>
        <p:spPr>
          <a:xfrm rot="10800000">
            <a:off x="5223960" y="16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60000" y="1619280"/>
            <a:ext cx="90694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Модель работы поршневого насос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Презентацию составил учитель физики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МКОУООШ №13 с. Меркушевка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Пономаренко Алексей Алексеевич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0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859280" y="2519280"/>
            <a:ext cx="1079640" cy="360360"/>
            <a:chOff x="4859280" y="2519280"/>
            <a:chExt cx="1079640" cy="360360"/>
          </a:xfrm>
        </p:grpSpPr>
        <p:grpSp>
          <p:nvGrpSpPr>
            <p:cNvPr id="228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229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040360" y="2519280"/>
              <a:ext cx="720720" cy="360360"/>
              <a:chOff x="5040360" y="2519280"/>
              <a:chExt cx="720720" cy="360360"/>
            </a:xfrm>
          </p:grpSpPr>
          <p:sp>
            <p:nvSpPr>
              <p:cNvPr id="232" name=""/>
              <p:cNvSpPr/>
              <p:nvPr/>
            </p:nvSpPr>
            <p:spPr>
              <a:xfrm>
                <a:off x="5400720" y="251928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40360" y="2519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235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238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219640" y="12603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400720" y="5935320"/>
            <a:ext cx="1440" cy="9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24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50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859280" y="2340000"/>
            <a:ext cx="1079640" cy="360360"/>
            <a:chOff x="4859280" y="2340000"/>
            <a:chExt cx="1079640" cy="360360"/>
          </a:xfrm>
        </p:grpSpPr>
        <p:grpSp>
          <p:nvGrpSpPr>
            <p:cNvPr id="272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273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276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279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282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226120" y="10857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400720" y="5756040"/>
            <a:ext cx="1440" cy="108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28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94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59280" y="2519280"/>
            <a:ext cx="1079640" cy="12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260720"/>
              <a:gd name="textAreaBottom" fmla="*/ 1260360 h 1260720"/>
            </a:gdLst>
            <a:ahLst/>
            <a:rect l="textAreaLeft" t="textAreaTop" r="textAreaRight" b="textAreaBottom"/>
            <a:pathLst>
              <a:path w="21600" h="25222">
                <a:moveTo>
                  <a:pt x="31" y="0"/>
                </a:moveTo>
                <a:arcTo wR="31" hR="31" stAng="16200000" swAng="-5400000"/>
                <a:lnTo>
                  <a:pt x="0" y="25191"/>
                </a:lnTo>
                <a:arcTo wR="31" hR="31" stAng="10800000" swAng="-5400000"/>
                <a:lnTo>
                  <a:pt x="21569" y="25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859280" y="2160720"/>
            <a:ext cx="1079640" cy="360360"/>
            <a:chOff x="4859280" y="2160720"/>
            <a:chExt cx="1079640" cy="360360"/>
          </a:xfrm>
        </p:grpSpPr>
        <p:grpSp>
          <p:nvGrpSpPr>
            <p:cNvPr id="316" name=""/>
            <p:cNvGrpSpPr/>
            <p:nvPr/>
          </p:nvGrpSpPr>
          <p:grpSpPr>
            <a:xfrm>
              <a:off x="4859280" y="2160720"/>
              <a:ext cx="1079640" cy="360360"/>
              <a:chOff x="4859280" y="2160720"/>
              <a:chExt cx="1079640" cy="360360"/>
            </a:xfrm>
          </p:grpSpPr>
          <p:sp>
            <p:nvSpPr>
              <p:cNvPr id="317" name=""/>
              <p:cNvSpPr/>
              <p:nvPr/>
            </p:nvSpPr>
            <p:spPr>
              <a:xfrm>
                <a:off x="4859280" y="216072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19640" y="21607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320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323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326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219640" y="90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400720" y="5575320"/>
            <a:ext cx="1440" cy="12700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331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338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59280" y="2340000"/>
            <a:ext cx="1079640" cy="144000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440000"/>
              <a:gd name="textAreaBottom" fmla="*/ 1439640 h 1440000"/>
            </a:gdLst>
            <a:ahLst/>
            <a:rect l="textAreaLeft" t="textAreaTop" r="textAreaRight" b="textAreaBottom"/>
            <a:pathLst>
              <a:path w="21600" h="28807">
                <a:moveTo>
                  <a:pt x="31" y="0"/>
                </a:moveTo>
                <a:arcTo wR="31" hR="31" stAng="16200000" swAng="-5400000"/>
                <a:lnTo>
                  <a:pt x="0" y="28776"/>
                </a:lnTo>
                <a:arcTo wR="31" hR="31" stAng="10800000" swAng="-5400000"/>
                <a:lnTo>
                  <a:pt x="21569" y="2880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859280" y="1979640"/>
            <a:ext cx="1079640" cy="360360"/>
            <a:chOff x="4859280" y="1979640"/>
            <a:chExt cx="1079640" cy="360360"/>
          </a:xfrm>
        </p:grpSpPr>
        <p:grpSp>
          <p:nvGrpSpPr>
            <p:cNvPr id="360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361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5040360" y="1979640"/>
              <a:ext cx="720720" cy="360360"/>
              <a:chOff x="5040360" y="1979640"/>
              <a:chExt cx="720720" cy="360360"/>
            </a:xfrm>
          </p:grpSpPr>
          <p:sp>
            <p:nvSpPr>
              <p:cNvPr id="364" name=""/>
              <p:cNvSpPr/>
              <p:nvPr/>
            </p:nvSpPr>
            <p:spPr>
              <a:xfrm>
                <a:off x="5400720" y="19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040360" y="197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367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370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5219640" y="7207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400720" y="5396040"/>
            <a:ext cx="1440" cy="1449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37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38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04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05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08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11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14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5219640" y="53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400720" y="5035320"/>
            <a:ext cx="1440" cy="18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41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42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48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49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55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58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480000" y="539640"/>
            <a:ext cx="306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О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32:33Z</dcterms:created>
  <dc:creator/>
  <dc:description/>
  <dc:language>en-US</dc:language>
  <cp:lastModifiedBy/>
  <dcterms:modified xsi:type="dcterms:W3CDTF">2014-02-18T12:56:49Z</dcterms:modified>
  <cp:revision>7</cp:revision>
  <dc:subject/>
  <dc:title/>
</cp:coreProperties>
</file>