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DC64-7583-4F42-9F7A-DF71E3FE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8DA8-3185-45D2-AA2A-F5771C8E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9C95E8-11BF-4921-BFA3-6AE0A8C6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A6A29-7DBB-4CF7-9D3E-34F960FE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A3F3DA-38D4-44A6-B050-93B187D1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2C8394-E078-4335-A57A-22DECC88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E06B4F-583B-4C27-84F7-D2794197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2D0D82-9D25-41AE-87C6-0B394511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A473BA-1664-466F-BCDA-24E389F5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B42AF86-BBFB-4553-A8BF-9F6817E9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FF9D00-47D6-409A-927E-8CD498B5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08032-7931-40C9-9A56-0B5E481C7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4CF5-273C-421A-8E89-7B1B39C3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318E5-96D5-48E1-BA9C-F52945A7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EBC15-9F2E-4CED-9047-772005DE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F8BD4-A1F5-4C93-BBC6-FB57E34E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57FFE-F252-4DC4-A21C-4D719D4C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0429D-FDFA-4DBA-8DC7-CF223D999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29E4E-0709-4B6E-B160-33F7E49A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CE1A6-0207-4A1F-9FC0-1019CF63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9E0F1-4EE2-414F-A666-4E84A2A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8673C-68EC-49BB-9A0C-9CD5BF33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9888B-3997-49CB-BD23-DB62454B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3366-3845-4712-A61E-86BF571DE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3D688-8129-45D5-9238-EEB2AA7F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B31462-9F14-4E9E-A63D-8300EEC7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D80A1C-6701-4535-B59F-4F7B795F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FEAD542-28DA-46AF-BF55-4CA6D113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0CCF8E-AD22-4721-955A-26D3C926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22A8C97-D8CF-4E3B-9670-B0581E35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A6DC8A-6F76-45C1-B85E-AFD5569F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1DB446-BCA6-4AA2-8A0A-C122167D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69D5D0-4594-4432-AA97-EFC88EE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19EDAD3-0EA7-4C01-830B-05F39FE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34A580-6117-4FE9-A2F6-44B080CD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7C09C1-6DE3-4F2F-81C8-2207F623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A942AB-CB9F-4AA8-B450-192F64EC6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436B4B-17E5-42BE-BC7F-5DE6A49D0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CFBE39-AFAA-419D-9996-F6A85C9F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647AD1-65DF-49D4-A74C-F225C16B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D3BC8B-1B73-439F-840F-6AECCB89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DC86457-9CB3-441D-A09B-11BD8D91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8BE923-963D-4457-A82F-3DC6B461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8EAB868-892E-4E0D-9817-3386CF5B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CEDFE5-F1A0-41F3-AF69-76641A09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1AA49-7FBD-4DD5-B7E1-B3BFCDB6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1E664F-298A-48A8-9E37-62CE595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FCCF44-47ED-4A56-B8CC-87F3E2B0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866F03-61F1-4F9B-868B-111A21A7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1C530E0-8ED5-41E1-B15C-87B74BB0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FB2C64-5A3E-468A-98F5-E6275B23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B9716-4CE6-4453-8C1C-C3605E8B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F0827-2B0A-4646-9EA3-730E0871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0A4C24-22C9-4C85-BAB9-C9BF3E29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D529F-F5E1-44D3-95A3-F47564AB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0E0F1-C065-492D-9613-2E9DC72E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5F0-3622-4950-BDF0-E891E1ED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653D6-3DFF-42AF-BDA3-6D836C98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8A4DA-0F90-473E-B4DF-73DB8ED4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19507-EFB4-432E-8B06-F48F28E7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6A1DA-EA38-4D2C-8848-1FA515C2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12731-5BC2-4FF5-9DC5-6E5036DF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19CF1-B92E-4A76-AFC1-61002F68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289A7-C46B-4D48-BB22-513B5DB8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39109-294E-4EBC-8A23-CF0B46DA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C2F43-8651-4008-B813-6B12C457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1482F3-0712-49BE-A910-02BCA11E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9545-1CD3-4A6C-B17F-C0A0AF67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69698F-DD01-448E-AF28-7C4F65AC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07E40-3FAE-4158-A262-3F4350A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5F061-A0CC-4D3E-81E7-78DA0D7B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83F75-8503-4586-92D5-8EFB1463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D1C8E-1595-4F29-AC0F-58617B7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8D1AB-A8EB-4AAA-A5D6-A709ACC5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8C0DE-2401-42A2-BB08-B4DC9DC4D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A6FA8-6FCF-44E1-A4E4-0BC8BB21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07CC8-BA21-43B8-9D50-5BD5E241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B391F1-AB91-455E-BDDB-E12B198D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E4B-7C1A-4E2B-BA2C-13396D06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F6E26A-C85A-4AD1-ADC2-D39BD5C0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4C13A-F8A6-40AA-950A-8874AEB7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C431AB-634A-42CF-BB08-C1BFEB81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FAAA5-E546-40FA-89C9-2EFE3844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51BF9-2A7B-4745-8EDF-4DAFA29F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2EE070-3142-4462-9241-8D26D32F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8238C3-ADE2-4183-B214-30E3417B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B62EA9-4363-4187-94C4-984FDA00A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97547D-B567-43E3-9B1A-A65EDEE60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13C10-8F65-4ADD-8180-492B87C7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8A2-66F3-4602-A031-CD89C823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676DE-9BB7-4184-8456-C1C22AB1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350BCF-57E3-4AA1-B505-0555D808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04B56-9974-413B-8612-4AAD28E3B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ED0F34-24D3-4DA4-8C18-5722DFF7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F8C2A5-CE82-4263-BB80-37B79409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714D0-97D1-4DDD-89B0-C5CC2E54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D92071-7958-44B8-BC4E-7B8728C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0A9285-C2AA-45DF-BDF9-723D26E3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E4841-64C8-4DAA-9FBD-1A22FDA2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EC1EC7-426F-4E9B-B62E-6E9EBE43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E860-C2C0-46A5-BFAB-1FC24894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C4E402-4FE2-4D09-8E15-425EE7CC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35693C-6D7F-4002-89A4-2317A42B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F11E4-87D8-4A99-B7FB-74536051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0A5489-60DB-41F3-A4EA-4DA4C9D2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A2BA3-50CC-46A1-8D0E-21A53C454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A53EC1-BC64-4AA8-9030-FAD421DC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17F49-1F15-4725-A87D-0D2648F4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3D766-43A4-4FA1-ABF9-CCAA7D80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944927-E00C-4363-B83F-0281C7EF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AB4585-994F-4CD0-AF8D-E090383E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F9B2-D925-4631-AA7D-0D098D03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017BB-6846-476B-B3B3-B4D651AA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4D1079-1A29-4C37-90D7-932562C72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FCBB9-08DD-4963-932C-D486F9B5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06977E-034F-4E95-9E92-59BEEB687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A6F9DF-A6F7-41DA-9616-6A0E1806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A68BC2-92D0-4F08-908B-1CD8CB2C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46CA92-67F0-4E72-A853-E8B62B446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5DB3E5-216E-4195-8522-C91C57761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E8532-A8AF-444F-A6C5-E579252A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0D9B3-250A-40ED-8B39-4273CE29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59E3-EC11-4688-9E90-3CD0187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56AEA-D39D-49D4-B36E-50479931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E6D229-A85C-4F82-A82F-FA21ED3A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A240FA-023F-4B3E-82CB-9DD8CB80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3AEAC5-B06F-4A19-A8FC-550D2E5F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0A2426-5138-4A31-8F61-18A7E901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0438D3-A3BF-4F18-80D7-79CFC83D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F5CAD2-2134-4AEB-999E-9F3CA67F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16F955-6C8A-46AC-BCBA-D2F8A0CF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DEEC02-0AC4-48BC-ADD0-926294CE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3EF8B0-508C-4650-9A02-8947CC1C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1A4E-6ECB-4D02-8748-B285369B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4153F3-2F17-4FED-B87F-560B2CA1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82A906-AC76-44E1-AEA5-5862141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9D1655-530C-4465-BC04-714939CC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52D99D-3358-4C57-A5CB-CA2386F2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146480"/>
            <a:ext cx="822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4C0CE4-F272-48DF-BAAA-A2D9F229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146480"/>
            <a:ext cx="40158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0E20DE-71AE-445A-97F5-963DD469A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146480"/>
            <a:ext cx="264960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B4629D-2A05-4E2E-9C49-F8091CE8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2DC924-8014-4AA9-88E7-B051FE1F6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6520BA-C661-41B7-9997-B0A158ED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33B8F-E796-4EFA-825A-F0A9E4CF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800D-11A2-4932-BAD4-0312758D702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2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9" name="Picture 7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8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sp>
        <p:nvSpPr>
          <p:cNvPr id="431" name="Straight Connector 9"/>
          <p:cNvSpPr/>
          <p:nvPr/>
        </p:nvSpPr>
        <p:spPr>
          <a:xfrm>
            <a:off x="4419720" y="1523880"/>
            <a:ext cx="426708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0"/>
          <p:cNvSpPr/>
          <p:nvPr/>
        </p:nvSpPr>
        <p:spPr>
          <a:xfrm>
            <a:off x="4419720" y="5637240"/>
            <a:ext cx="4267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975B-2402-474A-8D61-8861A9A8B74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76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9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32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6B55-D201-4307-BB8D-438A007C96C4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ftr" idx="33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Group 1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524" name="Rectangle 1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0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7" name="Picture 10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3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4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sldNum" idx="35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C2AC-3267-4D41-9B85-26EFE794196E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6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9_02.jpg"/>
          <p:cNvPicPr/>
          <p:nvPr/>
        </p:nvPicPr>
        <p:blipFill>
          <a:blip r:embed="rId2"/>
          <a:stretch/>
        </p:blipFill>
        <p:spPr>
          <a:xfrm>
            <a:off x="7753320" y="0"/>
            <a:ext cx="745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1_05.jpg"/>
          <p:cNvPicPr/>
          <p:nvPr/>
        </p:nvPicPr>
        <p:blipFill>
          <a:blip r:embed="rId3"/>
          <a:stretch/>
        </p:blipFill>
        <p:spPr>
          <a:xfrm>
            <a:off x="7810560" y="0"/>
            <a:ext cx="13334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46" name="Rectangle 9"/>
            <p:cNvSpPr/>
            <p:nvPr/>
          </p:nvSpPr>
          <p:spPr>
            <a:xfrm>
              <a:off x="7813800" y="6630840"/>
              <a:ext cx="1330200" cy="22860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6134040" y="6630840"/>
              <a:ext cx="1609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6630840"/>
              <a:ext cx="6095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21000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5"/>
          </p:nvPr>
        </p:nvSpPr>
        <p:spPr>
          <a:xfrm>
            <a:off x="7924680" y="6609960"/>
            <a:ext cx="1198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F99D-2CF4-4BDA-9537-FBD2A94B5F2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6"/>
          </p:nvPr>
        </p:nvSpPr>
        <p:spPr>
          <a:xfrm>
            <a:off x="457200" y="6609960"/>
            <a:ext cx="560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0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92" name="Rectangle 31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2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3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2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0B10-9EA1-42B3-BE20-29399785A686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1438200" y="6629400"/>
            <a:ext cx="7705800" cy="228600"/>
            <a:chOff x="1438200" y="6629400"/>
            <a:chExt cx="7705800" cy="228600"/>
          </a:xfrm>
        </p:grpSpPr>
        <p:sp>
          <p:nvSpPr>
            <p:cNvPr id="140" name="Rectangle 26"/>
            <p:cNvSpPr/>
            <p:nvPr/>
          </p:nvSpPr>
          <p:spPr>
            <a:xfrm>
              <a:off x="8763120" y="662940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7142400" y="662940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28"/>
            <p:cNvSpPr/>
            <p:nvPr/>
          </p:nvSpPr>
          <p:spPr>
            <a:xfrm>
              <a:off x="1438200" y="6629400"/>
              <a:ext cx="56642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9" descr="9_01.jpg"/>
          <p:cNvPicPr/>
          <p:nvPr/>
        </p:nvPicPr>
        <p:blipFill>
          <a:blip r:embed="rId2"/>
          <a:stretch/>
        </p:blipFill>
        <p:spPr>
          <a:xfrm>
            <a:off x="0" y="0"/>
            <a:ext cx="13636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" descr="vert_bar_02.png"/>
          <p:cNvPicPr/>
          <p:nvPr/>
        </p:nvPicPr>
        <p:blipFill>
          <a:blip r:embed="rId3"/>
          <a:stretch/>
        </p:blipFill>
        <p:spPr>
          <a:xfrm>
            <a:off x="1365120" y="0"/>
            <a:ext cx="7308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7162560" y="6610320"/>
            <a:ext cx="1523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11"/>
          </p:nvPr>
        </p:nvSpPr>
        <p:spPr>
          <a:xfrm>
            <a:off x="8741880" y="6610320"/>
            <a:ext cx="381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98EC2-33C2-457E-9709-6B8194160E68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2"/>
          </p:nvPr>
        </p:nvSpPr>
        <p:spPr>
          <a:xfrm>
            <a:off x="1523880" y="6610320"/>
            <a:ext cx="5562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2" descr="bar_06.png"/>
          <p:cNvPicPr/>
          <p:nvPr/>
        </p:nvPicPr>
        <p:blipFill>
          <a:blip r:embed="rId2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3_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14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19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4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F08-57A0-4B81-8CE4-0F1F665BEFC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5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3" descr="4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5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37" name="Group 17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38" name="Rectangle 1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7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0C41-7FF4-4EF9-ABCD-E99794754772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ftr" idx="18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9" descr="2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11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286" name="Rectangle 12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20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4559-B99B-46BB-875D-A7937E651895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21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8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32" name="Rectangle 9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0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1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3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3AD3-0682-4DD3-BB49-7B11DB7E747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4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a6a6a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8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1" descr="3_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403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3" descr="bar_06.png"/>
          <p:cNvPicPr/>
          <p:nvPr/>
        </p:nvPicPr>
        <p:blipFill>
          <a:blip r:embed="rId3"/>
          <a:stretch/>
        </p:blipFill>
        <p:spPr>
          <a:xfrm>
            <a:off x="0" y="401760"/>
            <a:ext cx="9144000" cy="554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5"/>
          <p:cNvGrpSpPr/>
          <p:nvPr/>
        </p:nvGrpSpPr>
        <p:grpSpPr>
          <a:xfrm>
            <a:off x="0" y="6630840"/>
            <a:ext cx="9144000" cy="228600"/>
            <a:chOff x="0" y="6630840"/>
            <a:chExt cx="9144000" cy="228600"/>
          </a:xfrm>
        </p:grpSpPr>
        <p:sp>
          <p:nvSpPr>
            <p:cNvPr id="380" name="Rectangle 16"/>
            <p:cNvSpPr/>
            <p:nvPr/>
          </p:nvSpPr>
          <p:spPr>
            <a:xfrm>
              <a:off x="8763120" y="6630840"/>
              <a:ext cx="38088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"/>
            <p:cNvSpPr/>
            <p:nvPr/>
          </p:nvSpPr>
          <p:spPr>
            <a:xfrm>
              <a:off x="7142400" y="6630840"/>
              <a:ext cx="158256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8"/>
            <p:cNvSpPr/>
            <p:nvPr/>
          </p:nvSpPr>
          <p:spPr>
            <a:xfrm>
              <a:off x="0" y="6630840"/>
              <a:ext cx="7102440" cy="228600"/>
            </a:xfrm>
            <a:prstGeom prst="rect">
              <a:avLst/>
            </a:pr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f3f4d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3f3f4d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7f7f7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4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7162560" y="6609960"/>
            <a:ext cx="1523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6"/>
          </p:nvPr>
        </p:nvSpPr>
        <p:spPr>
          <a:xfrm>
            <a:off x="8741880" y="6609960"/>
            <a:ext cx="381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6EB-3E8B-4848-835C-7928D7EDD209}" type="slidenum">
              <a:rPr b="0" lang="ru-RU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ftr" idx="27"/>
          </p:nvPr>
        </p:nvSpPr>
        <p:spPr>
          <a:xfrm>
            <a:off x="456840" y="66099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dddddd"/>
            </a:outerShdw>
          </a:effectLst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Урок физики в 7 кл.</a:t>
            </a:r>
            <a:endParaRPr b="0" lang="en-US" sz="4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6838920" cy="151272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  <a:effectLst>
            <a:outerShdw dist="36147" dir="2700000" blurRad="0" rotWithShape="0">
              <a:srgbClr val="dddddd">
                <a:alpha val="50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ма:  Сложение двух сил, направленных по одной прямой. Равнодействующая сил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556000" y="4150080"/>
            <a:ext cx="525600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Ладанова И.В.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  <a:p>
            <a:pPr algn="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f3f4d"/>
                </a:solidFill>
                <a:latin typeface="Calibri"/>
              </a:rPr>
              <a:t>МКОУ «Верх-Жилинская ООШ»</a:t>
            </a:r>
            <a:endParaRPr b="0" lang="en-US" sz="2800" spc="-1" strike="noStrike">
              <a:solidFill>
                <a:srgbClr val="3f3f4d"/>
              </a:solidFill>
              <a:latin typeface="Calibri"/>
            </a:endParaRPr>
          </a:p>
        </p:txBody>
      </p:sp>
      <p:sp>
        <p:nvSpPr>
          <p:cNvPr id="573" name="AutoShape 4"/>
          <p:cNvSpPr/>
          <p:nvPr/>
        </p:nvSpPr>
        <p:spPr>
          <a:xfrm>
            <a:off x="7667640" y="5950080"/>
            <a:ext cx="865080" cy="503280"/>
          </a:xfrm>
          <a:custGeom>
            <a:avLst/>
            <a:gdLst>
              <a:gd name="textAreaLeft" fmla="*/ 32400 w 865080"/>
              <a:gd name="textAreaRight" fmla="*/ 832680 w 86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37117" h="21600">
                <a:moveTo>
                  <a:pt x="0" y="0"/>
                </a:moveTo>
                <a:lnTo>
                  <a:pt x="37117" y="0"/>
                </a:lnTo>
                <a:lnTo>
                  <a:pt x="37117" y="21600"/>
                </a:lnTo>
                <a:lnTo>
                  <a:pt x="0" y="21600"/>
                </a:lnTo>
                <a:close/>
              </a:path>
              <a:path fill="lightenLess" w="37117" h="21600">
                <a:moveTo>
                  <a:pt x="0" y="0"/>
                </a:moveTo>
                <a:lnTo>
                  <a:pt x="37117" y="0"/>
                </a:lnTo>
                <a:lnTo>
                  <a:pt x="35717" y="1400"/>
                </a:lnTo>
                <a:lnTo>
                  <a:pt x="1400" y="1400"/>
                </a:lnTo>
                <a:close/>
              </a:path>
              <a:path fill="darken" w="37117" h="21600">
                <a:moveTo>
                  <a:pt x="37117" y="0"/>
                </a:moveTo>
                <a:lnTo>
                  <a:pt x="37117" y="21600"/>
                </a:lnTo>
                <a:lnTo>
                  <a:pt x="35717" y="20200"/>
                </a:lnTo>
                <a:lnTo>
                  <a:pt x="35717" y="1400"/>
                </a:lnTo>
                <a:close/>
              </a:path>
              <a:path fill="darkenLess" w="37117" h="21600">
                <a:moveTo>
                  <a:pt x="371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717" y="20200"/>
                </a:lnTo>
                <a:close/>
              </a:path>
              <a:path fill="lighten" w="371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117" h="21600">
                <a:moveTo>
                  <a:pt x="11552" y="3794"/>
                </a:moveTo>
                <a:lnTo>
                  <a:pt x="25565" y="10800"/>
                </a:lnTo>
                <a:lnTo>
                  <a:pt x="11552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5">
            <a:hlinkClick r:id="" action="ppaction://hlinkshowjump?jump=previousslide"/>
          </p:cNvPr>
          <p:cNvSpPr/>
          <p:nvPr/>
        </p:nvSpPr>
        <p:spPr>
          <a:xfrm>
            <a:off x="6588000" y="5950080"/>
            <a:ext cx="1008360" cy="503280"/>
          </a:xfrm>
          <a:custGeom>
            <a:avLst/>
            <a:gdLst>
              <a:gd name="textAreaLeft" fmla="*/ 32400 w 1008360"/>
              <a:gd name="textAreaRight" fmla="*/ 975960 w 1008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3262" h="21600">
                <a:moveTo>
                  <a:pt x="0" y="0"/>
                </a:moveTo>
                <a:lnTo>
                  <a:pt x="43262" y="0"/>
                </a:lnTo>
                <a:lnTo>
                  <a:pt x="43262" y="21600"/>
                </a:lnTo>
                <a:lnTo>
                  <a:pt x="0" y="21600"/>
                </a:lnTo>
                <a:close/>
              </a:path>
              <a:path fill="lightenLess" w="43262" h="21600">
                <a:moveTo>
                  <a:pt x="0" y="0"/>
                </a:moveTo>
                <a:lnTo>
                  <a:pt x="43262" y="0"/>
                </a:lnTo>
                <a:lnTo>
                  <a:pt x="41862" y="1400"/>
                </a:lnTo>
                <a:lnTo>
                  <a:pt x="1400" y="1400"/>
                </a:lnTo>
                <a:close/>
              </a:path>
              <a:path fill="darken" w="43262" h="21600">
                <a:moveTo>
                  <a:pt x="43262" y="0"/>
                </a:moveTo>
                <a:lnTo>
                  <a:pt x="43262" y="21600"/>
                </a:lnTo>
                <a:lnTo>
                  <a:pt x="41862" y="20200"/>
                </a:lnTo>
                <a:lnTo>
                  <a:pt x="41862" y="1400"/>
                </a:lnTo>
                <a:close/>
              </a:path>
              <a:path fill="darkenLess" w="43262" h="21600">
                <a:moveTo>
                  <a:pt x="432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62" y="20200"/>
                </a:lnTo>
                <a:close/>
              </a:path>
              <a:path fill="lighten" w="432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62" h="21600">
                <a:moveTo>
                  <a:pt x="14624" y="10800"/>
                </a:moveTo>
                <a:lnTo>
                  <a:pt x="28637" y="3794"/>
                </a:lnTo>
                <a:lnTo>
                  <a:pt x="28637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5"/>
          <p:cNvSpPr/>
          <p:nvPr/>
        </p:nvSpPr>
        <p:spPr>
          <a:xfrm>
            <a:off x="684360" y="765000"/>
            <a:ext cx="49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6"/>
          <p:cNvSpPr/>
          <p:nvPr/>
        </p:nvSpPr>
        <p:spPr>
          <a:xfrm>
            <a:off x="395280" y="189000"/>
            <a:ext cx="5040360" cy="35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ила, которая производит на тело такое же действие, как несколько одновременно действующих сил, называется равнодействующей этих с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4140360" y="3645000"/>
            <a:ext cx="403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бозначение: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8"/>
          <p:cNvSpPr/>
          <p:nvPr/>
        </p:nvSpPr>
        <p:spPr>
          <a:xfrm>
            <a:off x="7380360" y="3645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9"/>
          <p:cNvSpPr/>
          <p:nvPr/>
        </p:nvSpPr>
        <p:spPr>
          <a:xfrm>
            <a:off x="752472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3794"/>
                </a:moveTo>
                <a:lnTo>
                  <a:pt x="37318" y="10800"/>
                </a:lnTo>
                <a:lnTo>
                  <a:pt x="2330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0">
            <a:hlinkClick r:id="" action="ppaction://hlinkshowjump?jump=previousslide"/>
          </p:cNvPr>
          <p:cNvSpPr/>
          <p:nvPr/>
        </p:nvSpPr>
        <p:spPr>
          <a:xfrm>
            <a:off x="6443640" y="6165720"/>
            <a:ext cx="1008000" cy="35892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0623" h="21600">
                <a:moveTo>
                  <a:pt x="0" y="0"/>
                </a:moveTo>
                <a:lnTo>
                  <a:pt x="60623" y="0"/>
                </a:lnTo>
                <a:lnTo>
                  <a:pt x="60623" y="21600"/>
                </a:lnTo>
                <a:lnTo>
                  <a:pt x="0" y="21600"/>
                </a:lnTo>
                <a:close/>
              </a:path>
              <a:path fill="lightenLess" w="60623" h="21600">
                <a:moveTo>
                  <a:pt x="0" y="0"/>
                </a:moveTo>
                <a:lnTo>
                  <a:pt x="60623" y="0"/>
                </a:lnTo>
                <a:lnTo>
                  <a:pt x="59223" y="1400"/>
                </a:lnTo>
                <a:lnTo>
                  <a:pt x="1400" y="1400"/>
                </a:lnTo>
                <a:close/>
              </a:path>
              <a:path fill="darken" w="60623" h="21600">
                <a:moveTo>
                  <a:pt x="60623" y="0"/>
                </a:moveTo>
                <a:lnTo>
                  <a:pt x="60623" y="21600"/>
                </a:lnTo>
                <a:lnTo>
                  <a:pt x="59223" y="20200"/>
                </a:lnTo>
                <a:lnTo>
                  <a:pt x="59223" y="1400"/>
                </a:lnTo>
                <a:close/>
              </a:path>
              <a:path fill="darkenLess" w="60623" h="21600">
                <a:moveTo>
                  <a:pt x="60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23" y="20200"/>
                </a:lnTo>
                <a:close/>
              </a:path>
              <a:path fill="lighten" w="60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623" h="21600">
                <a:moveTo>
                  <a:pt x="23305" y="10800"/>
                </a:moveTo>
                <a:lnTo>
                  <a:pt x="37318" y="3794"/>
                </a:lnTo>
                <a:lnTo>
                  <a:pt x="37318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1"/>
          <p:cNvSpPr/>
          <p:nvPr/>
        </p:nvSpPr>
        <p:spPr>
          <a:xfrm>
            <a:off x="1116000" y="429264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2"/>
          <p:cNvSpPr/>
          <p:nvPr/>
        </p:nvSpPr>
        <p:spPr>
          <a:xfrm>
            <a:off x="1547640" y="4653000"/>
            <a:ext cx="32403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диница измерения: </a:t>
            </a:r>
            <a:r>
              <a:rPr b="1" lang="ru-RU" sz="28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AutoShape 29"/>
          <p:cNvSpPr/>
          <p:nvPr/>
        </p:nvSpPr>
        <p:spPr>
          <a:xfrm>
            <a:off x="2411280" y="4221000"/>
            <a:ext cx="3529080" cy="863640"/>
          </a:xfrm>
          <a:prstGeom prst="roundRect">
            <a:avLst>
              <a:gd name="adj" fmla="val 16667"/>
            </a:avLst>
          </a:prstGeom>
          <a:solidFill>
            <a:srgbClr val="00ffcc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AutoShape 10"/>
          <p:cNvSpPr/>
          <p:nvPr/>
        </p:nvSpPr>
        <p:spPr>
          <a:xfrm>
            <a:off x="3059280" y="3141720"/>
            <a:ext cx="3817800" cy="431640"/>
          </a:xfrm>
          <a:prstGeom prst="rightArrow">
            <a:avLst>
              <a:gd name="adj1" fmla="val 50000"/>
              <a:gd name="adj2" fmla="val 221122"/>
            </a:avLst>
          </a:prstGeom>
          <a:solidFill>
            <a:srgbClr val="e19b0b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"/>
          <p:cNvSpPr/>
          <p:nvPr/>
        </p:nvSpPr>
        <p:spPr>
          <a:xfrm>
            <a:off x="539640" y="189000"/>
            <a:ext cx="3168720" cy="33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одну сторону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равна сумме этих сил и направлена в ту же сторо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5"/>
          <p:cNvSpPr/>
          <p:nvPr/>
        </p:nvSpPr>
        <p:spPr>
          <a:xfrm>
            <a:off x="2916360" y="3213000"/>
            <a:ext cx="21420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3132000" y="3213000"/>
            <a:ext cx="2448000" cy="287280"/>
          </a:xfrm>
          <a:prstGeom prst="rightArrow">
            <a:avLst>
              <a:gd name="adj1" fmla="val 50000"/>
              <a:gd name="adj2" fmla="val 213033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7"/>
          <p:cNvSpPr/>
          <p:nvPr/>
        </p:nvSpPr>
        <p:spPr>
          <a:xfrm>
            <a:off x="3059280" y="3213000"/>
            <a:ext cx="1223640" cy="287280"/>
          </a:xfrm>
          <a:prstGeom prst="rightArrow">
            <a:avLst>
              <a:gd name="adj1" fmla="val 50000"/>
              <a:gd name="adj2" fmla="val 106485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4"/>
          <p:cNvSpPr/>
          <p:nvPr/>
        </p:nvSpPr>
        <p:spPr>
          <a:xfrm>
            <a:off x="3203640" y="3706920"/>
            <a:ext cx="431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3276720" y="371628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6"/>
          <p:cNvSpPr/>
          <p:nvPr/>
        </p:nvSpPr>
        <p:spPr>
          <a:xfrm>
            <a:off x="4356000" y="371628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0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427640" y="3716280"/>
            <a:ext cx="28872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508720" y="3716280"/>
            <a:ext cx="79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6"/>
          <p:cNvSpPr/>
          <p:nvPr/>
        </p:nvSpPr>
        <p:spPr>
          <a:xfrm>
            <a:off x="5580000" y="3716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7"/>
          <p:cNvSpPr/>
          <p:nvPr/>
        </p:nvSpPr>
        <p:spPr>
          <a:xfrm>
            <a:off x="2771640" y="4365720"/>
            <a:ext cx="3527640" cy="64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+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0">
            <a:hlinkClick r:id="" action="ppaction://hlinkshowjump?jump=previousslide"/>
          </p:cNvPr>
          <p:cNvSpPr/>
          <p:nvPr/>
        </p:nvSpPr>
        <p:spPr>
          <a:xfrm>
            <a:off x="6804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1">
            <a:hlinkClick r:id="" action="ppaction://hlinkshowjump?jump=nextslide"/>
          </p:cNvPr>
          <p:cNvSpPr/>
          <p:nvPr/>
        </p:nvSpPr>
        <p:spPr>
          <a:xfrm>
            <a:off x="766764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5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6" dur="250" autoRev="1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500" autoRev="1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" dur="1500" autoRev="1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500" autoRev="1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AutoShape 20"/>
          <p:cNvSpPr/>
          <p:nvPr/>
        </p:nvSpPr>
        <p:spPr>
          <a:xfrm>
            <a:off x="3564000" y="5589720"/>
            <a:ext cx="2808360" cy="57600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684360" y="907920"/>
            <a:ext cx="518292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внодействующая сил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направленных вдоль одной прямой в противоположные сторон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направлена в сторону большей по модулю силы, а её модуль равен разности модулей составляющих с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val 5"/>
          <p:cNvSpPr/>
          <p:nvPr/>
        </p:nvSpPr>
        <p:spPr>
          <a:xfrm>
            <a:off x="4643280" y="4365720"/>
            <a:ext cx="360360" cy="35856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4788000" y="4437000"/>
            <a:ext cx="3456000" cy="216000"/>
          </a:xfrm>
          <a:prstGeom prst="rightArrow">
            <a:avLst>
              <a:gd name="adj1" fmla="val 50000"/>
              <a:gd name="adj2" fmla="val 400000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8"/>
          <p:cNvSpPr/>
          <p:nvPr/>
        </p:nvSpPr>
        <p:spPr>
          <a:xfrm>
            <a:off x="3564000" y="4437000"/>
            <a:ext cx="1224000" cy="216000"/>
          </a:xfrm>
          <a:prstGeom prst="lef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9"/>
          <p:cNvSpPr/>
          <p:nvPr/>
        </p:nvSpPr>
        <p:spPr>
          <a:xfrm>
            <a:off x="4788000" y="4292640"/>
            <a:ext cx="1944720" cy="503280"/>
          </a:xfrm>
          <a:prstGeom prst="rightArrow">
            <a:avLst>
              <a:gd name="adj1" fmla="val 50000"/>
              <a:gd name="adj2" fmla="val 96602"/>
            </a:avLst>
          </a:prstGeom>
          <a:solidFill>
            <a:srgbClr val="e19b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0"/>
          <p:cNvSpPr/>
          <p:nvPr/>
        </p:nvSpPr>
        <p:spPr>
          <a:xfrm>
            <a:off x="3132000" y="4653000"/>
            <a:ext cx="576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1"/>
          <p:cNvSpPr/>
          <p:nvPr/>
        </p:nvSpPr>
        <p:spPr>
          <a:xfrm>
            <a:off x="3203640" y="465300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7812000" y="4724280"/>
            <a:ext cx="79236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5"/>
          <p:cNvSpPr/>
          <p:nvPr/>
        </p:nvSpPr>
        <p:spPr>
          <a:xfrm>
            <a:off x="7885080" y="472428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6"/>
          <p:cNvSpPr/>
          <p:nvPr/>
        </p:nvSpPr>
        <p:spPr>
          <a:xfrm>
            <a:off x="5219640" y="4797360"/>
            <a:ext cx="79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7"/>
          <p:cNvSpPr/>
          <p:nvPr/>
        </p:nvSpPr>
        <p:spPr>
          <a:xfrm>
            <a:off x="5292720" y="4797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9"/>
          <p:cNvSpPr/>
          <p:nvPr/>
        </p:nvSpPr>
        <p:spPr>
          <a:xfrm>
            <a:off x="3059280" y="5516640"/>
            <a:ext cx="3528720" cy="64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 – F</a:t>
            </a:r>
            <a:r>
              <a:rPr b="1" lang="en-US" sz="32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1">
            <a:hlinkClick r:id="" action="ppaction://hlinkshowjump?jump=previousslide"/>
          </p:cNvPr>
          <p:cNvSpPr/>
          <p:nvPr/>
        </p:nvSpPr>
        <p:spPr>
          <a:xfrm>
            <a:off x="6877080" y="6237360"/>
            <a:ext cx="790560" cy="43164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546" h="21600">
                <a:moveTo>
                  <a:pt x="0" y="0"/>
                </a:moveTo>
                <a:lnTo>
                  <a:pt x="39546" y="0"/>
                </a:lnTo>
                <a:lnTo>
                  <a:pt x="39546" y="21600"/>
                </a:lnTo>
                <a:lnTo>
                  <a:pt x="0" y="21600"/>
                </a:lnTo>
                <a:close/>
              </a:path>
              <a:path fill="lightenLess" w="39546" h="21600">
                <a:moveTo>
                  <a:pt x="0" y="0"/>
                </a:moveTo>
                <a:lnTo>
                  <a:pt x="39546" y="0"/>
                </a:lnTo>
                <a:lnTo>
                  <a:pt x="38146" y="1400"/>
                </a:lnTo>
                <a:lnTo>
                  <a:pt x="1400" y="1400"/>
                </a:lnTo>
                <a:close/>
              </a:path>
              <a:path fill="darken" w="39546" h="21600">
                <a:moveTo>
                  <a:pt x="39546" y="0"/>
                </a:moveTo>
                <a:lnTo>
                  <a:pt x="39546" y="21600"/>
                </a:lnTo>
                <a:lnTo>
                  <a:pt x="38146" y="20200"/>
                </a:lnTo>
                <a:lnTo>
                  <a:pt x="38146" y="1400"/>
                </a:lnTo>
                <a:close/>
              </a:path>
              <a:path fill="darkenLess" w="39546" h="21600">
                <a:moveTo>
                  <a:pt x="39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46" y="20200"/>
                </a:lnTo>
                <a:close/>
              </a:path>
              <a:path fill="lighten" w="39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46" h="21600">
                <a:moveTo>
                  <a:pt x="12767" y="10800"/>
                </a:moveTo>
                <a:lnTo>
                  <a:pt x="26779" y="3794"/>
                </a:lnTo>
                <a:lnTo>
                  <a:pt x="26779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2">
            <a:hlinkClick r:id="" action="ppaction://hlinkshowjump?jump=nextslide"/>
          </p:cNvPr>
          <p:cNvSpPr/>
          <p:nvPr/>
        </p:nvSpPr>
        <p:spPr>
          <a:xfrm>
            <a:off x="7740720" y="6237360"/>
            <a:ext cx="718920" cy="43164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5964" h="21600">
                <a:moveTo>
                  <a:pt x="0" y="0"/>
                </a:moveTo>
                <a:lnTo>
                  <a:pt x="35964" y="0"/>
                </a:lnTo>
                <a:lnTo>
                  <a:pt x="35964" y="21600"/>
                </a:lnTo>
                <a:lnTo>
                  <a:pt x="0" y="21600"/>
                </a:lnTo>
                <a:close/>
              </a:path>
              <a:path fill="lightenLess" w="35964" h="21600">
                <a:moveTo>
                  <a:pt x="0" y="0"/>
                </a:moveTo>
                <a:lnTo>
                  <a:pt x="35964" y="0"/>
                </a:lnTo>
                <a:lnTo>
                  <a:pt x="34564" y="1400"/>
                </a:lnTo>
                <a:lnTo>
                  <a:pt x="1400" y="1400"/>
                </a:lnTo>
                <a:close/>
              </a:path>
              <a:path fill="darken" w="35964" h="21600">
                <a:moveTo>
                  <a:pt x="35964" y="0"/>
                </a:moveTo>
                <a:lnTo>
                  <a:pt x="35964" y="21600"/>
                </a:lnTo>
                <a:lnTo>
                  <a:pt x="34564" y="20200"/>
                </a:lnTo>
                <a:lnTo>
                  <a:pt x="34564" y="1400"/>
                </a:lnTo>
                <a:close/>
              </a:path>
              <a:path fill="darkenLess" w="35964" h="21600">
                <a:moveTo>
                  <a:pt x="35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4" y="20200"/>
                </a:lnTo>
                <a:close/>
              </a:path>
              <a:path fill="lighten" w="35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4" h="21600">
                <a:moveTo>
                  <a:pt x="10976" y="3794"/>
                </a:moveTo>
                <a:lnTo>
                  <a:pt x="24988" y="10800"/>
                </a:lnTo>
                <a:lnTo>
                  <a:pt x="10976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1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2" dur="250" autoRev="1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7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8" dur="250" autoRev="1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250" autoRev="1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500" autoRev="1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AutoShape 15"/>
          <p:cNvSpPr/>
          <p:nvPr/>
        </p:nvSpPr>
        <p:spPr>
          <a:xfrm>
            <a:off x="3924360" y="4508640"/>
            <a:ext cx="1655640" cy="718920"/>
          </a:xfrm>
          <a:prstGeom prst="roundRect">
            <a:avLst>
              <a:gd name="adj" fmla="val 16667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539640" y="549360"/>
            <a:ext cx="475308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к телу приложены дв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равные по модулю и противоположные по направлению силы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, то равнодействующая равна нулю, а тело движется прямолинейно и равномер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"/>
          <p:cNvSpPr/>
          <p:nvPr/>
        </p:nvSpPr>
        <p:spPr>
          <a:xfrm>
            <a:off x="2124000" y="3429000"/>
            <a:ext cx="287280" cy="28728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6"/>
          <p:cNvSpPr/>
          <p:nvPr/>
        </p:nvSpPr>
        <p:spPr>
          <a:xfrm>
            <a:off x="2268360" y="3429000"/>
            <a:ext cx="1657440" cy="289080"/>
          </a:xfrm>
          <a:prstGeom prst="rightArrow">
            <a:avLst>
              <a:gd name="adj1" fmla="val 50000"/>
              <a:gd name="adj2" fmla="val 14333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7"/>
          <p:cNvSpPr/>
          <p:nvPr/>
        </p:nvSpPr>
        <p:spPr>
          <a:xfrm>
            <a:off x="755640" y="3429000"/>
            <a:ext cx="1511280" cy="289080"/>
          </a:xfrm>
          <a:prstGeom prst="leftArrow">
            <a:avLst>
              <a:gd name="adj1" fmla="val 50000"/>
              <a:gd name="adj2" fmla="val 13069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684360" y="3789360"/>
            <a:ext cx="64764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0"/>
          <p:cNvSpPr/>
          <p:nvPr/>
        </p:nvSpPr>
        <p:spPr>
          <a:xfrm>
            <a:off x="3348000" y="3789360"/>
            <a:ext cx="503280" cy="40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19b0b"/>
                </a:solidFill>
                <a:latin typeface="Comic Sans MS"/>
              </a:rPr>
              <a:t>F</a:t>
            </a:r>
            <a:r>
              <a:rPr b="1" lang="en-US" sz="1800" spc="-1" strike="noStrike" baseline="-25000">
                <a:solidFill>
                  <a:srgbClr val="e19b0b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1"/>
          <p:cNvSpPr/>
          <p:nvPr/>
        </p:nvSpPr>
        <p:spPr>
          <a:xfrm>
            <a:off x="755640" y="3789360"/>
            <a:ext cx="21600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2"/>
          <p:cNvSpPr/>
          <p:nvPr/>
        </p:nvSpPr>
        <p:spPr>
          <a:xfrm>
            <a:off x="3419640" y="3789360"/>
            <a:ext cx="215640" cy="0"/>
          </a:xfrm>
          <a:prstGeom prst="line">
            <a:avLst/>
          </a:prstGeom>
          <a:ln w="9360">
            <a:solidFill>
              <a:srgbClr val="e19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3"/>
          <p:cNvSpPr/>
          <p:nvPr/>
        </p:nvSpPr>
        <p:spPr>
          <a:xfrm>
            <a:off x="2916360" y="450864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4"/>
          <p:cNvSpPr/>
          <p:nvPr/>
        </p:nvSpPr>
        <p:spPr>
          <a:xfrm>
            <a:off x="3564000" y="4581360"/>
            <a:ext cx="2374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19b0b"/>
                </a:solidFill>
                <a:latin typeface="Comic Sans MS"/>
              </a:rPr>
              <a:t>R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6"/>
          <p:cNvSpPr/>
          <p:nvPr/>
        </p:nvSpPr>
        <p:spPr>
          <a:xfrm>
            <a:off x="5940360" y="3500280"/>
            <a:ext cx="1944720" cy="0"/>
          </a:xfrm>
          <a:prstGeom prst="line">
            <a:avLst/>
          </a:prstGeom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7"/>
          <p:cNvSpPr/>
          <p:nvPr/>
        </p:nvSpPr>
        <p:spPr>
          <a:xfrm>
            <a:off x="6732720" y="2997360"/>
            <a:ext cx="576000" cy="504720"/>
          </a:xfrm>
          <a:prstGeom prst="rect">
            <a:avLst/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18"/>
          <p:cNvSpPr/>
          <p:nvPr/>
        </p:nvSpPr>
        <p:spPr>
          <a:xfrm>
            <a:off x="6877080" y="3500280"/>
            <a:ext cx="216000" cy="1008360"/>
          </a:xfrm>
          <a:prstGeom prst="downArrow">
            <a:avLst>
              <a:gd name="adj1" fmla="val 50000"/>
              <a:gd name="adj2" fmla="val 116708"/>
            </a:avLst>
          </a:prstGeom>
          <a:solidFill>
            <a:srgbClr val="f5b123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9"/>
          <p:cNvSpPr/>
          <p:nvPr/>
        </p:nvSpPr>
        <p:spPr>
          <a:xfrm>
            <a:off x="6877080" y="2492280"/>
            <a:ext cx="216000" cy="1008000"/>
          </a:xfrm>
          <a:prstGeom prst="upArrow">
            <a:avLst>
              <a:gd name="adj1" fmla="val 50000"/>
              <a:gd name="adj2" fmla="val 116667"/>
            </a:avLst>
          </a:prstGeom>
          <a:solidFill>
            <a:srgbClr val="00ffcc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20"/>
          <p:cNvSpPr/>
          <p:nvPr/>
        </p:nvSpPr>
        <p:spPr>
          <a:xfrm>
            <a:off x="7236000" y="4005360"/>
            <a:ext cx="647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21"/>
          <p:cNvSpPr/>
          <p:nvPr/>
        </p:nvSpPr>
        <p:spPr>
          <a:xfrm>
            <a:off x="7236000" y="2492280"/>
            <a:ext cx="5029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99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22"/>
          <p:cNvSpPr/>
          <p:nvPr/>
        </p:nvSpPr>
        <p:spPr>
          <a:xfrm>
            <a:off x="7308720" y="2492280"/>
            <a:ext cx="216000" cy="0"/>
          </a:xfrm>
          <a:prstGeom prst="line">
            <a:avLst/>
          </a:prstGeom>
          <a:ln w="9360">
            <a:solidFill>
              <a:srgbClr val="00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23"/>
          <p:cNvSpPr/>
          <p:nvPr/>
        </p:nvSpPr>
        <p:spPr>
          <a:xfrm>
            <a:off x="7308720" y="407664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24">
            <a:hlinkClick r:id="" action="ppaction://hlinkshowjump?jump=nextslide"/>
          </p:cNvPr>
          <p:cNvSpPr/>
          <p:nvPr/>
        </p:nvSpPr>
        <p:spPr>
          <a:xfrm>
            <a:off x="781200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25">
            <a:hlinkClick r:id="" action="ppaction://hlinkshowjump?jump=previousslide"/>
          </p:cNvPr>
          <p:cNvSpPr/>
          <p:nvPr/>
        </p:nvSpPr>
        <p:spPr>
          <a:xfrm>
            <a:off x="687708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500" autoRev="1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2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3" dur="500" autoRev="1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500" autoRev="1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1"/>
          <p:cNvSpPr/>
          <p:nvPr/>
        </p:nvSpPr>
        <p:spPr>
          <a:xfrm flipV="1">
            <a:off x="2195640" y="3068640"/>
            <a:ext cx="2879640" cy="504720"/>
          </a:xfrm>
          <a:prstGeom prst="rightArrow">
            <a:avLst>
              <a:gd name="adj1" fmla="val 50000"/>
              <a:gd name="adj2" fmla="val 142636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8"/>
          <p:cNvSpPr/>
          <p:nvPr/>
        </p:nvSpPr>
        <p:spPr>
          <a:xfrm>
            <a:off x="1116000" y="692280"/>
            <a:ext cx="6551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е равнодействующую си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0"/>
          <p:cNvSpPr/>
          <p:nvPr/>
        </p:nvSpPr>
        <p:spPr>
          <a:xfrm>
            <a:off x="900000" y="126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"/>
          <p:cNvSpPr/>
          <p:nvPr/>
        </p:nvSpPr>
        <p:spPr>
          <a:xfrm>
            <a:off x="2700360" y="170028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2771640" y="1628640"/>
            <a:ext cx="2448000" cy="432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a51009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050920" y="1628640"/>
            <a:ext cx="720720" cy="432000"/>
          </a:xfrm>
          <a:prstGeom prst="leftArrow">
            <a:avLst>
              <a:gd name="adj1" fmla="val 50000"/>
              <a:gd name="adj2" fmla="val 41708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1619280" y="1989000"/>
            <a:ext cx="22320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5076720" y="1916280"/>
            <a:ext cx="1295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8"/>
          <p:cNvSpPr/>
          <p:nvPr/>
        </p:nvSpPr>
        <p:spPr>
          <a:xfrm>
            <a:off x="900000" y="306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9"/>
          <p:cNvSpPr/>
          <p:nvPr/>
        </p:nvSpPr>
        <p:spPr>
          <a:xfrm>
            <a:off x="2124000" y="3213000"/>
            <a:ext cx="144360" cy="21600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20"/>
          <p:cNvSpPr/>
          <p:nvPr/>
        </p:nvSpPr>
        <p:spPr>
          <a:xfrm>
            <a:off x="2195640" y="3068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ddddd"/>
          </a:solidFill>
          <a:ln w="9360">
            <a:solidFill>
              <a:srgbClr val="e19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2"/>
          <p:cNvSpPr/>
          <p:nvPr/>
        </p:nvSpPr>
        <p:spPr>
          <a:xfrm>
            <a:off x="1692360" y="3500280"/>
            <a:ext cx="1225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1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3"/>
          <p:cNvSpPr/>
          <p:nvPr/>
        </p:nvSpPr>
        <p:spPr>
          <a:xfrm>
            <a:off x="5076720" y="3429000"/>
            <a:ext cx="151308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3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900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Oval 25"/>
          <p:cNvSpPr/>
          <p:nvPr/>
        </p:nvSpPr>
        <p:spPr>
          <a:xfrm>
            <a:off x="3492360" y="4653000"/>
            <a:ext cx="216000" cy="288720"/>
          </a:xfrm>
          <a:prstGeom prst="ellipse">
            <a:avLst/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27"/>
          <p:cNvSpPr/>
          <p:nvPr/>
        </p:nvSpPr>
        <p:spPr>
          <a:xfrm>
            <a:off x="3564000" y="4581360"/>
            <a:ext cx="1584360" cy="432000"/>
          </a:xfrm>
          <a:prstGeom prst="rightArrow">
            <a:avLst>
              <a:gd name="adj1" fmla="val 50000"/>
              <a:gd name="adj2" fmla="val 91688"/>
            </a:avLst>
          </a:prstGeom>
          <a:solidFill>
            <a:srgbClr val="a510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8"/>
          <p:cNvSpPr/>
          <p:nvPr/>
        </p:nvSpPr>
        <p:spPr>
          <a:xfrm>
            <a:off x="2124000" y="4581360"/>
            <a:ext cx="1440000" cy="432000"/>
          </a:xfrm>
          <a:prstGeom prst="leftArrow">
            <a:avLst>
              <a:gd name="adj1" fmla="val 50000"/>
              <a:gd name="adj2" fmla="val 83333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9"/>
          <p:cNvSpPr/>
          <p:nvPr/>
        </p:nvSpPr>
        <p:spPr>
          <a:xfrm>
            <a:off x="2340000" y="5084640"/>
            <a:ext cx="10796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0"/>
          <p:cNvSpPr/>
          <p:nvPr/>
        </p:nvSpPr>
        <p:spPr>
          <a:xfrm>
            <a:off x="4643280" y="5084640"/>
            <a:ext cx="1297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19b0b"/>
                </a:solidFill>
                <a:latin typeface="Comic Sans MS"/>
              </a:rPr>
              <a:t>2 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2">
            <a:hlinkClick r:id="" action="ppaction://hlinkshowjump?jump=nextslide"/>
          </p:cNvPr>
          <p:cNvSpPr/>
          <p:nvPr/>
        </p:nvSpPr>
        <p:spPr>
          <a:xfrm>
            <a:off x="7740720" y="6165720"/>
            <a:ext cx="718920" cy="432000"/>
          </a:xfrm>
          <a:custGeom>
            <a:avLst/>
            <a:gdLst>
              <a:gd name="textAreaLeft" fmla="*/ 27720 w 718920"/>
              <a:gd name="textAreaRight" fmla="*/ 691200 w 718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34" h="21600">
                <a:moveTo>
                  <a:pt x="0" y="0"/>
                </a:moveTo>
                <a:lnTo>
                  <a:pt x="35934" y="0"/>
                </a:lnTo>
                <a:lnTo>
                  <a:pt x="35934" y="21600"/>
                </a:lnTo>
                <a:lnTo>
                  <a:pt x="0" y="21600"/>
                </a:lnTo>
                <a:close/>
              </a:path>
              <a:path fill="lightenLess" w="35934" h="21600">
                <a:moveTo>
                  <a:pt x="0" y="0"/>
                </a:moveTo>
                <a:lnTo>
                  <a:pt x="35934" y="0"/>
                </a:lnTo>
                <a:lnTo>
                  <a:pt x="34534" y="1400"/>
                </a:lnTo>
                <a:lnTo>
                  <a:pt x="1400" y="1400"/>
                </a:lnTo>
                <a:close/>
              </a:path>
              <a:path fill="darken" w="35934" h="21600">
                <a:moveTo>
                  <a:pt x="35934" y="0"/>
                </a:moveTo>
                <a:lnTo>
                  <a:pt x="35934" y="21600"/>
                </a:lnTo>
                <a:lnTo>
                  <a:pt x="34534" y="20200"/>
                </a:lnTo>
                <a:lnTo>
                  <a:pt x="34534" y="1400"/>
                </a:lnTo>
                <a:close/>
              </a:path>
              <a:path fill="darkenLess" w="35934" h="21600">
                <a:moveTo>
                  <a:pt x="359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34" y="20200"/>
                </a:lnTo>
                <a:close/>
              </a:path>
              <a:path fill="lighten" w="359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34" h="21600">
                <a:moveTo>
                  <a:pt x="10961" y="3794"/>
                </a:moveTo>
                <a:lnTo>
                  <a:pt x="24974" y="10800"/>
                </a:lnTo>
                <a:lnTo>
                  <a:pt x="10961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673272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500" autoRev="1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репка"/>
          <p:cNvPicPr/>
          <p:nvPr/>
        </p:nvPicPr>
        <p:blipFill>
          <a:blip r:embed="rId1"/>
          <a:stretch/>
        </p:blipFill>
        <p:spPr>
          <a:xfrm>
            <a:off x="539640" y="404640"/>
            <a:ext cx="4896000" cy="3611880"/>
          </a:xfrm>
          <a:prstGeom prst="rect">
            <a:avLst/>
          </a:prstGeom>
          <a:ln w="0">
            <a:noFill/>
          </a:ln>
        </p:spPr>
      </p:pic>
      <p:sp>
        <p:nvSpPr>
          <p:cNvPr id="656" name="Text Box 5"/>
          <p:cNvSpPr/>
          <p:nvPr/>
        </p:nvSpPr>
        <p:spPr>
          <a:xfrm>
            <a:off x="1979640" y="422100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6"/>
          <p:cNvSpPr/>
          <p:nvPr/>
        </p:nvSpPr>
        <p:spPr>
          <a:xfrm>
            <a:off x="1116000" y="4149720"/>
            <a:ext cx="727092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Дед, взявшись за репку, развивает силу тяги до 600 Н, бабка до 100 Н, внучка до 50 Н, Жучка до 30 Н, кошка до 10 Н и мышка до 2 Н. Чему равна равнодействующая всех сил, направленных по одной прямой в одну и ту же сторону? Справилась бы с репкой эта компания без мышки, если силы, удерживающие репку, равны 791 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5940360" y="2852640"/>
            <a:ext cx="2232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Comic Sans MS"/>
              </a:rPr>
              <a:t>Решите задач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8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02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36102" h="21600">
                <a:moveTo>
                  <a:pt x="0" y="0"/>
                </a:moveTo>
                <a:lnTo>
                  <a:pt x="36102" y="0"/>
                </a:lnTo>
                <a:lnTo>
                  <a:pt x="36102" y="21600"/>
                </a:lnTo>
                <a:lnTo>
                  <a:pt x="0" y="21600"/>
                </a:lnTo>
                <a:close/>
              </a:path>
              <a:path fill="lightenLess" w="36102" h="21600">
                <a:moveTo>
                  <a:pt x="0" y="0"/>
                </a:moveTo>
                <a:lnTo>
                  <a:pt x="36102" y="0"/>
                </a:lnTo>
                <a:lnTo>
                  <a:pt x="34702" y="1400"/>
                </a:lnTo>
                <a:lnTo>
                  <a:pt x="1400" y="1400"/>
                </a:lnTo>
                <a:close/>
              </a:path>
              <a:path fill="darken" w="36102" h="21600">
                <a:moveTo>
                  <a:pt x="36102" y="0"/>
                </a:moveTo>
                <a:lnTo>
                  <a:pt x="36102" y="21600"/>
                </a:lnTo>
                <a:lnTo>
                  <a:pt x="34702" y="20200"/>
                </a:lnTo>
                <a:lnTo>
                  <a:pt x="34702" y="1400"/>
                </a:lnTo>
                <a:close/>
              </a:path>
              <a:path fill="darkenLess" w="36102" h="21600">
                <a:moveTo>
                  <a:pt x="36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702" y="20200"/>
                </a:lnTo>
                <a:close/>
              </a:path>
              <a:path fill="lighten" w="36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102" h="21600">
                <a:moveTo>
                  <a:pt x="11045" y="3794"/>
                </a:moveTo>
                <a:lnTo>
                  <a:pt x="25058" y="10800"/>
                </a:lnTo>
                <a:lnTo>
                  <a:pt x="11045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0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парашют"/>
          <p:cNvPicPr/>
          <p:nvPr/>
        </p:nvPicPr>
        <p:blipFill>
          <a:blip r:embed="rId1"/>
          <a:stretch/>
        </p:blipFill>
        <p:spPr>
          <a:xfrm>
            <a:off x="0" y="0"/>
            <a:ext cx="5256360" cy="394164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6"/>
          <p:cNvSpPr/>
          <p:nvPr/>
        </p:nvSpPr>
        <p:spPr>
          <a:xfrm>
            <a:off x="2050920" y="4365720"/>
            <a:ext cx="5977080" cy="1922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ортсмен равномерно спускается на парашюте. Какова сила тяжести, действующая на парашютиста вместе с парашютом? Сила сопротивления воздуха 800 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7">
            <a:hlinkClick r:id="" action="ppaction://hlinkshowjump?jump=nextslide"/>
          </p:cNvPr>
          <p:cNvSpPr/>
          <p:nvPr/>
        </p:nvSpPr>
        <p:spPr>
          <a:xfrm>
            <a:off x="7885080" y="6165720"/>
            <a:ext cx="719280" cy="432000"/>
          </a:xfrm>
          <a:custGeom>
            <a:avLst/>
            <a:gdLst>
              <a:gd name="textAreaLeft" fmla="*/ 27720 w 719280"/>
              <a:gd name="textAreaRight" fmla="*/ 691560 w 719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5952" h="21600">
                <a:moveTo>
                  <a:pt x="0" y="0"/>
                </a:moveTo>
                <a:lnTo>
                  <a:pt x="35952" y="0"/>
                </a:lnTo>
                <a:lnTo>
                  <a:pt x="35952" y="21600"/>
                </a:lnTo>
                <a:lnTo>
                  <a:pt x="0" y="21600"/>
                </a:lnTo>
                <a:close/>
              </a:path>
              <a:path fill="lightenLess" w="35952" h="21600">
                <a:moveTo>
                  <a:pt x="0" y="0"/>
                </a:moveTo>
                <a:lnTo>
                  <a:pt x="35952" y="0"/>
                </a:lnTo>
                <a:lnTo>
                  <a:pt x="34552" y="1400"/>
                </a:lnTo>
                <a:lnTo>
                  <a:pt x="1400" y="1400"/>
                </a:lnTo>
                <a:close/>
              </a:path>
              <a:path fill="darken" w="35952" h="21600">
                <a:moveTo>
                  <a:pt x="35952" y="0"/>
                </a:moveTo>
                <a:lnTo>
                  <a:pt x="35952" y="21600"/>
                </a:lnTo>
                <a:lnTo>
                  <a:pt x="34552" y="20200"/>
                </a:lnTo>
                <a:lnTo>
                  <a:pt x="34552" y="1400"/>
                </a:lnTo>
                <a:close/>
              </a:path>
              <a:path fill="darkenLess" w="35952" h="21600">
                <a:moveTo>
                  <a:pt x="359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52" y="20200"/>
                </a:lnTo>
                <a:close/>
              </a:path>
              <a:path fill="lighten" w="359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52" h="21600">
                <a:moveTo>
                  <a:pt x="10970" y="3794"/>
                </a:moveTo>
                <a:lnTo>
                  <a:pt x="24983" y="10800"/>
                </a:lnTo>
                <a:lnTo>
                  <a:pt x="10970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8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790560" cy="432000"/>
          </a:xfrm>
          <a:custGeom>
            <a:avLst/>
            <a:gdLst>
              <a:gd name="textAreaLeft" fmla="*/ 27720 w 790560"/>
              <a:gd name="textAreaRight" fmla="*/ 762840 w 790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9513" h="21600">
                <a:moveTo>
                  <a:pt x="0" y="0"/>
                </a:moveTo>
                <a:lnTo>
                  <a:pt x="39513" y="0"/>
                </a:lnTo>
                <a:lnTo>
                  <a:pt x="39513" y="21600"/>
                </a:lnTo>
                <a:lnTo>
                  <a:pt x="0" y="21600"/>
                </a:lnTo>
                <a:close/>
              </a:path>
              <a:path fill="lightenLess" w="39513" h="21600">
                <a:moveTo>
                  <a:pt x="0" y="0"/>
                </a:moveTo>
                <a:lnTo>
                  <a:pt x="39513" y="0"/>
                </a:lnTo>
                <a:lnTo>
                  <a:pt x="38113" y="1400"/>
                </a:lnTo>
                <a:lnTo>
                  <a:pt x="1400" y="1400"/>
                </a:lnTo>
                <a:close/>
              </a:path>
              <a:path fill="darken" w="39513" h="21600">
                <a:moveTo>
                  <a:pt x="39513" y="0"/>
                </a:moveTo>
                <a:lnTo>
                  <a:pt x="39513" y="21600"/>
                </a:lnTo>
                <a:lnTo>
                  <a:pt x="38113" y="20200"/>
                </a:lnTo>
                <a:lnTo>
                  <a:pt x="38113" y="1400"/>
                </a:lnTo>
                <a:close/>
              </a:path>
              <a:path fill="darkenLess" w="39513" h="21600">
                <a:moveTo>
                  <a:pt x="39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13" y="20200"/>
                </a:lnTo>
                <a:close/>
              </a:path>
              <a:path fill="lighten" w="39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13" h="21600">
                <a:moveTo>
                  <a:pt x="12750" y="10800"/>
                </a:moveTo>
                <a:lnTo>
                  <a:pt x="26763" y="3794"/>
                </a:lnTo>
                <a:lnTo>
                  <a:pt x="26763" y="17806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6732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4"/>
          <p:cNvSpPr/>
          <p:nvPr/>
        </p:nvSpPr>
        <p:spPr>
          <a:xfrm>
            <a:off x="1332000" y="476280"/>
            <a:ext cx="6769080" cy="21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Comic Sans MS"/>
              </a:rPr>
              <a:t>Благодарю за внимание 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5">
            <a:hlinkClick r:id="" action="ppaction://hlinkshowjump?jump=firstslide"/>
          </p:cNvPr>
          <p:cNvSpPr/>
          <p:nvPr/>
        </p:nvSpPr>
        <p:spPr>
          <a:xfrm>
            <a:off x="7524720" y="5805360"/>
            <a:ext cx="934920" cy="576360"/>
          </a:xfrm>
          <a:custGeom>
            <a:avLst/>
            <a:gdLst>
              <a:gd name="textAreaLeft" fmla="*/ 37080 w 934920"/>
              <a:gd name="textAreaRight" fmla="*/ 897840 w 9349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7515" y="3837"/>
                </a:moveTo>
                <a:lnTo>
                  <a:pt x="20091" y="6448"/>
                </a:ln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lnTo>
                  <a:pt x="24478" y="10800"/>
                </a:lnTo>
                <a:lnTo>
                  <a:pt x="22824" y="10800"/>
                </a:lnTo>
                <a:lnTo>
                  <a:pt x="22824" y="17989"/>
                </a:lnTo>
                <a:lnTo>
                  <a:pt x="12205" y="17989"/>
                </a:lnTo>
                <a:lnTo>
                  <a:pt x="12205" y="10800"/>
                </a:lnTo>
                <a:lnTo>
                  <a:pt x="10552" y="10800"/>
                </a:lnTo>
                <a:close/>
              </a:path>
              <a:path fill="darkenLess" w="35029" h="21600">
                <a:moveTo>
                  <a:pt x="20091" y="6448"/>
                </a:moveTo>
                <a:lnTo>
                  <a:pt x="20091" y="4707"/>
                </a:lnTo>
                <a:lnTo>
                  <a:pt x="21866" y="4707"/>
                </a:lnTo>
                <a:lnTo>
                  <a:pt x="21866" y="8224"/>
                </a:lnTo>
                <a:close/>
              </a:path>
              <a:path fill="darkenLess" w="35029" h="21600">
                <a:moveTo>
                  <a:pt x="16592" y="14299"/>
                </a:moveTo>
                <a:lnTo>
                  <a:pt x="18437" y="14299"/>
                </a:lnTo>
                <a:lnTo>
                  <a:pt x="18437" y="17989"/>
                </a:lnTo>
                <a:lnTo>
                  <a:pt x="22824" y="17989"/>
                </a:lnTo>
                <a:lnTo>
                  <a:pt x="22824" y="10800"/>
                </a:lnTo>
                <a:lnTo>
                  <a:pt x="12205" y="10800"/>
                </a:lnTo>
                <a:lnTo>
                  <a:pt x="12205" y="17989"/>
                </a:lnTo>
                <a:lnTo>
                  <a:pt x="16592" y="17989"/>
                </a:lnTo>
                <a:close/>
              </a:path>
            </a:pathLst>
          </a:custGeom>
          <a:solidFill>
            <a:srgbClr val="a510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4T10:46:43Z</dcterms:created>
  <dc:creator/>
  <dc:description/>
  <dc:language>en-US</dc:language>
  <cp:lastModifiedBy>Пк</cp:lastModifiedBy>
  <dcterms:modified xsi:type="dcterms:W3CDTF">2012-10-28T07:34:04Z</dcterms:modified>
  <cp:revision>26</cp:revision>
  <dc:subject/>
  <dc:title>Урок физики в 7 кл.</dc:title>
</cp:coreProperties>
</file>