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A1D3-F03F-4810-A8E9-35D1A80194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A87E-7F5E-4AAF-A0DC-505CEA41AC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1C8-DEB4-4DCC-9039-0EF8877A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B30-04C9-4F92-8C5D-F483C53B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472-5BC1-44A4-9F0D-08B646F0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ED6-0152-47E1-82A5-41295A34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32E0-4D9D-4674-AD23-E1355FF4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F485-833A-4495-A744-F3C907EE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990A-858B-4009-958B-BDE5E49A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52A7-0DC9-4407-A9BF-C12ABE69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E866-EE39-4C88-9EBC-92094403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8D43-35ED-477E-8C66-47923BC9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04E5-F41C-4503-A94D-20632E32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2D1-8862-4CB6-9733-482AE122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47C1-6171-4E3B-9EBE-E98A9CC1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6007-0B01-49D4-AB90-6CE764B5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3816-254B-483E-8821-C50DA5B6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BD11-A00A-405A-B44A-2C77F065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2713-344E-46D8-999E-771E5F1C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93A1A-9B51-48F9-ADC8-F2179861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9E45E-E74F-4ED5-8AD6-6E2E92A0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23FD4-9A46-4DB9-B2AB-63F7DD8B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5B8A8-47E8-4418-B436-E63D289E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CF950-D8C7-49BC-81C3-C7DC0632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BB3-D5A3-4138-B371-722F4C6C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9097B-3B50-4354-9B15-4CFB4726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DBE8-8AB1-414F-A92E-22393549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B7DF-76BC-4D09-96B6-D3C46BA8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E1FCE-7BDE-4CEC-B7FB-BC7D604E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A3E3F-AA77-43D4-842C-3B044856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135B9-C123-4F2D-87CB-31EE1C46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BF4DE-10B4-4446-B6AF-7766028F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7CE05-D342-4328-A87B-9EB182C8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49CF3-4822-4856-9B6B-FFCF61D5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640EF-1268-4EF7-9FEA-B31E887E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813-B5F6-49E7-BE28-6CEA46E5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0B52C-B8EC-4CB7-88CB-B0D6815F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C9ED2-3AC2-4425-BD7B-87E81C5C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06D5D-DC07-455F-AF6B-18CE9BEA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297B8-29C6-4F80-B501-931CC84E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A2AC-2C9D-49E6-9AB0-DF79C4E9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67FF9-AFE6-4FFC-AE3B-81C480CD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F0B9D-04C6-4889-B206-2CE4883E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8E0A0-9F8A-4370-861B-B7F53817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BF6CF-D12A-47FA-9F21-7E84990D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227-1692-48C2-8D34-BCA6736B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777-70E1-4400-90CA-E6C4925A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FD2-9298-45EB-ACF7-3B534361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092-4695-4BBD-9F4E-33903362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760-3E29-46EC-A52B-F0D81AA6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CB40-2551-416F-95A5-44FF4F72E48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4A30-7E63-4515-9433-377AB6262DB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29E5-F82F-49BF-85F8-9290D710A6F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BA28-0880-4E05-A38B-E284F96B16A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69800" y="523800"/>
            <a:ext cx="8356680" cy="179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268360" y="328428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Выполнил ученик 6ж 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Горошко Александ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Учитель  И.П. Фукс 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8" descr="Н.А. Некрасов"/>
          <p:cNvPicPr/>
          <p:nvPr/>
        </p:nvPicPr>
        <p:blipFill>
          <a:blip r:embed="rId2"/>
          <a:stretch/>
        </p:blipFill>
        <p:spPr>
          <a:xfrm>
            <a:off x="428760" y="2940120"/>
            <a:ext cx="3206520" cy="32972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558000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77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 flipV="1" rot="10799400">
            <a:off x="2174400" y="330840"/>
            <a:ext cx="397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ь и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5960" y="5500800"/>
            <a:ext cx="19288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Н . А .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85840" y="1143000"/>
            <a:ext cx="3000600" cy="3929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6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aramond"/>
              </a:rPr>
              <a:t>Родился Н . А . Некрасов в местечке Немирове подольской губернии в семье мелкопоместного дворянина . детские годы прошли в селе Грешневе , в родовом имении отца , человека деспотического характера , угнетавшего не только крепостных , но и всю семью , чему был свидетелем будущий поэт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85920" y="1000080"/>
            <a:ext cx="3000240" cy="42861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0" name="Picture 2" descr="Николай Алексеевич Некрасов"/>
          <p:cNvPicPr/>
          <p:nvPr/>
        </p:nvPicPr>
        <p:blipFill>
          <a:blip r:embed="rId2"/>
          <a:stretch/>
        </p:blipFill>
        <p:spPr>
          <a:xfrm>
            <a:off x="1357200" y="1071720"/>
            <a:ext cx="288612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840" y="5357520"/>
            <a:ext cx="192888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617b"/>
                </a:solidFill>
                <a:latin typeface="Calibri"/>
              </a:rPr>
              <a:t>Н . А . 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785840" y="1642680"/>
            <a:ext cx="3357720" cy="31431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aramond"/>
              </a:rPr>
              <a:t>Первый сборник «Мечты и звуки» ,   изданный Некрасовым в Петербурге в 1840 на собственные средства , успеха не имел , подвергся резкой критике В . Г . Белинского , с которым Некрасов сблизился позже , в 1842 -43 , в период сотрудничества в                              « Отечественных записках» 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3857760" cy="39290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4" name="Picture 2" descr="Н.А. Некрасов. Фото Деньера, 1864"/>
          <p:cNvPicPr/>
          <p:nvPr/>
        </p:nvPicPr>
        <p:blipFill>
          <a:blip r:embed="rId2"/>
          <a:stretch/>
        </p:blipFill>
        <p:spPr>
          <a:xfrm>
            <a:off x="714240" y="1214280"/>
            <a:ext cx="3714840" cy="378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928960"/>
            <a:ext cx="30002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i="1" lang="ru-RU" sz="18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00760" y="928440"/>
            <a:ext cx="3543120" cy="47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4617b"/>
                </a:solidFill>
                <a:latin typeface="Garamond"/>
              </a:rPr>
              <a:t>В 1843 году поэт знакомится с Виссарионом Белинским , который становится его духовным учителем . В 1846 году Николай Некрасов с И . Панаевым берет в аренду журнал «Современник» , в котором постепенно сосредоточились все лучшие силы тогдашней литературы . В 1862 году Некрасов становится редактором журнала «Отечественные записки» . В нем Некрасов печатает  лучшие свои стихи и поэмы , в том числе «Коробейники» , «Мороз , Красный нос» , «Русские женщины» , частично «Кому на Руси жить хорошо» 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400" y="1142640"/>
            <a:ext cx="21114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Обложка журна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11" descr=""/>
          <p:cNvPicPr/>
          <p:nvPr/>
        </p:nvPicPr>
        <p:blipFill>
          <a:blip r:embed="rId1"/>
          <a:stretch/>
        </p:blipFill>
        <p:spPr>
          <a:xfrm>
            <a:off x="353880" y="5772240"/>
            <a:ext cx="5650200" cy="804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Титульный лист журнала Отечественные Записки"/>
          <p:cNvPicPr/>
          <p:nvPr/>
        </p:nvPicPr>
        <p:blipFill>
          <a:blip r:embed="rId2"/>
          <a:stretch/>
        </p:blipFill>
        <p:spPr>
          <a:xfrm>
            <a:off x="250920" y="2133720"/>
            <a:ext cx="2673360" cy="2500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Автограф Н.А. Некрасова, 1849"/>
          <p:cNvPicPr/>
          <p:nvPr/>
        </p:nvPicPr>
        <p:blipFill>
          <a:blip r:embed="rId3"/>
          <a:stretch/>
        </p:blipFill>
        <p:spPr>
          <a:xfrm>
            <a:off x="2714760" y="350028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Сотрудники журнала Отечественные Записки"/>
          <p:cNvPicPr/>
          <p:nvPr/>
        </p:nvPicPr>
        <p:blipFill>
          <a:blip r:embed="rId4"/>
          <a:stretch/>
        </p:blipFill>
        <p:spPr>
          <a:xfrm>
            <a:off x="3286080" y="12859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09440" y="133200"/>
            <a:ext cx="9358560" cy="6066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357360" y="3285720"/>
            <a:ext cx="12142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1680" y="713880"/>
            <a:ext cx="3714840" cy="5072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5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Именем Некрасова названы улицы: в Петербурге в 1918, в Рыбацком, Парголово. Его имя присвоено библиотеке №9 Смольнинского района и Педагогическому училищу</a:t>
            </a:r>
            <a:r>
              <a:rPr b="0" i="1" lang="en-US" sz="2800" spc="-1" strike="noStrike">
                <a:solidFill>
                  <a:srgbClr val="404040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№1. В 1971 году на углу улицы Некрасова и Греческого проспекта открыт памятник Некрасов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Памятник Н.А. Некрасову в Ярославле"/>
          <p:cNvPicPr/>
          <p:nvPr/>
        </p:nvPicPr>
        <p:blipFill>
          <a:blip r:embed="rId1"/>
          <a:srcRect l="0" t="3452" r="0" b="3452"/>
          <a:stretch/>
        </p:blipFill>
        <p:spPr>
          <a:xfrm>
            <a:off x="214200" y="500040"/>
            <a:ext cx="2301840" cy="2143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Памятник на могиле Н.А. Некрасова"/>
          <p:cNvPicPr/>
          <p:nvPr/>
        </p:nvPicPr>
        <p:blipFill>
          <a:blip r:embed="rId2"/>
          <a:stretch/>
        </p:blipFill>
        <p:spPr>
          <a:xfrm>
            <a:off x="2928960" y="2357280"/>
            <a:ext cx="1857240" cy="179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Памятник Н.А. Некрасову в Санкт-Петербурге"/>
          <p:cNvPicPr/>
          <p:nvPr/>
        </p:nvPicPr>
        <p:blipFill>
          <a:blip r:embed="rId3"/>
          <a:stretch/>
        </p:blipFill>
        <p:spPr>
          <a:xfrm>
            <a:off x="500040" y="3857760"/>
            <a:ext cx="221472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7:25:41Z</dcterms:created>
  <dc:creator>Саша</dc:creator>
  <dc:description/>
  <dc:language>en-US</dc:language>
  <cp:lastModifiedBy>Admin</cp:lastModifiedBy>
  <dcterms:modified xsi:type="dcterms:W3CDTF">2010-02-17T15:25:31Z</dcterms:modified>
  <cp:revision>49</cp:revision>
  <dc:subject/>
  <dc:title>Николай Алексеевич Некрасов</dc:title>
</cp:coreProperties>
</file>