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4.wmf" ContentType="image/x-wmf"/>
  <Override PartName="/ppt/media/image5.jpeg" ContentType="image/jpeg"/>
  <Override PartName="/ppt/media/image6.gif" ContentType="image/gif"/>
  <Override PartName="/ppt/media/image9.wmf" ContentType="image/x-wmf"/>
  <Override PartName="/ppt/media/image11.gif" ContentType="image/gif"/>
  <Override PartName="/ppt/media/image1.gif" ContentType="image/gif"/>
  <Override PartName="/ppt/media/image10.png" ContentType="image/png"/>
  <Override PartName="/ppt/media/image2.gif" ContentType="image/gif"/>
  <Override PartName="/ppt/media/image4.gif" ContentType="image/gif"/>
  <Override PartName="/ppt/media/image7.wmf" ContentType="image/x-wmf"/>
  <Override PartName="/ppt/media/image8.wmf" ContentType="image/x-wmf"/>
  <Override PartName="/ppt/media/image3.jpeg" ContentType="image/jpeg"/>
  <Override PartName="/ppt/media/image12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28C4-6372-4CA9-BF3B-9D3E0D2D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4862-D15C-497B-A02C-D6D90C86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D88D-394A-4218-BEC0-401B99E8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C5DC-BEDC-486E-9394-45164249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2CC1-A9FA-40C0-AF55-A078CD41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2C2E-9879-49DC-9EC6-E5B44E22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8DCC-D9CE-4176-BEE8-C089B842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3BB1-61A6-4786-88E8-EABE4605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7E9D-162D-4397-9588-C4F1BCA0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0362-329B-40BA-9809-C39FEDBA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E501-9A74-4739-82A9-F2515E8E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045C-7AB3-42F5-9472-21599E6D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1E2F-D6AD-4C7F-93A8-43A90143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AA97-C8EF-4A94-A8D3-53AF5314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0534-4C6B-4AB2-87B4-DE9FAEC9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4228-D014-4419-ABA6-EDFF5CBE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A564-3477-41C0-BE31-A6CFFB2B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7F14-C923-4550-9AA4-039C67FA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D78E-4A99-475B-B924-EB56C1CA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E2AD-5E5E-4AF3-87EA-04F1A9E4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BDC2-B97A-4288-8C9F-99F74595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A857-2616-43F8-BBD2-266E0751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1BF8-FD2F-4AAE-804F-A977044B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800F-A8EF-45C7-9B6D-0CFB0439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773E-C705-49E6-AC94-ECFAAA65341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1FAA-ED70-4498-A716-9FA2D150001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едложение и текст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има. Морозн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732720" y="4835520"/>
            <a:ext cx="1954080" cy="1681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11280" y="4802040"/>
            <a:ext cx="1728720" cy="1567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Разбор текст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Предложение выражает законченную мысль .Оно может состоять из одного или нескольких слов. Слова в предложении связаны по смыслу. Первое слово в предложение пишется с большой буквы. В конце предложения ставиться точ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очитайте предлож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Зима. Морозно. Падает пушистый снег. Побелели крыши домов .Малыши радуются снег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54560" y="1828800"/>
            <a:ext cx="2482920" cy="1752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643280" y="3716280"/>
            <a:ext cx="40482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omic Sans MS"/>
              </a:rPr>
              <a:t>Знаки препин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398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1" action="ppaction://hlinksldjump"/>
              </a:rPr>
              <a:t>Восклицательный знак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2" action="ppaction://hlinksldjump"/>
              </a:rPr>
              <a:t>(!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3" action="ppaction://hlinksldjump"/>
              </a:rPr>
              <a:t>Вопросительный знак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4" action="ppaction://hlinksldjump"/>
              </a:rPr>
              <a:t>(?)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5" action="ppaction://hlinksldjump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3132000" y="2828880"/>
            <a:ext cx="5499360" cy="3745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едлож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4280" y="2394720"/>
            <a:ext cx="7866720" cy="1731240"/>
            <a:chOff x="674280" y="2394720"/>
            <a:chExt cx="7866720" cy="1731240"/>
          </a:xfrm>
        </p:grpSpPr>
        <p:cxnSp>
          <p:nvCxnSpPr>
            <p:cNvPr id="164" name="_s23588"/>
            <p:cNvCxnSpPr>
              <a:stCxn id="165" idx="0"/>
              <a:endCxn id="166" idx="2"/>
            </p:cNvCxnSpPr>
            <p:nvPr/>
          </p:nvCxnSpPr>
          <p:spPr>
            <a:xfrm flipV="1" rot="16200000">
              <a:off x="5749200" y="1945080"/>
              <a:ext cx="346320" cy="2627640"/>
            </a:xfrm>
            <a:prstGeom prst="bentConnector3">
              <a:avLst>
                <a:gd name="adj1" fmla="val 329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23587"/>
            <p:cNvCxnSpPr>
              <a:stCxn id="168" idx="0"/>
              <a:endCxn id="166" idx="2"/>
            </p:cNvCxnSpPr>
            <p:nvPr/>
          </p:nvCxnSpPr>
          <p:spPr>
            <a:xfrm flipV="1">
              <a:off x="4608000" y="3085920"/>
              <a:ext cx="1080" cy="34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23586"/>
            <p:cNvCxnSpPr>
              <a:stCxn id="170" idx="0"/>
              <a:endCxn id="166" idx="2"/>
            </p:cNvCxnSpPr>
            <p:nvPr/>
          </p:nvCxnSpPr>
          <p:spPr>
            <a:xfrm flipH="1" flipV="1" rot="5400000">
              <a:off x="3121560" y="1945080"/>
              <a:ext cx="346320" cy="2627640"/>
            </a:xfrm>
            <a:prstGeom prst="bentConnector3">
              <a:avLst>
                <a:gd name="adj1" fmla="val 329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23582"/>
            <p:cNvSpPr/>
            <p:nvPr/>
          </p:nvSpPr>
          <p:spPr>
            <a:xfrm>
              <a:off x="3724200" y="2394720"/>
              <a:ext cx="1766880" cy="6901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Большая букв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23583"/>
            <p:cNvSpPr/>
            <p:nvPr/>
          </p:nvSpPr>
          <p:spPr>
            <a:xfrm>
              <a:off x="67428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В именах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23584"/>
            <p:cNvSpPr/>
            <p:nvPr/>
          </p:nvSpPr>
          <p:spPr>
            <a:xfrm>
              <a:off x="330192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В кличках животных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23585"/>
            <p:cNvSpPr/>
            <p:nvPr/>
          </p:nvSpPr>
          <p:spPr>
            <a:xfrm>
              <a:off x="592956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В названиях город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419640" y="515772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763640" cy="1752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908000" y="4724280"/>
            <a:ext cx="1116360" cy="1752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227640" y="4941720"/>
            <a:ext cx="1820880" cy="1339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867280" y="4149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анкт-Петер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4508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450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мка. Пуш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429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рия.Евгения.Рим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к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749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ва или несколько предложений , которые связаны по смыслу , образуют текст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Дяте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Дятел выстукивает носом деревья . Носом он разбивает и шишки .Дупло дятел долбит тем же носом . Крепкий нос дятла пробивает дырочки на березе. Потом он пьет березовый со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(По Н. Сладкову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940360" y="1413000"/>
          <a:ext cx="1871640" cy="198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1413000"/>
                    <a:ext cx="1871640" cy="19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076720" y="3573360"/>
            <a:ext cx="35276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alisto MT"/>
              </a:rPr>
              <a:t>Восклицательный зна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5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В конце предложений ,которые выражают сильное чувство, ставиться восклицательный зна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(!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_ Да тут только корешки и травки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_ Лесные корешки и травки дороже любого клада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7380360" y="5877000"/>
            <a:ext cx="1079280" cy="64764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8" y="10800"/>
                </a:moveTo>
                <a:lnTo>
                  <a:pt x="25000" y="3794"/>
                </a:lnTo>
                <a:lnTo>
                  <a:pt x="2500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771640" y="5300640"/>
            <a:ext cx="2160720" cy="1557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692360" y="3716280"/>
            <a:ext cx="259236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entury Schoolbook"/>
              </a:rPr>
              <a:t>Вопросительный зна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48800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В конце предложений , в которых содержитс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вопрос , ставиться вопросительный зна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(?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_ Ой! Кто это ? Что вам от нас надо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Где же мои утята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00000" y="5157720"/>
            <a:ext cx="2303640" cy="1150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403280" y="3716280"/>
            <a:ext cx="1617840" cy="100800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7164360" y="6165720"/>
            <a:ext cx="1079640" cy="692280"/>
          </a:xfrm>
          <a:custGeom>
            <a:avLst/>
            <a:gdLst>
              <a:gd name="textAreaLeft" fmla="*/ 44640 w 1079640"/>
              <a:gd name="textAreaRight" fmla="*/ 1035000 w 1079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3680" h="21600">
                <a:moveTo>
                  <a:pt x="0" y="0"/>
                </a:moveTo>
                <a:lnTo>
                  <a:pt x="33680" y="0"/>
                </a:lnTo>
                <a:lnTo>
                  <a:pt x="33680" y="21600"/>
                </a:lnTo>
                <a:lnTo>
                  <a:pt x="0" y="21600"/>
                </a:lnTo>
                <a:close/>
              </a:path>
              <a:path fill="lightenLess" w="33680" h="21600">
                <a:moveTo>
                  <a:pt x="0" y="0"/>
                </a:moveTo>
                <a:lnTo>
                  <a:pt x="33680" y="0"/>
                </a:lnTo>
                <a:lnTo>
                  <a:pt x="32280" y="1400"/>
                </a:lnTo>
                <a:lnTo>
                  <a:pt x="1400" y="1400"/>
                </a:lnTo>
                <a:close/>
              </a:path>
              <a:path fill="darken" w="33680" h="21600">
                <a:moveTo>
                  <a:pt x="33680" y="0"/>
                </a:moveTo>
                <a:lnTo>
                  <a:pt x="33680" y="21600"/>
                </a:lnTo>
                <a:lnTo>
                  <a:pt x="32280" y="20200"/>
                </a:lnTo>
                <a:lnTo>
                  <a:pt x="32280" y="1400"/>
                </a:lnTo>
                <a:close/>
              </a:path>
              <a:path fill="darkenLess" w="33680" h="21600">
                <a:moveTo>
                  <a:pt x="336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80" y="20200"/>
                </a:lnTo>
                <a:close/>
              </a:path>
              <a:path fill="lighten" w="336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80" h="21600">
                <a:moveTo>
                  <a:pt x="9833" y="10800"/>
                </a:moveTo>
                <a:lnTo>
                  <a:pt x="23846" y="3794"/>
                </a:lnTo>
                <a:lnTo>
                  <a:pt x="2384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8:24:13Z</dcterms:created>
  <dc:creator>cnit9</dc:creator>
  <dc:description/>
  <dc:language>en-US</dc:language>
  <cp:lastModifiedBy>cnit9</cp:lastModifiedBy>
  <dcterms:modified xsi:type="dcterms:W3CDTF">2002-09-05T10:06:58Z</dcterms:modified>
  <cp:revision>24</cp:revision>
  <dc:subject/>
  <dc:title>Предложение и текст</dc:title>
</cp:coreProperties>
</file>