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D9D3-5934-40A6-BCA6-8D9E60CF7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BC2D-352B-4DA3-BF0F-EFF949DA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D40C-D16E-49B2-932B-9AE6F9EB2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C34B-5F31-423C-B1A5-61F7A464D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750C-8316-49FC-983B-0C4014C41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9EA0-7611-4389-93B7-DCFC1983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3CDD-1636-439F-8F4D-E062EF9E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A278-BE67-4C7C-ABBD-7ACA447E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BFCB-3D9F-416F-809C-716B8B70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ED1E-7F0F-4A07-BFF5-80378ED7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E69D-5643-4263-BD51-04D67E35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181F-D2A7-4F77-B5CB-5FA0D9EB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B9A6-7A46-4715-B72D-9BF5ED2E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03B4-AFBF-445F-AEF5-40C1BB0D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2FCB-E303-47CB-961C-9F8CB547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7287-EE4F-4457-8BA9-963735039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2BF7-4EFD-4EFB-9A63-F897E0829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D420-3E12-40EB-863E-A4A01525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5898-E5E4-4D25-8EBB-B454E4C3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F41B-EE0F-42F7-825E-0BFE3718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8B1B-7D41-4549-8BD6-741200BA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23D2-C897-47E3-9C03-9CE517A0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AA7B-6387-4792-B4D2-A208CC10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95C5-FCDD-4FE9-87B2-629216D1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C227-D89F-413C-A362-B53EF394538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F05B-323B-446E-BC82-EF5213C0675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ление десятичных дробей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йти ошибку (устно)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0,01 ∙ 3= 0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0,05 ∙ 2= 0,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0,08 ∙ 4=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0,006 ∙ 3= 0,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0,007 ∙ 3= 2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) 0,01 ∙ 48= 0,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57880" y="10008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повторить деление десятичной дроби на натуральное число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0,7:7=0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18,9:9=2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11,33:11=1,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0,05:5=0,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20,105:5=4,0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) повторить деление числа на десятичную дроб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) 0,12:0,6=0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) 15:0,5=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) 0,18:0,9=0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) 0,045:0,15=0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) 16:0,0002=8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шение уравнени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х=5,115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13у=1,27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х-4х=12,00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9у-32,99=11,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Площадь прямоугольника равна 0,328 д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дна сторона его 16 см. Найдите другую сторо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Площадь прямоугольника равна 29,61 д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,одна сторона его 47 см. Найдите периметр прямоуг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09:06:27Z</dcterms:created>
  <dc:creator>Админ</dc:creator>
  <dc:description/>
  <dc:language>en-US</dc:language>
  <cp:lastModifiedBy>Админ</cp:lastModifiedBy>
  <dcterms:modified xsi:type="dcterms:W3CDTF">2011-09-24T09:09:58Z</dcterms:modified>
  <cp:revision>1</cp:revision>
  <dc:subject/>
  <dc:title>Деление десятичных дробей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2020000000000010250300207f7000400038000</vt:lpwstr>
  </property>
</Properties>
</file>