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308-433C-469C-8B44-913A9E2A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A1C-D0E5-4621-BAD9-4A3681AA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B62-2F90-400F-BE7E-1DD31F4F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8D3-6EC9-4F4F-AC36-F5E30DF6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FFB7-1074-412A-A486-BEDDFC2B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1B38-52C5-4378-97B7-D0997764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DD4D-097A-44B7-9A91-E8DEC9E3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33F1-32F5-414F-B7AF-FD6751F4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B2BA-38D7-48EB-8C03-6113469D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07DE-FD6F-4A4D-A95E-75A886CC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DE21-6171-4BE2-81AA-E65ADCAC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726-F5D8-49D1-9602-D386F520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E5FC-C51F-4A9D-972A-9BD161DE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FC24-8F8F-4707-9FB6-F81EF49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6870-8BB2-40CC-BEDB-22E44474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A052-1F2D-4531-8524-9605D8EF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2993-30B4-4E8D-A66B-CE683A00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798-8CAC-481E-BE27-4BFCEE1E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4F53-51A6-4D7C-8932-1FDF77B1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A12-0902-4436-8294-858A9675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0935-F6EE-412C-A503-58A492FB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BE6-F4DF-41EB-AECC-E8E17A39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F74-58C1-4580-9092-3A009F5A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8BA-3FD8-4D81-876A-BA161F0A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F349-ADCF-4015-89EB-2B8A5A14E59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0AAE-599F-43F1-962F-29A731D4ED8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33"/>
                </a:solidFill>
                <a:latin typeface="Times New Roman"/>
              </a:rPr>
              <a:t>ГЕОМЕТРИЯ</a:t>
            </a:r>
            <a:endParaRPr b="0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екторы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пространстве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В Е К Т О Р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</a:t>
            </a:r>
            <a:r>
              <a:rPr b="0" lang="en-US" sz="3600" spc="-1" strike="noStrike">
                <a:solidFill>
                  <a:srgbClr val="a08366"/>
                </a:solidFill>
                <a:latin typeface="Times New Roman"/>
              </a:rPr>
              <a:t>это направленный отрезок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14600" y="2819520"/>
            <a:ext cx="4038480" cy="2590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3800" y="530064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Начало вектора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9440" y="227664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492200">
            <a:off x="3963960" y="3885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62520" y="3962160"/>
            <a:ext cx="15228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КОЛЛИНЕАР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1760" y="5181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это векторы, лежащие на одной или на параллельных прямых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819520"/>
            <a:ext cx="2438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09680"/>
            <a:ext cx="28954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403848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4280" y="2362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4382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4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080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657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СОНАПРАВЛЕН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4952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это векторы, имеющие одно направление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2666520"/>
            <a:ext cx="1600200" cy="1219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2742840"/>
            <a:ext cx="2209680" cy="1676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8904200">
            <a:off x="3048480" y="29714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279800">
            <a:off x="5869800" y="320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8120" y="30477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67280" y="3276360"/>
            <a:ext cx="15264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Если векторы сонаправлены и их длины равны, то эти векторы называются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РАВНЫМ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66880" y="4343400"/>
            <a:ext cx="281952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4572000"/>
            <a:ext cx="281916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87000">
            <a:off x="365904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547000">
            <a:off x="5183640" y="464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44956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81480" y="472428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СЛОЖЕ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3733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Для любых векторов справедливы равенства: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+b=b+a (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переместительный закон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a+b)+c=a+ (b+c) (сочетательный закон)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28800" y="236232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29000" y="228600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1981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999600">
            <a:off x="2135520" y="243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3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2438280"/>
            <a:ext cx="22860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2362320"/>
            <a:ext cx="29718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5238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66000">
            <a:off x="4429440" y="2814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297180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28954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УМНОЖЕНИЕ ВЕКТОРА НА ЧИСЛ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2362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l) a =k (la)  - 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сочета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k (a+b) = ka + kb  -  1-ый распределительный закон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 + l) a = ka + la  -  2-ой распредели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4382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514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9718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971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3:25:04Z</dcterms:created>
  <dc:creator>60</dc:creator>
  <dc:description/>
  <dc:language>en-US</dc:language>
  <cp:lastModifiedBy>school</cp:lastModifiedBy>
  <dcterms:modified xsi:type="dcterms:W3CDTF">2004-11-16T06:12:14Z</dcterms:modified>
  <cp:revision>7</cp:revision>
  <dc:subject/>
  <dc:title>ГЕОМЕТРИЯ</dc:title>
</cp:coreProperties>
</file>