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71BE-8D30-4D2D-BB41-15E4439F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8B11-AD20-4AF7-A630-F954912B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5FC0-7CBD-44A9-8A8A-9E057FE3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27B5-FC0D-4230-BF2E-6268D52A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7748-DB11-4F0C-B782-954BBA2F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C8DA-FDB7-4C89-9B45-0A7C58F1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FA7D-CEDE-4381-96CA-9A4028A0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CA84-9A44-4043-82A7-9C689DBD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F3EB-DA25-4D2E-84E0-3B4FC59E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8FB1-3352-4410-86F1-E6BC07F5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AB13-8CCF-4423-99E1-2DEA6392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6B47-677F-4699-8A87-5BBA1C3D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8B15-5C30-43F7-98C1-CB5544E3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3047-AB00-414A-B12E-9527BCC3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63FA-8BB7-4D84-930D-F9C242C3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6AE9-559A-4F40-8FD9-07D17FFB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20F6-24F2-406A-BF4B-8158F247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1B66-5C4A-45D8-84B1-92AF1A8A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6924-644B-4E55-BED3-1A149EEA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A30-FC88-4D54-B95E-92FAB717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BC13-E6B7-47AF-8EA3-154C4B4F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632A-FB75-4440-BDD6-1F729C29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6CBE-A5BD-4CBE-9B9B-CA1C0BC5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6100-6CF4-404F-AFA1-7E57BC80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1A44-A2EE-4F33-B4AD-3F6BA08EEDC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F9C5-3634-4A90-8DBE-16AA142D4FC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ifagor.home.nov.ru/stixi.htm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0000" y="188640"/>
            <a:ext cx="5272200" cy="825480"/>
          </a:xfrm>
          <a:prstGeom prst="rect">
            <a:avLst/>
          </a:prstGeom>
          <a:solidFill>
            <a:srgbClr val="73f3f3"/>
          </a:solidFill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omic Sans MS"/>
              </a:rPr>
              <a:t>Теорема Пифагора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5390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Пребудет вечной истина, как скор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Её познает слабый человек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И ныне теорема Пифаго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Верна, как и в его далёкий ве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4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6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6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4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-252360" y="333360"/>
            <a:ext cx="4968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чевидно, что углы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CAE=GAB(=A+90°)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отсюда следует, что треугольники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G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закрашенные на рисунке) равны между собой (по двум сторонам и углу, заключённому между ними). Сравним далее тре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прямо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PQE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они имеют общее основани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высот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пущенную на это основание, следовательн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PQEA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чно так же квадрат FCAG и треугольник BAG имеют общее основание GA и высоту AC; значит,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FCAG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GA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16360" y="476280"/>
            <a:ext cx="3060720" cy="3809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979640" y="4597560"/>
            <a:ext cx="65516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Отсюда и из равенства треугольников ACE и GBA вытекает равновеликость прямоугольника QPBD и квадрата CFGA; аналогично доказывается и равновеликость прямоугольника QPAE и квадрата CHIB. А отсюда, следует, что квадрат ABDE равновелик сумме квадратов ACFG и BCHI, т.е. теорема Пифагора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лгебраическое доказатель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70040" y="1849320"/>
            <a:ext cx="2568600" cy="1446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708360" y="177336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Дано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прямоугольный тре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Доказать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8000" y="2924280"/>
            <a:ext cx="669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) Проведем высоту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з вершины прямого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) По определению косинуса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А=AD/AC=A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тсюда следу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AD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) Аналогично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В=BD/BC=B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знач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BD=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) Сложив полученные равенства почленно, получи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*(AD + 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        </a:t>
            </a:r>
            <a:r>
              <a:rPr b="1" i="1" lang="ru-RU" sz="1600" spc="-1" strike="noStrike">
                <a:solidFill>
                  <a:srgbClr val="008000"/>
                </a:solidFill>
                <a:latin typeface="Comic Sans MS"/>
              </a:rPr>
              <a:t>Что и требовалось доказ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8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9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Геометрическое доказательство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2519280" cy="1708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80600" y="166896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о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B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прямоугольный треуголь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азать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=AB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A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2346840"/>
            <a:ext cx="5940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Доказатель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) Построим отрезок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равный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на продолжении катета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прямоугольного треугольника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Затем опустим перпендикуляр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к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равный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соединим точки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) Площадь фигуры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можно найти, если рассматривать её как сумму площадей трёх треугольников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4076640"/>
            <a:ext cx="5867640" cy="34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2*AB*AC/2+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) Фигура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является трапецией, значит, её площадь равн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(DE+AB)*AD/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4) Если приравнять левые части найденных выражений, то получи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(DE+AB)(CD+AC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(AC+AB)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A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*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AB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+A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Это доказательство было опубликовано в 1882 году Гэрфилдом. </a:t>
            </a:r>
            <a:br>
              <a:rPr sz="1400"/>
            </a:br>
            <a:br>
              <a:rPr sz="3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path" presetID="1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78 0 L 0.25 0.16122 L 0.072 0.16122 L 0 0 Z">
                                      <p:cBhvr>
                                        <p:cTn id="426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60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240"/>
                            </p:stCondLst>
                            <p:childTnLst>
                              <p:par>
                                <p:cTn id="4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2920"/>
                            </p:stCondLst>
                            <p:childTnLst>
                              <p:par>
                                <p:cTn id="4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3420"/>
                            </p:stCondLst>
                            <p:childTnLst>
                              <p:par>
                                <p:cTn id="4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540"/>
                            </p:stCondLst>
                            <p:childTnLst>
                              <p:par>
                                <p:cTn id="4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6040"/>
                            </p:stCondLst>
                            <p:childTnLst>
                              <p:par>
                                <p:cTn id="4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8280"/>
                            </p:stCondLst>
                            <p:childTnLst>
                              <p:par>
                                <p:cTn id="4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9440"/>
                            </p:stCondLst>
                            <p:childTnLst>
                              <p:par>
                                <p:cTn id="5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360"/>
                            </p:stCondLst>
                            <p:childTnLst>
                              <p:par>
                                <p:cTn id="5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1560"/>
                            </p:stCondLst>
                            <p:childTnLst>
                              <p:par>
                                <p:cTn id="5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Значение теоремы Пифаго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98560" y="2139480"/>
            <a:ext cx="719928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орема Пифагора- это одна из самых важных теорем геометрии. Значение её состоит в том, что из неё или с её помощью можно вывести большинство теорем геометри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532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61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7920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оказательство теоремы Пифагора учащиеся средних веков считали очень трудным и называли его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D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sinorum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ослиный мост, или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lefug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бегство «убогих», так как некоторые «убогие» ученики, не имевшие серьезной математической подготовки, бежали от геометрии. Слабые ученики, заучившие теоремы наизусть, без понимания, и прозванные поэтому «ослами», были не в состоянии преодолеть теорему Пифагора, служившую для них вроде непреодолимого моста. Из-за чертежей, сопровождающих теорему Пифагора, учащиеся называли ее также «ветряной мельницей», составляли стихи,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роде «Пифагоровы штаны на все стороны равны», рисовали карикатур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916360" y="3414600"/>
          <a:ext cx="4321080" cy="34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3414600"/>
                    <a:ext cx="432108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улировка теоре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казательства теоре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чение теоремы Пифаго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amond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55160" y="430200"/>
            <a:ext cx="57358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Формулировка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теорем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13096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« Доказать, что квадрат, построенный на гипотенузе прямоугольного треугольника, равновелик сумме квадратов, построенных на катетах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« Площадь квадрата, построенного на гипотенузе прямоугольного треугольника, равна сумме площадей квадратов, построенных на его катетах».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6286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о времена Пифагора теорема звучала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24360" y="3429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20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овременная формулиров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30320" y="2665080"/>
            <a:ext cx="7200720" cy="22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« В прямоугольном треугольнике квадрат гипотенузы равен сумме квадратов катетов».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   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blinds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Доказательства теор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63360" y="2545920"/>
            <a:ext cx="7197480" cy="22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66ff"/>
                </a:solidFill>
                <a:latin typeface="Comic Sans MS"/>
              </a:rPr>
              <a:t>Существует около 500 различных доказательств этой теоремы (геометрических, алгебраических, механических и т.д.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6 -0.169 0.15589 C -0.169 0.2465 -0.114 0.32111 -0.044 0.32111 C -0.029 0.32111 -0.014 0.31711 0 0.31045 C -0.047 0.28647 -0.08 0.22651 -0.08 0.15589 C -0.08 0.08394 -0.047 0.02398 0 0 Z">
                                      <p:cBhvr>
                                        <p:cTn id="124" dur="3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L 0.188 0.14523 L 0.125 0.28913 L 0 0.28913 L -0.063 0.14523 L 0 0 Z">
                                      <p:cBhvr>
                                        <p:cTn id="128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амое простое доказатель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9163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смотрим квадрат, показанный на рисунк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торона квадрата равна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+ 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2484360" y="4005360"/>
            <a:ext cx="4533840" cy="2246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957360" y="45086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07720" y="537372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100"/>
                            </p:stCondLst>
                            <p:childTnLst>
                              <p:par>
                                <p:cTn id="1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60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560" y="2205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одном случае (слева) квадрат разбит на квадрат со стороной </a:t>
            </a:r>
            <a:r>
              <a:rPr b="1" lang="ru-RU" sz="2000" spc="-1" strike="noStrike">
                <a:solidFill>
                  <a:srgbClr val="98d743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четыре прямоугольных треугольника с катетами </a:t>
            </a: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1835280" y="260280"/>
            <a:ext cx="5184720" cy="2563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829520" y="692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7920" y="981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0960" y="189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1159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27640" y="3141720"/>
            <a:ext cx="4103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другом случае (справа) квадрат разбит на два квадрата со сторон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четыре прямоугольных треугольника с катет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94960" y="20606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55560" y="105264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5229360"/>
            <a:ext cx="59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аким образом, получаем, что площадь квадрата со стороной </a:t>
            </a:r>
            <a:r>
              <a:rPr b="1" lang="en-US" sz="2000" spc="-1" strike="noStrike">
                <a:solidFill>
                  <a:srgbClr val="98d743"/>
                </a:solidFill>
                <a:latin typeface="Comic Sans MS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равна сумме площадей квадратов со сторон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Доказательство Евклид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185640" y="2896920"/>
            <a:ext cx="317052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прямоугольный треугольник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BDE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CFG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+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BCH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867280" y="1125360"/>
          <a:ext cx="2327400" cy="33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125360"/>
                    <a:ext cx="2327400" cy="33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2562480" cy="3186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66600" y="165240"/>
            <a:ext cx="577188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оказательство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985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усть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квадрат, построенный на гипотенузе прямоугольного треугольник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CF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CH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квадраты, построенные на его катетах. Опустим из вершины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прямого угла перпендикуляр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на гипотенузу и продолжим его до пересечения со стороной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квадрат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в точке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; соединим точк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073480" y="2027160"/>
            <a:ext cx="2773440" cy="2982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 0.011 0.08661 0.028 0.11325 C 0.028 0.11459 0.055 0.15056 0.055 0.14923 C 0.07 0.16922 0.079 0.1972 0.079 0.22651 C 0.079 0.28514 0.044 0.33177 0 0.3331 C -0.044 0.33177 -0.079 0.28514 -0.079 0.22651 C -0.079 0.1972 -0.07 0.16922 -0.055 0.14923 C -0.055 0.15056 -0.028 0.11459 -0.028 0.11325 C -0.011 0.08661 -0.001 0.0453 0 0 Z">
                                      <p:cBhvr>
                                        <p:cTn id="277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4:48:45Z</dcterms:created>
  <dc:creator>дидык юлия</dc:creator>
  <dc:description/>
  <dc:language>en-US</dc:language>
  <cp:lastModifiedBy>Natal'ia Vladimirovna</cp:lastModifiedBy>
  <dcterms:modified xsi:type="dcterms:W3CDTF">2008-06-06T10:03:28Z</dcterms:modified>
  <cp:revision>70</cp:revision>
  <dc:subject/>
  <dc:title>Теорема Пифагора</dc:title>
</cp:coreProperties>
</file>