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0E5-75EE-4C94-BA5C-B500ACDF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AA6-5055-45EF-B9F6-FB62C9FB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250-2C96-42CC-815F-D7294F53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210-6793-46CD-8FB2-76A0C215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B440-C36D-42D0-9398-E4B984EA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27B4-ED3A-43FD-93FE-1FB51931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7EA5-0AC2-4C53-B7C6-1372C9A0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CEFE-0A85-43D3-9126-C797C7A3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73F7-63E0-49AA-B1C7-51011D9C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13C6-68C0-45B3-AAFD-E7D0CD3B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50F0-BC4E-418C-97EF-1A2CA54E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0E7-3258-43AD-8C51-F375FBBC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06ED-1D5D-484C-B521-5D42A5B1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6E0B-041D-43D4-BC46-F649EE60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F3EE-99A5-4133-86AF-CB5F90FE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324E-60D6-43BC-BC3A-0F1E99AB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2601-613C-416C-B59E-27B208A5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03D-8146-4A52-8E42-6168349C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A24-AF8A-4078-BBEC-7B82AF2F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2EA-4BBD-4FB1-BE61-2476367B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346-BFB7-4C8F-B1D5-FCA0F3F2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9FA-CFE6-4CE6-BFEA-87ADFEF3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79A-E640-4E90-AD1B-88BC78E2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4F1-D748-4112-A6B1-4BE1D2D8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6BB1-AB91-4B2A-8C34-A41BF120C4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BDB5-6BE0-4EFC-AABA-2830C9AE91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mailto:galka-kul@yandex.ru" TargetMode="Externa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image" Target="../media/image4.gif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" Target="slide21.xml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3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84" name="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91" name="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1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321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3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3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43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 flipV="1" rot="17826000">
            <a:off x="673560" y="165672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 rot="17826000">
            <a:off x="2580120" y="164880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36720" y="3377160"/>
            <a:ext cx="480240" cy="414720"/>
            <a:chOff x="3636720" y="3377160"/>
            <a:chExt cx="480240" cy="414720"/>
          </a:xfrm>
        </p:grpSpPr>
        <p:sp>
          <p:nvSpPr>
            <p:cNvPr id="349" name=""/>
            <p:cNvSpPr/>
            <p:nvPr/>
          </p:nvSpPr>
          <p:spPr>
            <a:xfrm flipH="1" flipV="1" rot="4138800">
              <a:off x="3756600" y="3434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4138800">
              <a:off x="3677760" y="3426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38080" y="3404160"/>
            <a:ext cx="480240" cy="414720"/>
            <a:chOff x="1738080" y="3404160"/>
            <a:chExt cx="480240" cy="414720"/>
          </a:xfrm>
        </p:grpSpPr>
        <p:sp>
          <p:nvSpPr>
            <p:cNvPr id="352" name=""/>
            <p:cNvSpPr/>
            <p:nvPr/>
          </p:nvSpPr>
          <p:spPr>
            <a:xfrm flipH="1" flipV="1" rot="4138800">
              <a:off x="1857960" y="3461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4138800">
              <a:off x="1779120" y="3453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55" name="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680" y="1477800"/>
            <a:ext cx="3336120" cy="2184480"/>
            <a:chOff x="643680" y="1477800"/>
            <a:chExt cx="3336120" cy="2184480"/>
          </a:xfrm>
        </p:grpSpPr>
        <p:grpSp>
          <p:nvGrpSpPr>
            <p:cNvPr id="358" name=""/>
            <p:cNvGrpSpPr/>
            <p:nvPr/>
          </p:nvGrpSpPr>
          <p:grpSpPr>
            <a:xfrm>
              <a:off x="2543760" y="1482480"/>
              <a:ext cx="1436040" cy="2179800"/>
              <a:chOff x="2543760" y="1482480"/>
              <a:chExt cx="1436040" cy="2179800"/>
            </a:xfrm>
          </p:grpSpPr>
          <p:sp>
            <p:nvSpPr>
              <p:cNvPr id="359" name=""/>
              <p:cNvSpPr/>
              <p:nvPr/>
            </p:nvSpPr>
            <p:spPr>
              <a:xfrm flipH="1" flipV="1" rot="17826000">
                <a:off x="2576880" y="166464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43680" y="1477800"/>
              <a:ext cx="1419840" cy="2179800"/>
              <a:chOff x="643680" y="1477800"/>
              <a:chExt cx="1419840" cy="217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17826000">
                <a:off x="676800" y="166608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6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71" name="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8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8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92" name="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95" name="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402" name="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405" name="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1792400">
            <a:off x="2448000" y="1649880"/>
            <a:ext cx="555120" cy="5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5080" y="3390840"/>
            <a:ext cx="554400" cy="531720"/>
            <a:chOff x="3475080" y="3390840"/>
            <a:chExt cx="554400" cy="531720"/>
          </a:xfrm>
        </p:grpSpPr>
        <p:sp>
          <p:nvSpPr>
            <p:cNvPr id="414" name=""/>
            <p:cNvSpPr/>
            <p:nvPr/>
          </p:nvSpPr>
          <p:spPr>
            <a:xfrm flipH="1">
              <a:off x="3475080" y="3392280"/>
              <a:ext cx="55440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14760" y="3390840"/>
              <a:ext cx="319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420" name="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24" name="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32" name="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545640" y="1735920"/>
            <a:ext cx="470160" cy="468720"/>
            <a:chOff x="3545640" y="1735920"/>
            <a:chExt cx="470160" cy="468720"/>
          </a:xfrm>
        </p:grpSpPr>
        <p:sp>
          <p:nvSpPr>
            <p:cNvPr id="437" name=""/>
            <p:cNvSpPr/>
            <p:nvPr/>
          </p:nvSpPr>
          <p:spPr>
            <a:xfrm rot="8875800">
              <a:off x="3587400" y="18640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8875800">
              <a:off x="3609000" y="18122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0240" y="1964520"/>
            <a:ext cx="470160" cy="468720"/>
            <a:chOff x="3720240" y="1964520"/>
            <a:chExt cx="470160" cy="468720"/>
          </a:xfrm>
        </p:grpSpPr>
        <p:sp>
          <p:nvSpPr>
            <p:cNvPr id="440" name=""/>
            <p:cNvSpPr/>
            <p:nvPr/>
          </p:nvSpPr>
          <p:spPr>
            <a:xfrm rot="8875800">
              <a:off x="3762000" y="20926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875800">
              <a:off x="3783600" y="20408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7166400">
            <a:off x="658800" y="183420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48" name="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85440" y="3295080"/>
            <a:ext cx="496440" cy="526320"/>
            <a:chOff x="1585440" y="3295080"/>
            <a:chExt cx="496440" cy="526320"/>
          </a:xfrm>
        </p:grpSpPr>
        <p:sp>
          <p:nvSpPr>
            <p:cNvPr id="457" name=""/>
            <p:cNvSpPr/>
            <p:nvPr/>
          </p:nvSpPr>
          <p:spPr>
            <a:xfrm rot="14456400">
              <a:off x="1595160" y="341136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456400">
              <a:off x="1643400" y="342936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64" name="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79800">
            <a:off x="2610720" y="347148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69" name="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77" name="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379800">
            <a:off x="5356080" y="333684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1357600">
            <a:off x="6019200" y="595980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85" name="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91" name="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79800">
            <a:off x="857160" y="583236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33520" y="5814360"/>
            <a:ext cx="496440" cy="526320"/>
            <a:chOff x="3233520" y="5814360"/>
            <a:chExt cx="496440" cy="526320"/>
          </a:xfrm>
        </p:grpSpPr>
        <p:sp>
          <p:nvSpPr>
            <p:cNvPr id="503" name=""/>
            <p:cNvSpPr/>
            <p:nvPr/>
          </p:nvSpPr>
          <p:spPr>
            <a:xfrm rot="14456400">
              <a:off x="3243240" y="593064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4456400">
              <a:off x="3291480" y="594864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0640" y="1798560"/>
            <a:ext cx="8258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два угла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один прямой уг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960" y="1773360"/>
            <a:ext cx="9210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два угла острых и один пря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360" y="1870200"/>
            <a:ext cx="9402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торон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ами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78040" y="1860480"/>
            <a:ext cx="743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стороной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ом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гипотенузой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00280" y="1806480"/>
            <a:ext cx="7907040" cy="1985040"/>
            <a:chOff x="800280" y="1806480"/>
            <a:chExt cx="7907040" cy="1985040"/>
          </a:xfrm>
        </p:grpSpPr>
        <p:sp>
          <p:nvSpPr>
            <p:cNvPr id="520" name="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14440" y="2600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>
            <a:hlinkClick r:id="rId6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200px-Egyptian_A%27h-mosè_or_Rhind_Papyrus_%281065x1330%29" descr="Фрагмент папируса Ахмеса"/>
          <p:cNvPicPr/>
          <p:nvPr/>
        </p:nvPicPr>
        <p:blipFill>
          <a:blip r:embed="rId2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103" name="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9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50" name="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54" name="geo7a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" descr=""/>
            <p:cNvPicPr/>
            <p:nvPr/>
          </p:nvPicPr>
          <p:blipFill>
            <a:blip r:embed="rId7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80" name="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9" name="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90" name="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6" name="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97" name="" descr="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9" name="" descr=""/>
          <p:cNvPicPr/>
          <p:nvPr/>
        </p:nvPicPr>
        <p:blipFill>
          <a:blip r:embed="rId25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604" name="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60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3" name="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14" name="" descr="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1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апирус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Евклид</a:t>
            </a: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en-US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en-US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47" name="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50" name="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53" name="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56" name="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75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86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96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00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10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13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218" name="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221" name="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224" name="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30" name="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" name="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42" name="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44" name="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54" name="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68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72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82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85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95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490800">
            <a:off x="590040" y="1654200"/>
            <a:ext cx="46872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490800">
            <a:off x="2520000" y="1662120"/>
            <a:ext cx="46944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040" y="1467000"/>
            <a:ext cx="2469960" cy="2214360"/>
            <a:chOff x="563040" y="1467000"/>
            <a:chExt cx="2469960" cy="2214360"/>
          </a:xfrm>
        </p:grpSpPr>
        <p:grpSp>
          <p:nvGrpSpPr>
            <p:cNvPr id="302" name=""/>
            <p:cNvGrpSpPr/>
            <p:nvPr/>
          </p:nvGrpSpPr>
          <p:grpSpPr>
            <a:xfrm>
              <a:off x="563040" y="1467000"/>
              <a:ext cx="561960" cy="2195280"/>
              <a:chOff x="563040" y="1467000"/>
              <a:chExt cx="561960" cy="21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490800">
                <a:off x="609120" y="164052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471040" y="1486080"/>
              <a:ext cx="561960" cy="2195280"/>
              <a:chOff x="2471040" y="1486080"/>
              <a:chExt cx="561960" cy="21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490800">
                <a:off x="2517120" y="165960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</cp:lastModifiedBy>
  <dcterms:modified xsi:type="dcterms:W3CDTF">2007-03-26T14:45:5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