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C238-223D-4FA7-9747-5671F00B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5EEE-7980-40C2-8BA7-697005D4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611-4150-4792-90B4-FC589B23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9CA9-8A21-4EB8-B1E2-F396831F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85BA-F044-4196-B524-42860BAC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00B3-5EA8-4939-9C9A-BC17E88F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8672-A88C-4937-8139-0C8F4E05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2367-F8D7-4953-AED6-A3C7DDBB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F4F1-A7F7-4BD4-88DA-9D3E8FA7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0CAB-750E-4E27-8D7E-217BB07E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50B7-BD6C-4FA1-A6C5-0E393E00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E85-92FE-455E-82FD-53950775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DCC5-AE44-426B-B0B3-46B07F94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E16E-3260-40D2-97FC-81A575FC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E482-E000-411F-94E6-87DB2DBD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92A4-44A4-46EF-8805-87453CA9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338D-E151-482B-BBE5-E3E69712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4C89-C787-4477-9564-3FF447BA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ADF5-C5FB-438D-BAA7-C5CCD695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836-603E-4424-AB17-D7961EA8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9E6-067A-43FE-8E7D-489C068B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6854-D173-4270-81AB-FB89363B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DB9-F4F7-42C4-95E3-09AE2E0C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AA9-83EF-4B26-9862-37788B4C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86AD-8ADB-4C96-BD28-39A299A47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F929-5034-4F46-A2A3-DEAB66A6F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Перпендикуляр и наклонная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геометрии в 10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2064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ожим на отрез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у Е такую, чт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=BE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=AE.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угольни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C тупой и поэтому больше уг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, сторон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о, пус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 три случа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о доказанному выше в пункте 2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=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тиворечит условию. 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ы только что доказал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пять противоречит условию. Остается третья возможность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5013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С больш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94200" y="1413000"/>
            <a:ext cx="424980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3019680" cy="3867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10480" y="260280"/>
            <a:ext cx="63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Расстояние от точки до плос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907920"/>
            <a:ext cx="48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тоянием от точки до плоск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наименьшему расстоянию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точек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20680" y="189000"/>
            <a:ext cx="562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т разных точек до плос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557360"/>
            <a:ext cx="63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прямая АВ пересекает плоско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е С. Тогда расстояния от точек А и В до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тся как отрезки АС и В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03640" y="5229360"/>
            <a:ext cx="252072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193680"/>
            <a:ext cx="5111640" cy="61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два случая. В случае 1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находятся по одну сторону от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ортогональные проекции точек А и В на плоскость —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. Тогда пряма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ортогональной проекцией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проходит через точку С. В плоскости , проходящей через 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ны, и поэтому их катеты пропорциональны гипотенуз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6000" y="6093000"/>
            <a:ext cx="2638440" cy="731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24360" y="3933720"/>
            <a:ext cx="2665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400720" y="620640"/>
            <a:ext cx="3743280" cy="3333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292720" y="5157720"/>
            <a:ext cx="353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0" y="1413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чание 2 (свойство расстояния от середины отрезка до плоск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расстояния от точек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вны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ответственно. Тогда расстояние от середины С отрезка АВ до этой плоскости рав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00" y="189000"/>
            <a:ext cx="795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я от середины отре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515772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86360" cy="3400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666720" cy="743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643280" y="4797360"/>
            <a:ext cx="762120" cy="695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580000" y="342900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51640" y="47242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разные стороны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1280" y="907920"/>
            <a:ext cx="507672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даны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ерпендикуляр АВ на эту плоскость, наклонная АС, 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ортогональной проекции В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она перпендикулярна и наклонной 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4797360"/>
            <a:ext cx="31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 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кл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С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9200" y="0"/>
            <a:ext cx="61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еорема о трех перпендикуля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3781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131080" cy="5329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43480" y="981000"/>
            <a:ext cx="3800520" cy="28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84720" y="4005360"/>
            <a:ext cx="285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ая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перпендикулярна плоскости АВ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76500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сть даны плоскость и наклонная прямая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63960" y="189000"/>
            <a:ext cx="67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Угол между наклонной и плос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1600" y="6165720"/>
            <a:ext cx="80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ол между наклонной и ее ортогональной проекцией на плоскост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54007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662800" cy="403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3348000" cy="203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84720" y="3068640"/>
            <a:ext cx="33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ерпендикуляр, наклонная и 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ортогональная проекция образ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рямоугольный треуго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80071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Аверкина Т.П., учитель МОУ «Тархановская СОШ» Ичалковского района 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189000"/>
            <a:ext cx="80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пендикуля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5320" y="266760"/>
            <a:ext cx="7894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4880" y="209520"/>
            <a:ext cx="827568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987640" y="476280"/>
            <a:ext cx="594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ой проекци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фигу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из ортогональных проекций на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точек эт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01760" y="65160"/>
            <a:ext cx="46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Ортогональная про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495520" cy="1981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486160" cy="1952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3440" y="263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ки и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3440" y="57340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8366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через точ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инадлежащую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пендикуляром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ущенным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С — произвольная точка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личная от В,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клонн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ой проекцие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2602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пендикуляр и накл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5800" y="47973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пендикуляр и наклон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896000" y="1413000"/>
            <a:ext cx="4248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78732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765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дены перпендикуля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ве наклонны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тогда отрезки ВС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ые проекции этих отрезков 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 треугольни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ный перпендикуляр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это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и проекции 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97560" y="4221000"/>
            <a:ext cx="364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очки А к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 АВ и две накло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1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558720"/>
            <a:ext cx="507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имеют общий кат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Если наклон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, то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 по катету и гипотенузе, и тог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=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, если равны проекции 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эти же треугольники равны по двум катетам, и тогда у них равны и гипотенуз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458136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 по катету и гипотенуз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7800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6:11:06Z</dcterms:created>
  <dc:creator>Надя</dc:creator>
  <dc:description/>
  <dc:language>en-US</dc:language>
  <cp:lastModifiedBy>Андрюха</cp:lastModifiedBy>
  <dcterms:modified xsi:type="dcterms:W3CDTF">2007-12-09T06:50:18Z</dcterms:modified>
  <cp:revision>58</cp:revision>
  <dc:subject/>
  <dc:title>Перпендикуляр и наклонная</dc:title>
</cp:coreProperties>
</file>