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8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15.gif" ContentType="image/gif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C82-58CF-4A90-94A4-BB339661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CD1-3AB4-4FF4-863E-14A3EAEA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1080-2A58-4975-9711-951F3141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242-B254-4259-8151-AE72F090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A2D0-A6DD-493D-88FD-FFD271F3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37EC-C13C-4738-9DD9-E948CA80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A4C9-91A0-44BC-8F9E-B5EE9A5D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1B87-9422-4A3A-BE98-3B73EC8F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450D-A157-40D3-B88D-FEB0409A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48D2-5044-4F5C-A0DE-2F97542F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B750-7644-4925-ACF5-FF97EB5C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616-FE29-4839-B090-D4705C53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105E-5013-497A-B4B0-D6D3369E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473F-C93C-4D4C-9321-A0B6D579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8116-F4E8-44C2-A9FD-638626DA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8CF6-9DF2-4563-B0C6-9670AB90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FD88-F3DB-45D8-8E1C-2EDEF16F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900-4E15-410C-90F0-A4A46AE9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80D-5465-4A18-B5EF-8F245E08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A0E1-DA44-4AD2-A6B0-EE7AFCF5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9B0C-9F5E-41F0-BB23-0EFB4114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965-9AB1-4B84-911E-BAE6B9BB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6D6-B243-4BDF-A6A2-A3341BDA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837-9E3D-44EA-9260-C63CB3FA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6D63-B96C-4B11-9489-A5F6AFE8C8BB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A1B8-0725-4E6B-BCC2-BDFB0D107FDA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ereplet.ru/obrazovanie/stsoros/67.html" TargetMode="External"/><Relationship Id="rId3" Type="http://schemas.openxmlformats.org/officeDocument/2006/relationships/hyperlink" Target="http://www.hrono.ru/biograf/lobachevski.html" TargetMode="External"/><Relationship Id="rId4" Type="http://schemas.openxmlformats.org/officeDocument/2006/relationships/hyperlink" Target="http://ns.math.rsu.ru/mexmat/polesno/evklid.ru.html" TargetMode="External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../../project_support/student_support/glaza.doc" TargetMode="External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../project_support/student_support/&#1045;&#1074;&#1082;&#1083;&#1080;&#1076;_&#1084;&#1072;&#1090;&#1077;&#1084;&#1072;&#1090;&#1080;&#1082;.doc" TargetMode="External"/><Relationship Id="rId3" Type="http://schemas.openxmlformats.org/officeDocument/2006/relationships/hyperlink" Target="http://ru.wikipedia.org/wiki/&#1048;&#1079;&#1086;&#1073;&#1088;&#1072;&#1078;&#1077;&#1085;&#1080;&#1077;:Euklid2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333360"/>
            <a:ext cx="7920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бачевский и его геометр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11280" y="2421000"/>
            <a:ext cx="2751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а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2637000"/>
            <a:ext cx="806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чему возникла "новая" геометрия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1280" y="55166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у выполнили учащиеся 10В класса средней школы №2  г.Кувандыка Лапшинова Маша и Казаков Анатолий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35280" y="2565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eff1"/>
                </a:solidFill>
                <a:latin typeface="Arial Black"/>
              </a:rPr>
              <a:t>ТЕСТ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длагаем Вашему вниманию тест. Вы можете его выполнить в том случае, если уже прошли курс геометрии 7 класса.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530064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ние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1a07"/>
                </a:solidFill>
                <a:latin typeface="Arial Black"/>
              </a:rPr>
              <a:t>Вывод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 показали исследования, геометрия Лобачевского (в то числе и 5-ый постулат) совершенно верна, если ее рассматривать не на плоскости, а на поверхности гиперболического параболоида (вогнутой поверхности, напоминающей седло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 Это своеобразная аксиома развития науки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Список литератур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хоутен Я. А. Риманова геометрия, пер. с англ., М., 1948;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есников М. Лобачевский./. Серия «Жизнь замечательных людей». – М.: Молодая гвардия, 1965. – 320 стр. с илл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Широков П.А. Краткий очерк основ геометрии                                      Лобачевского./. – М.: Наука, 1983. – 76 стр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бачевский Н.И. Полное собрание                                                        сочинений, тт. 1–5. М. – Л., 1946–19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метрия Лобачевского. Материал                                                                        из Википедии — свободной энциклопедии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8464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Web </a:t>
            </a: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ресурсы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4365720"/>
            <a:ext cx="856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ereplet.ru/obrazovanie/stsoros/67.html</a:t>
            </a: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евклидовой геометрии, Э. Б. ВИНБЕРГ, Московский государственный университет им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.В. Ломоносова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rono.ru/biograf/lobachevski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Шикман А.П. Деятели отечественной истории. Биографический справочник. Москва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997 г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s.math.rsu.ru/mexmat/polesno/evklid.ru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иография Евклида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59640" y="1628640"/>
            <a:ext cx="216036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Гипотеза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98100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</a:t>
            </a:r>
            <a:r>
              <a:rPr b="0" lang="ru-RU" sz="2000" spc="-1" strike="noStrike">
                <a:solidFill>
                  <a:srgbClr val="99eff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Невозможность доказать некоторое геометрическое утверждение средствами евклидовой геометрии послужило поводом построения другой геометрии, которая также является верн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2781360"/>
            <a:ext cx="4643280" cy="4362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Был мудрым Евклид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Но его параллели,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Как будто бы вечные сваи лег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мысли его, что как стрелы летели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Всегда оставались в пределах Зем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А там, во вселенной, другие законы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Там точками служат иные тела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там параллельных лучей миллионы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Природа сквозь Марс, может быть, провел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781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492280"/>
            <a:ext cx="3600360" cy="30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"/>
              </a:rPr>
              <a:t>Цель: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e8eb"/>
                </a:solidFill>
                <a:latin typeface="Arial"/>
              </a:rPr>
              <a:t>Найти доказательство того, что истинно утверждение «через точку, не лежащую на данной прямой, проходят по крайней мере две прямые, лежащие с данной прямой в одной плоскости и параллельные ей»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400"/>
                            </p:stCondLst>
                            <p:childTnLst>
                              <p:par>
                                <p:cTn id="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2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2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Задачи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8920" y="1052280"/>
            <a:ext cx="76564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провести эксперимент «Иллюзии зрения»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постулаты Евклидовой геометрии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аксиомы геометрии Лобачевского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сравнительный анализ двух геометрий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выяснить нет ли геометрий, основанных на других аксиомах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выводы.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6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6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6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6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6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Видите движение на этой картинке?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6337440" cy="3373560"/>
          </a:xfrm>
          <a:prstGeom prst="rect">
            <a:avLst/>
          </a:prstGeom>
          <a:ln w="76320">
            <a:solidFill>
              <a:srgbClr val="1283c8"/>
            </a:solidFill>
            <a:miter/>
          </a:ln>
        </p:spPr>
      </p:pic>
    </p:spTree>
  </p:cSld>
  <p:transition spd="slow">
    <p:strips dir="l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eff1"/>
                </a:solidFill>
                <a:latin typeface="Arial Black"/>
              </a:rPr>
              <a:t>Эксперимент «Иллюзии зрения»</a:t>
            </a:r>
            <a:endParaRPr b="0" lang="en-US" sz="3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3311640" cy="388908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буквы расположены параллельно (стоят прямо) или нет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    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3170160" cy="1363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1278600">
            <a:off x="3354120" y="2147400"/>
            <a:ext cx="3311280" cy="3167280"/>
          </a:xfrm>
          <a:prstGeom prst="rect">
            <a:avLst/>
          </a:prstGeom>
          <a:solidFill>
            <a:srgbClr val="00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ИТОГИ опроса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 параллельно   нет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     3%         97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араллельно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спираль окружности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100%       0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кружности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1052640"/>
            <a:ext cx="2232000" cy="439236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изображена спираль или несколько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кружностей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091280" y="1125360"/>
            <a:ext cx="1677960" cy="1727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24360" y="2133720"/>
            <a:ext cx="2951280" cy="1150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634920" y="213372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278136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588000" y="3284280"/>
            <a:ext cx="289080" cy="649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356000" y="2421000"/>
            <a:ext cx="2872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6920" y="299736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242100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3213000"/>
            <a:ext cx="288000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03640" y="3213000"/>
            <a:ext cx="28872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860640"/>
            <a:ext cx="288108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084360" y="4365720"/>
            <a:ext cx="28764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500280"/>
            <a:ext cx="287964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50920" y="3500280"/>
            <a:ext cx="289080" cy="649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88000" y="3860640"/>
            <a:ext cx="288720" cy="648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5157720"/>
            <a:ext cx="8713800" cy="1366920"/>
          </a:xfrm>
          <a:prstGeom prst="rect">
            <a:avLst/>
          </a:prstGeom>
          <a:solidFill>
            <a:srgbClr val="00ffff">
              <a:alpha val="31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В геометрии истинность каждого утверждения необходимо доказывать, нельзя полагаться только на наблюдения. 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33399"/>
                </a:solidFill>
                <a:latin typeface="Arial"/>
              </a:rPr>
              <a:t>Положительный момент: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 благодаря зрительным искажениям существует живопись.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aa305e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Если интересно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0" y="4761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remove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4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20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21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5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иколай Иванович Лобачевский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(1792 – 1856 гг.)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197000"/>
            <a:ext cx="8640720" cy="446400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се! Перечеркнуты “Начала”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Довольно мысль на них скучала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Хоть прав почти во всем Евклид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Но быть не вечно постоянству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плоскость свернута в пространство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мир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ной имеет вид..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969696"/>
                </a:solidFill>
                <a:latin typeface="Arial"/>
              </a:rPr>
              <a:t>Краткое описание геометрии Лобачевского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Заменив </a:t>
            </a:r>
            <a:r>
              <a:rPr b="1" lang="en-US" sz="2000" spc="-1" strike="noStrike">
                <a:solidFill>
                  <a:srgbClr val="99eff1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постулат евклидовой геометрии на аксиому, Лобачевский пришел к выводу, что можно построить другую геометрию, отличную от евклидов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2" name="" descr="Лобачёвский Николай Иванович"/>
          <p:cNvPicPr/>
          <p:nvPr/>
        </p:nvPicPr>
        <p:blipFill>
          <a:blip r:embed="rId2"/>
          <a:stretch/>
        </p:blipFill>
        <p:spPr>
          <a:xfrm>
            <a:off x="6227640" y="1341360"/>
            <a:ext cx="1886040" cy="2879640"/>
          </a:xfrm>
          <a:prstGeom prst="rect">
            <a:avLst/>
          </a:prstGeom>
          <a:ln w="38160">
            <a:solidFill>
              <a:srgbClr val="99eff1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5280" y="4437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700"/>
                            </p:stCondLst>
                            <p:childTnLst>
                              <p:par>
                                <p:cTn id="2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45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200"/>
                            </p:stCondLst>
                            <p:childTnLst>
                              <p:par>
                                <p:cTn id="2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900"/>
                            </p:stCondLst>
                            <p:childTnLst>
                              <p:par>
                                <p:cTn id="2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950"/>
                            </p:stCondLst>
                            <p:childTnLst>
                              <p:par>
                                <p:cTn id="2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600"/>
                            </p:stCondLst>
                            <p:childTnLst>
                              <p:par>
                                <p:cTn id="2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750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Евклид (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III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 век до н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 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э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)</a:t>
            </a:r>
            <a:br>
              <a:rPr sz="20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Древнегреческий</a:t>
            </a:r>
            <a:r>
              <a:rPr b="0" lang="en-US" sz="18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математик, автор первого трактата </a:t>
            </a:r>
            <a:br>
              <a:rPr sz="18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по геометрии «Начала» (в 13 книгах).</a:t>
            </a: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640" y="1197000"/>
            <a:ext cx="6958080" cy="43927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основе всей геометрии греческого математика Евклида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лежало несколько простых первоначальных утверждений (аксиом), которые принимались за истинные без доказательств. Из аксиом путем доказательств выводились более сложные утверждения, из тех выводились еще более сложные.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Особый интерес математиков всегда вызывала пятая аксиома о параллельных прямых. В отличие от остальных аксиом элементарной геометрии, </a:t>
            </a: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аксиома параллельных не обладает свойством непосредственной очевидности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. Поэтому на всем протяжении истории геометрии имели место попытки доказать аксиому параллельных, то есть вывести ее из остальных аксиом геометрии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92160" cy="299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 rot="1209600">
            <a:off x="0" y="4076640"/>
            <a:ext cx="1763640" cy="145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«Чем отличается геометрия Лобачевского</a:t>
            </a:r>
            <a:br>
              <a:rPr sz="2600"/>
            </a:b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от геометрии Евклида?»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2997000"/>
            <a:ext cx="4032000" cy="1944360"/>
          </a:xfrm>
          <a:prstGeom prst="rect">
            <a:avLst/>
          </a:prstGeom>
          <a:noFill/>
          <a:ln w="57240">
            <a:solidFill>
              <a:srgbClr val="99eff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ит только одна прямая, лежащая с данной прямой в одной плоскости и не пересекающая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2997360"/>
            <a:ext cx="4105080" cy="19234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ят по крайней мере две прямые, лежащие с данной прямой в одной плоскости и не пересекающие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084640"/>
            <a:ext cx="9144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99eff1"/>
                </a:solidFill>
                <a:latin typeface="Arial"/>
              </a:rPr>
              <a:t>Геометрия Лобачевского отличается от евклидовой лишь в одной аксиоме — пятой.  Но главное различие кроется в понимании самой природы пространства.</a:t>
            </a:r>
            <a:r>
              <a:rPr b="1" lang="ru-RU" sz="2400" spc="-1" strike="noStrike">
                <a:solidFill>
                  <a:srgbClr val="99eff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Евклидова 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Лобачевского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276640"/>
            <a:ext cx="16556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2276640"/>
            <a:ext cx="1584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3272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79280" y="4653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еевклидова геометрия 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единственно правильная?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льзя сказать, что неевклидова геометрия единственно правильная. На данный момент к ней нет никаких претензий. Но, может быть, через много лет она устареет – или это произойдет быстрее? Так или иначе, но наука никогда не будет стоять на месте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метрия Лобачевского не единственная, существуют и другие, например Римана геометрия: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932560"/>
            <a:ext cx="55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, многомерное обобщение геометрии на поверхности, представляющее собой теорию римановых пространств, т. е. таких пространств, где в малых областях приближённо имеет место евклидова геометрия (с точностью до малых высшего порядка сравнительно с размерами области)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учила своё название по имени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имана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который заложил её основы в 1854.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16210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8:52:32Z</dcterms:created>
  <dc:creator>werr</dc:creator>
  <dc:description/>
  <cp:keywords/>
  <dc:language>en-US</dc:language>
  <cp:lastModifiedBy>1</cp:lastModifiedBy>
  <dcterms:modified xsi:type="dcterms:W3CDTF">2008-02-11T21:24:38Z</dcterms:modified>
  <cp:revision>35</cp:revision>
  <dc:subject/>
  <dc:title>Лобачевский и его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