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wmf" ContentType="image/x-wm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E0F6-032C-4526-861C-175AB9FB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0A92-8700-49F0-B227-6E781F01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82D9-4CFA-4A76-B15E-29E8B6B0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9FCD-3537-4AD1-938D-FED6C30B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0DBC-4657-4BAD-B6B3-FEEAF38CF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F345-8981-4716-86A9-4CF4B3F8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8B60-ECF1-43F9-ACCE-BB5A513D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9F9A-4883-4060-B52D-EC6F8D27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E652-9DA5-492F-96D7-97D57A3E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B0EB-F414-46E7-949C-B26B5974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267B-91FD-4438-887A-296195C4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4FAD-0F3E-4805-AA4E-C21BB5BB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3813-BBF4-4F3A-BD7A-D275C028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E9AF-DD4D-4F55-8450-37F4BF13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CE63-BBFD-4150-BA22-F5A4C362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B499-7622-43F0-BC61-D85095155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4CFA-8630-4412-AD0F-B73BABD5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0990-9E4D-439B-AC64-309FB965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6A95-7BFF-453D-8C34-F84D40A6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F71A-479E-4536-837E-3DA438DC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CE07-CF57-4B4D-B4F7-3CBFDFAD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A0D2-C0BB-4F32-A843-D1EDB29E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9452-7E34-4979-BC3B-F684437F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7AE5-2360-4B62-ACF4-054D0BF0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0ECB-1261-4007-8CF2-A9CA6746C4D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19E1-B49E-4A1F-B396-EB1E4179DE8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Наглядное представление статистической информации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3357360"/>
            <a:ext cx="4013280" cy="13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Из опыта работы учителя математики МОУ СОШ № 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пгт Прогресс, Амурской област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Ермишко Ольги Константиновн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4929120" y="571500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носительная часто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носительная частота – отношение частоты к общему числу данных в ряду, выраженное в процента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838080" y="4300560"/>
          <a:ext cx="8126640" cy="1785960"/>
        </p:xfrm>
        <a:graphic>
          <a:graphicData uri="http://schemas.openxmlformats.org/drawingml/2006/table">
            <a:tbl>
              <a:tblPr/>
              <a:tblGrid>
                <a:gridCol w="1433520"/>
                <a:gridCol w="561960"/>
                <a:gridCol w="784440"/>
                <a:gridCol w="711000"/>
                <a:gridCol w="387360"/>
                <a:gridCol w="719280"/>
                <a:gridCol w="576360"/>
                <a:gridCol w="647640"/>
                <a:gridCol w="720720"/>
                <a:gridCol w="792000"/>
                <a:gridCol w="792360"/>
              </a:tblGrid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исло верно выполненных задан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тносительная частота, %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7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зависимо от того, в какой отрасли знания получены числовые данные, они обладают определёнными свойствами, для выявления которых может потребоваться особого рода научный метод обработки. Последний известен как статистический метод или, короче, статистик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ж.Юл.М.Кендалл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«Теория статистики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4" descr="C:\Documents and Settings\Владелец\Рабочий стол\Моя рабочая1\ермишко\49755.gif"/>
          <p:cNvPicPr/>
          <p:nvPr/>
        </p:nvPicPr>
        <p:blipFill>
          <a:blip r:embed="rId1"/>
          <a:stretch/>
        </p:blipFill>
        <p:spPr>
          <a:xfrm>
            <a:off x="5643720" y="3000240"/>
            <a:ext cx="271440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3366"/>
                </a:solidFill>
                <a:latin typeface="Arial"/>
              </a:rPr>
              <a:t>Статистика – дизайн информации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Picture 3" descr="C:\Documents and Settings\Владелец\Рабочий стол\Моя рабочая1\ермишко\Рисунок80.wmf"/>
          <p:cNvPicPr/>
          <p:nvPr/>
        </p:nvPicPr>
        <p:blipFill>
          <a:blip r:embed="rId1"/>
          <a:stretch/>
        </p:blipFill>
        <p:spPr>
          <a:xfrm>
            <a:off x="3214800" y="4071960"/>
            <a:ext cx="28782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атистические характеристи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Среднее арифметическо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Разма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Мод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Медиа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Часто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Относительная часто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7" action="ppaction://hlinksldjump"/>
              </a:rPr>
              <a:t>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Picture 4" descr="C:\Documents and Settings\Владелец\Рабочий стол\Моя рабочая1\ермишко\12.gif"/>
          <p:cNvPicPr/>
          <p:nvPr/>
        </p:nvPicPr>
        <p:blipFill>
          <a:blip r:embed="rId8"/>
          <a:stretch/>
        </p:blipFill>
        <p:spPr>
          <a:xfrm>
            <a:off x="6286680" y="2541600"/>
            <a:ext cx="207144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реднее арифметическо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85520" y="2357280"/>
            <a:ext cx="377028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редним арифметическим ряда чисел называется частное от деления суммы этих чисел на число слагаемы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5" descr="C:\Documents and Settings\Владелец\Рабочий стол\Моя рабочая1\ермишко\9.gif"/>
          <p:cNvPicPr/>
          <p:nvPr/>
        </p:nvPicPr>
        <p:blipFill>
          <a:blip r:embed="rId1"/>
          <a:stretch/>
        </p:blipFill>
        <p:spPr>
          <a:xfrm>
            <a:off x="5929200" y="3214800"/>
            <a:ext cx="171288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азмах ряда чисе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змахом ряда чисел называется разность между наибольшим и наименьшим из этих чисе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3,18,25,20,25,32,37,34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6,34,2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змах: 37-18=19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5" descr="C:\Documents and Settings\Владелец\Рабочий стол\Моя рабочая1\ермишко\1.gif"/>
          <p:cNvPicPr/>
          <p:nvPr/>
        </p:nvPicPr>
        <p:blipFill>
          <a:blip r:embed="rId1"/>
          <a:stretch/>
        </p:blipFill>
        <p:spPr>
          <a:xfrm>
            <a:off x="1357200" y="2660760"/>
            <a:ext cx="257184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а ряда чисе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одой ряда чисел называется число, наиболее часто встречающееся в данном ряд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 flipV="1" rot="10800000">
            <a:off x="1042920" y="436464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3,18,25,20,25,32,37,34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6,34,2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ода ряда: 2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6" descr="C:\Documents and Settings\Владелец\Рабочий стол\Моя рабочая1\ермишко\50304.gif"/>
          <p:cNvPicPr/>
          <p:nvPr/>
        </p:nvPicPr>
        <p:blipFill>
          <a:blip r:embed="rId1"/>
          <a:stretch/>
        </p:blipFill>
        <p:spPr>
          <a:xfrm>
            <a:off x="5764320" y="2743200"/>
            <a:ext cx="176184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диан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1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едианой упорядоченного ряда чисел с нечетным числом членом называется число, записанное посередине, а медианой упорядоченного ряда чисел с чётным числом членом называется среднее арифметическое двух чисел, записанных посередин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64,72,72,75,78,82,85,91,93. Медиана: 78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64,72,72,75,78,82,85,88,91,93. Медиана: (78+82):2=8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едианой произвольного ряда чисел называется медиана соответствующего упорядоченного ряд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4" descr="C:\Documents and Settings\Владелец\Рабочий стол\Моя рабочая1\ермишко\Рисунок123.gif"/>
          <p:cNvPicPr/>
          <p:nvPr/>
        </p:nvPicPr>
        <p:blipFill>
          <a:blip r:embed="rId1"/>
          <a:stretch/>
        </p:blipFill>
        <p:spPr>
          <a:xfrm>
            <a:off x="6715080" y="5072040"/>
            <a:ext cx="1857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Часто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астота – количество появлений числа в ряд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4360" y="4300560"/>
          <a:ext cx="8208720" cy="1785960"/>
        </p:xfrm>
        <a:graphic>
          <a:graphicData uri="http://schemas.openxmlformats.org/drawingml/2006/table">
            <a:tbl>
              <a:tblPr/>
              <a:tblGrid>
                <a:gridCol w="1355400"/>
                <a:gridCol w="660600"/>
                <a:gridCol w="792000"/>
                <a:gridCol w="719280"/>
                <a:gridCol w="647640"/>
                <a:gridCol w="792360"/>
                <a:gridCol w="649080"/>
                <a:gridCol w="719280"/>
                <a:gridCol w="576360"/>
                <a:gridCol w="647640"/>
                <a:gridCol w="649080"/>
              </a:tblGrid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исло верно выполненных задан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асто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аглядное представление частот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Object 4" descr=""/>
          <p:cNvPicPr/>
          <p:nvPr/>
        </p:nvPicPr>
        <p:blipFill>
          <a:blip r:embed="rId1"/>
          <a:stretch/>
        </p:blipFill>
        <p:spPr>
          <a:xfrm>
            <a:off x="227160" y="2362320"/>
            <a:ext cx="880560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23:16:43Z</dcterms:created>
  <dc:creator>Ермишко</dc:creator>
  <dc:description/>
  <dc:language>en-US</dc:language>
  <cp:lastModifiedBy>Admin</cp:lastModifiedBy>
  <dcterms:modified xsi:type="dcterms:W3CDTF">2011-04-30T05:03:23Z</dcterms:modified>
  <cp:revision>18</cp:revision>
  <dc:subject>Алгебра 8 класс</dc:subject>
  <dc:title>Наглядное представление статистической информ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070000000000010243100207f6000400038000</vt:lpwstr>
  </property>
</Properties>
</file>