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037-AEBA-43B5-8B34-679FE871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E17-5349-43BA-B336-5BE66D2E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717-059B-47F0-B436-75230E81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D82-443D-4572-A845-86F4AE2D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449-5B32-4D05-8A1E-514C55D2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CD3-6DD2-43AC-AC62-7636543D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166-419C-491F-B3D9-908D90BE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46B-83FC-4C37-843D-AB303AF4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EF3-1B68-4CED-9C2A-14E02B0A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7EA-F7D0-4029-89AE-3E4C8DBF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260-0077-4288-BC1E-94862C24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B37-F3B5-4EE3-AF33-CFAB26F7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AAED-C738-4104-9B64-B6B46744D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боту выполнила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Артамонова Лариса Владимировна -        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ель математики первой квалификационной категории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ОУ «Москаленский лицей»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количество процентов выразить в виде десятичной дроби, надо это число раздел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умнож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 125:100=1,2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125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* 0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01= 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14"/>
          <p:cNvPicPr/>
          <p:nvPr/>
        </p:nvPicPr>
        <p:blipFill>
          <a:blip r:embed="rId1"/>
          <a:stretch/>
        </p:blipFill>
        <p:spPr>
          <a:xfrm>
            <a:off x="539640" y="260280"/>
            <a:ext cx="171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те в виде десятичной дроби проц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43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6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7,2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ook14"/>
          <p:cNvPicPr/>
          <p:nvPr/>
        </p:nvPicPr>
        <p:blipFill>
          <a:blip r:embed="rId1"/>
          <a:stretch/>
        </p:blipFill>
        <p:spPr>
          <a:xfrm>
            <a:off x="324000" y="189000"/>
            <a:ext cx="1303200" cy="136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692360" y="206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47640" y="314172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чёлка"/>
          <p:cNvPicPr/>
          <p:nvPr/>
        </p:nvPicPr>
        <p:blipFill>
          <a:blip r:embed="rId2"/>
          <a:stretch/>
        </p:blipFill>
        <p:spPr>
          <a:xfrm>
            <a:off x="5796000" y="342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3492360" y="3284640"/>
            <a:ext cx="2303640" cy="1873080"/>
          </a:xfrm>
          <a:prstGeom prst="wedgeEllipseCallout">
            <a:avLst>
              <a:gd name="adj1" fmla="val 6337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512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записать дробь в виде процентов, надо умножить её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7 = 0,7 * 100% 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45 = 0,45 * 100% =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2060640"/>
            <a:ext cx="806472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 в процентах десятичные дроб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8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1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0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335772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50920" y="3357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90800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141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08000" y="4653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90800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пчёлка"/>
          <p:cNvPicPr/>
          <p:nvPr/>
        </p:nvPicPr>
        <p:blipFill>
          <a:blip r:embed="rId2"/>
          <a:stretch/>
        </p:blipFill>
        <p:spPr>
          <a:xfrm>
            <a:off x="6084720" y="3357720"/>
            <a:ext cx="2214720" cy="2912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3132000" y="3645000"/>
            <a:ext cx="244800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9640" y="4005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е из равенств вер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% = 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%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%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3492360" y="263700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Как записать десятичной дробью 5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3419640" y="522936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  записать десятичной дробью 12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20% = 1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20% =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20% = 1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20% 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3492360" y="350028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4000" y="1600200"/>
          <a:ext cx="8362800" cy="472752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есятичная 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Line 31"/>
          <p:cNvSpPr/>
          <p:nvPr/>
        </p:nvSpPr>
        <p:spPr>
          <a:xfrm>
            <a:off x="3203640" y="21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2767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каким новым понятием мы познакомились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акое "процент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его най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используется процен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еодолели мы возникшие труд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му научи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образом проценты перевести в дробь и наоборо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цените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расширить  представл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чащихся о возмож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записи чисел в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эквивалентных форм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ввести понятие проц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68360" y="333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0920" y="5013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ировать умения перевода десятичных дробей в проценты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002"/>
          <p:cNvPicPr/>
          <p:nvPr/>
        </p:nvPicPr>
        <p:blipFill>
          <a:blip r:embed="rId1"/>
          <a:stretch/>
        </p:blipFill>
        <p:spPr>
          <a:xfrm>
            <a:off x="611280" y="2637000"/>
            <a:ext cx="17272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5 *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+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Line 5"/>
          <p:cNvSpPr/>
          <p:nvPr/>
        </p:nvSpPr>
        <p:spPr>
          <a:xfrm>
            <a:off x="1332000" y="4365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27640" y="1916280"/>
            <a:ext cx="43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ЫРАЗИ В САНТИМЕ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,23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62,5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32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5092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мена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38"/>
          <p:cNvSpPr/>
          <p:nvPr/>
        </p:nvSpPr>
        <p:spPr>
          <a:xfrm>
            <a:off x="52927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брый день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чёлка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4842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недавно узнала, что слово 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роцент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означает «сотая ча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только не поняла, сотая часть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book14"/>
          <p:cNvPicPr/>
          <p:nvPr/>
        </p:nvPicPr>
        <p:blipFill>
          <a:blip r:embed="rId2"/>
          <a:stretch/>
        </p:blipFill>
        <p:spPr>
          <a:xfrm>
            <a:off x="539640" y="465300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484360" y="3284640"/>
            <a:ext cx="5975280" cy="2305080"/>
          </a:xfrm>
          <a:prstGeom prst="wedgeRectCallout">
            <a:avLst>
              <a:gd name="adj1" fmla="val -57120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4360" y="3284640"/>
            <a:ext cx="58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цент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сотая часть любой величины: пути, массы, площади, количества объёма… Придумана даже специальная запись (символ, обозначение) слова «процент» 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ook14"/>
          <p:cNvPicPr/>
          <p:nvPr/>
        </p:nvPicPr>
        <p:blipFill>
          <a:blip r:embed="rId1"/>
          <a:stretch/>
        </p:blipFill>
        <p:spPr>
          <a:xfrm>
            <a:off x="324000" y="76500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132000" y="260280"/>
            <a:ext cx="4535640" cy="2808360"/>
          </a:xfrm>
          <a:prstGeom prst="wedgeRoundRectCallout">
            <a:avLst>
              <a:gd name="adj1" fmla="val -83111"/>
              <a:gd name="adj2" fmla="val -1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62064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% (п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% (дес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0% (сто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>
            <a:off x="684360" y="3357720"/>
            <a:ext cx="4751280" cy="3095640"/>
          </a:xfrm>
          <a:prstGeom prst="wedgeEllipseCallout">
            <a:avLst>
              <a:gd name="adj1" fmla="val 76361"/>
              <a:gd name="adj2" fmla="val 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32000" y="3789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187280" y="38606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зачем мне , например, знать сотую часть моего веса? Зачем вообще нужны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2340000" y="260280"/>
            <a:ext cx="6480000" cy="3600360"/>
          </a:xfrm>
          <a:prstGeom prst="wedgeRoundRectCallout">
            <a:avLst>
              <a:gd name="adj1" fmla="val -61268"/>
              <a:gd name="adj2" fmla="val -7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43280" y="47628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процентов можно выразить отношение между двумя величинами: частью и целым.  Например, можно узнать в процентах количество выполненной работы, пройденного пути, почитанных страниц книги, сахара в варенье, соли в морской воде. Удобно то, что мы имеем дело не с дробями, а с целыми числами, хотя речь идёт о той же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692360" y="4076640"/>
            <a:ext cx="4608360" cy="2521080"/>
          </a:xfrm>
          <a:prstGeom prst="wedgeEllipseCallout">
            <a:avLst>
              <a:gd name="adj1" fmla="val 66671"/>
              <a:gd name="adj2" fmla="val 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443700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совсем ничего не поняла. Сначала приведи мне пример, что такое проц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14"/>
          <p:cNvPicPr/>
          <p:nvPr/>
        </p:nvPicPr>
        <p:blipFill>
          <a:blip r:embed="rId1"/>
          <a:stretch/>
        </p:blipFill>
        <p:spPr>
          <a:xfrm>
            <a:off x="6948360" y="333360"/>
            <a:ext cx="17146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1116000" y="404640"/>
            <a:ext cx="4896000" cy="1152720"/>
          </a:xfrm>
          <a:prstGeom prst="wedgeRoundRectCallout">
            <a:avLst>
              <a:gd name="adj1" fmla="val 72180"/>
              <a:gd name="adj2" fmla="val 13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61928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ай вместе решим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0232884"/>
          <p:cNvPicPr/>
          <p:nvPr/>
        </p:nvPicPr>
        <p:blipFill>
          <a:blip r:embed="rId2"/>
          <a:stretch/>
        </p:blipFill>
        <p:spPr>
          <a:xfrm>
            <a:off x="395280" y="1557360"/>
            <a:ext cx="1330200" cy="15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34067"/>
          <p:cNvPicPr/>
          <p:nvPr/>
        </p:nvPicPr>
        <p:blipFill>
          <a:blip r:embed="rId3"/>
          <a:stretch/>
        </p:blipFill>
        <p:spPr>
          <a:xfrm>
            <a:off x="6948360" y="1700280"/>
            <a:ext cx="159408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Line 9"/>
          <p:cNvSpPr/>
          <p:nvPr/>
        </p:nvSpPr>
        <p:spPr>
          <a:xfrm>
            <a:off x="1763640" y="3068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63528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6200000">
            <a:off x="2694960" y="2426400"/>
            <a:ext cx="730080" cy="2735280"/>
          </a:xfrm>
          <a:custGeom>
            <a:avLst/>
            <a:gdLst>
              <a:gd name="textAreaLeft" fmla="*/ 466560 w 730080"/>
              <a:gd name="textAreaRight" fmla="*/ 730440 w 730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ремя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5564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есь путь принимаем за 100%, значит на 1% приходится 1 м. А на 35% - 35 м. Значит она прошла 35м, а оста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5087E-006 L 0.28004 0.00047 E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чёлка"/>
          <p:cNvPicPr/>
          <p:nvPr/>
        </p:nvPicPr>
        <p:blipFill>
          <a:blip r:embed="rId1"/>
          <a:stretch/>
        </p:blipFill>
        <p:spPr>
          <a:xfrm>
            <a:off x="6659640" y="18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16000" y="333360"/>
            <a:ext cx="5256360" cy="2016000"/>
          </a:xfrm>
          <a:prstGeom prst="wedgeEllipseCallout">
            <a:avLst>
              <a:gd name="adj1" fmla="val 63078"/>
              <a:gd name="adj2" fmla="val 1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47640" y="692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не поняла, почему мы принимаем весь путь за 100%, а не, допустим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ook14"/>
          <p:cNvPicPr/>
          <p:nvPr/>
        </p:nvPicPr>
        <p:blipFill>
          <a:blip r:embed="rId2"/>
          <a:stretch/>
        </p:blipFill>
        <p:spPr>
          <a:xfrm>
            <a:off x="395280" y="242100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2627280" y="3141720"/>
            <a:ext cx="5616720" cy="2663640"/>
          </a:xfrm>
          <a:prstGeom prst="wedgeRoundRectCallout">
            <a:avLst>
              <a:gd name="adj1" fmla="val -62097"/>
              <a:gd name="adj2" fmla="val -47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32000" y="3357720"/>
            <a:ext cx="468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же сама говорила, что процент – это сотая часть. А раз 1% - это сотая часть, значит вся величина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1:28:10Z</dcterms:created>
  <dc:creator>Admin</dc:creator>
  <dc:description/>
  <dc:language>en-US</dc:language>
  <cp:lastModifiedBy>User</cp:lastModifiedBy>
  <dcterms:modified xsi:type="dcterms:W3CDTF">2012-03-13T13:06:52Z</dcterms:modified>
  <cp:revision>17</cp:revision>
  <dc:subject/>
  <dc:title>проц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80000000000010250300207f7000400038000</vt:lpwstr>
  </property>
</Properties>
</file>