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EFE-C4BD-4220-9D45-59ED6FDC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8F60-B063-45EC-B539-B39E8605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DE1A-E823-4AA5-AEB8-695DCD36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213-09DD-4DE7-8210-F6D832F7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7522-674E-4526-959B-73E3FD03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95E2-ED39-4666-A44A-71D0C83D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9156-5899-4870-9C26-0B64E839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992C-AE4D-417F-A550-1CA9A7E3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69AF-2602-488D-9FC3-0A2135D9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2DD5-7BD8-45C6-8CBC-3760A87A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5701-76EB-463D-90BB-1A679B2B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AA9E-AC47-4A83-B9C6-D6DE8C5F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6E52-8410-4E18-8E7E-44314A92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CB00-C0CA-45F1-902C-47A7F2E2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B102-C46F-40DF-A695-07F84D68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80E8-4982-4CE3-8392-EF0C9D65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3F0E-64CD-487E-8098-BB0A3C00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0658-A985-4D50-A365-5DC33514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F41C-E253-426E-8A16-18B6EB80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38F-818C-498A-8119-C0C132A5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819-C330-4F4A-B8C5-AFD97C79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F9D3-A36D-44D8-9FFC-FB0D958E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ECD4-9242-4F1C-8D30-E62A8F23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60D-BB34-464E-9076-55266C75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1C08-1484-4224-A07E-E6A362CA3B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10BC-1CAD-4339-9AA3-0BFC5737B2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ДОБРЫЙ ДЕНЬ 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8600" y="254160"/>
            <a:ext cx="598320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ВИДЫ ПИРАМИ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368360" cy="93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755640" y="1557360"/>
          <a:ext cx="647280" cy="4484520"/>
        </p:xfrm>
        <a:graphic>
          <a:graphicData uri="http://schemas.openxmlformats.org/drawingml/2006/table">
            <a:tbl>
              <a:tblPr/>
              <a:tblGrid>
                <a:gridCol w="647280"/>
              </a:tblGrid>
              <a:tr h="44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ПИРАМИД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75564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0328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5640" y="1557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6021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43480" y="2060640"/>
            <a:ext cx="39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Неправильна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9600" y="4437000"/>
            <a:ext cx="36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ая 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299280" y="141120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 flipV="1">
            <a:off x="6442200" y="2492280"/>
            <a:ext cx="722160" cy="790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4360" y="2492280"/>
            <a:ext cx="10065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42200" y="3282840"/>
            <a:ext cx="122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666200" y="270828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164360" y="1627200"/>
            <a:ext cx="287280" cy="86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442200" y="1627200"/>
            <a:ext cx="100944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51640" y="1627200"/>
            <a:ext cx="21456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51640" y="1627200"/>
            <a:ext cx="71928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451640" y="1700280"/>
            <a:ext cx="1800" cy="1295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403280" y="2492280"/>
            <a:ext cx="1368360" cy="11541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03280" y="3645000"/>
            <a:ext cx="1584360" cy="8636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300720" y="371628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 flipV="1">
            <a:off x="651528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20000" y="4869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15280" y="54435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774072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7019640" y="3860640"/>
            <a:ext cx="360360" cy="1008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514920" y="386064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80360" y="3860640"/>
            <a:ext cx="35856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80360" y="3860640"/>
            <a:ext cx="86364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516720" y="4869000"/>
            <a:ext cx="1728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20000" y="4869000"/>
            <a:ext cx="7189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380360" y="386028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77080" y="4941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51640" y="4797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95672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36000" y="5373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840"/>
                            </p:stCondLst>
                            <p:childTnLst>
                              <p:par>
                                <p:cTn id="10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484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6840"/>
                            </p:stCondLst>
                            <p:childTnLst>
                              <p:par>
                                <p:cTn id="1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7600"/>
                            </p:stCondLst>
                            <p:childTnLst>
                              <p:par>
                                <p:cTn id="10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1314360" cy="100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476360" y="260280"/>
            <a:ext cx="712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ПРАВИЛЬНАЯ ПИРАМИ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1341360"/>
            <a:ext cx="83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называетс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ой,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если в основа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лежит правильный многоугольник, а отрезо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й вершину пирамиды с центром е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снования, является высотой 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01800" y="465300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76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81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60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948000" y="3573360"/>
            <a:ext cx="36036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443280" y="357336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08720" y="3573360"/>
            <a:ext cx="35892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3573360"/>
            <a:ext cx="86364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38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42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8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763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8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8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25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4472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1964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0364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48112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8620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8112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70692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42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0216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690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66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48436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8764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89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64000" y="450864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6908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4836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42584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30920" y="45813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584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651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8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6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13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10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42908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32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292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52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21440" y="35733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05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80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885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64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6442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46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42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7667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0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1852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029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445080" y="4581000"/>
            <a:ext cx="1729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48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7308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088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08720" y="357336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7852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3416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9488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7840" y="2800440"/>
            <a:ext cx="58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00000" y="2924280"/>
            <a:ext cx="57088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ребра рав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грани – рав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равнобедренные треуголь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0080" y="4724280"/>
            <a:ext cx="59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Апофема </a:t>
            </a: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правильной пирамиды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высота ее боковой грани, проведе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из вершины.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308720" y="3573360"/>
            <a:ext cx="648000" cy="129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10720" y="474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85080" y="4797360"/>
            <a:ext cx="7164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956720" y="465300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956720" y="4724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40720" y="487044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740720" y="49417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87040" y="5661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K -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апоф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0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1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2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3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8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9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0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800"/>
                            </p:stCondLst>
                            <p:childTnLst>
                              <p:par>
                                <p:cTn id="1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4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5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6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1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2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3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6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7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8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1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3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9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0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1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ПЛОЩАДЬ БОКОВОЙ ПОВЕРХНОСТИ ПРАВИЛЬНОЙ ПИРАМ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56181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бок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213000"/>
            <a:ext cx="7489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ериметр основа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апофема правильной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0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8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2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0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ЛОЩАДЬ ПОЛНОЙ ПОВЕРХНОСТИ ПИРАМИ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л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=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ок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+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0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2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7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8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9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40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ОБЪЁМ ПИРАМИ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 высота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780000" y="1989000"/>
                <a:ext cx="4935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0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6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6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7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8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КЛЮЧЕВЫЕ СЛОВА УРО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77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ирам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Осн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р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ерш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ысота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равильная пирам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Апоф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3683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0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5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6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60"/>
                            </p:stCondLst>
                            <p:childTnLst>
                              <p:par>
                                <p:cTn id="1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1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2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760"/>
                            </p:stCondLst>
                            <p:childTnLst>
                              <p:par>
                                <p:cTn id="16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7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8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280"/>
                            </p:stCondLst>
                            <p:childTnLst>
                              <p:par>
                                <p:cTn id="16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3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4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1800"/>
                            </p:stCondLst>
                            <p:childTnLst>
                              <p:par>
                                <p:cTn id="16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9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0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2120"/>
                            </p:stCondLst>
                            <p:childTnLst>
                              <p:par>
                                <p:cTn id="16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5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6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7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2720"/>
                            </p:stCondLst>
                            <p:childTnLst>
                              <p:par>
                                <p:cTn id="16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1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2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3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3480"/>
                            </p:stCondLst>
                            <p:childTnLst>
                              <p:par>
                                <p:cTn id="16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7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8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9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50920" y="165240"/>
            <a:ext cx="1441440" cy="990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НА СЛЕДУЮЩЕМ УРОК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00000" y="2060640"/>
            <a:ext cx="7489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omic Sans MS"/>
              </a:rPr>
              <a:t>Решение простейших задач на вычисление площади поверхности и объема пирамид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0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0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1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2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484000" y="1427040"/>
            <a:ext cx="626436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СПАСИБО ЗА УРО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066680" y="3441240"/>
            <a:ext cx="7250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00cc"/>
              </a:solidFill>
              <a:latin typeface="Comic Sans MS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9447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0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ЭТО МЫ ЗНАЕ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95280" y="1484280"/>
          <a:ext cx="4508640" cy="2468520"/>
        </p:xfrm>
        <a:graphic>
          <a:graphicData uri="http://schemas.openxmlformats.org/drawingml/2006/table">
            <a:tbl>
              <a:tblPr/>
              <a:tblGrid>
                <a:gridCol w="287280"/>
                <a:gridCol w="285480"/>
                <a:gridCol w="288720"/>
                <a:gridCol w="283680"/>
                <a:gridCol w="287280"/>
                <a:gridCol w="285480"/>
                <a:gridCol w="285480"/>
                <a:gridCol w="288720"/>
                <a:gridCol w="216000"/>
                <a:gridCol w="286920"/>
                <a:gridCol w="285840"/>
                <a:gridCol w="286920"/>
                <a:gridCol w="284040"/>
                <a:gridCol w="288720"/>
                <a:gridCol w="285480"/>
                <a:gridCol w="282600"/>
              </a:tblGrid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4140360" y="1341360"/>
            <a:ext cx="454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Многогранник, составленный из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двух равных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-угольников, лежащ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в параллельных плоскостях и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араллелограмм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28560" y="2421000"/>
            <a:ext cx="353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2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ямая призма, 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правильные много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угольн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A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4.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не равны высо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7440" y="5805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6805440" y="5371920"/>
            <a:ext cx="432000" cy="43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05440" y="5229000"/>
            <a:ext cx="1008360" cy="142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13800" y="522936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4653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7164360" y="4219560"/>
            <a:ext cx="43200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164360" y="4076280"/>
            <a:ext cx="1008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72360" y="4076640"/>
            <a:ext cx="4320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813800" y="4076640"/>
            <a:ext cx="358560" cy="115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805080" y="4221000"/>
            <a:ext cx="358920" cy="115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245080" y="4653000"/>
            <a:ext cx="36036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237080" y="4653000"/>
            <a:ext cx="358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96360" y="4653000"/>
            <a:ext cx="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237080" y="4076640"/>
            <a:ext cx="934920" cy="172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1996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1380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73800" y="38606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05440" y="4003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9800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99280" y="429264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77440" y="566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6520" y="4292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566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40720" y="566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6520" y="580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4149720"/>
            <a:ext cx="4896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5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 которой перпендикулярны основания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6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BC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7. DB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8. 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4180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6072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308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2616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49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344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7174080"/>
            <a:ext cx="28728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3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836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2060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2720" y="206064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180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908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18160" y="20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5800" y="206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4180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29440" y="2349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8520" y="2349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3440" y="234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144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1016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9744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8652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6364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1636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3284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364500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3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7636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410920" y="148428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410920" y="393372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2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ПИРАМИД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1944360" cy="1440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00000" y="3141720"/>
            <a:ext cx="77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Из истории развития и применения пирам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Определен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Элементы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Виды пирамид, их особ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лощадь поверхности и объем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Р по вычислению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i="1" lang="ru-RU" sz="1400" spc="-1" strike="noStrike">
                <a:solidFill>
                  <a:srgbClr val="0000ff"/>
                </a:solidFill>
                <a:latin typeface="Comic Sans MS"/>
              </a:rPr>
              <a:t>пов.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V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Решение зада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44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24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92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960"/>
                            </p:stCondLst>
                            <p:childTnLst>
                              <p:par>
                                <p:cTn id="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28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48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84360" y="260280"/>
            <a:ext cx="507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ЦЕЛИ УРОКА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656000" cy="1001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9640" y="148428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ься с историей развития пирамид и их применение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Сформулировать определение пирамиды и её элементов через сравнение и обобщ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Рассмотреть виды пирамид, их особен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ся с формулами площади боковой и полной поверхности пирамиды, объёма пирами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5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12120" y="2602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4392360" cy="2222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8360" y="1341360"/>
            <a:ext cx="316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«Пирамида» - от гречес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слова «пюрамис», котор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греки называли египет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06280" y="254160"/>
            <a:ext cx="1295640" cy="731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851280" y="3716280"/>
            <a:ext cx="4105440" cy="2449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851280" y="36450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Мексиканская пирамида Солн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76720" y="32846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Египетск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3166920" cy="2087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9640" y="5445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Гора Кайлас на Тиб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120"/>
                            </p:stCondLst>
                            <p:childTnLst>
                              <p:par>
                                <p:cTn id="4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712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120"/>
                            </p:stCondLst>
                            <p:childTnLst>
                              <p:par>
                                <p:cTn id="4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112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3120"/>
                            </p:stCondLst>
                            <p:childTnLst>
                              <p:par>
                                <p:cTn id="4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12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805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ИРАМИДЫ В АРХИТЕКТУ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0640" y="1628640"/>
            <a:ext cx="3675240" cy="1955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3960720" cy="2246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692360" y="3716280"/>
            <a:ext cx="5040360" cy="2449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788000" y="1341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Новый вход в Лувр, Пари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1341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omic Sans MS"/>
              </a:rPr>
              <a:t>Торговый центр в Илинге,                        Лонд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60200" y="364500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Александровский мая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152720" cy="93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711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ОПРЕДЕЛ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84360" cy="971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2233800" cy="1865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627280" y="2276640"/>
            <a:ext cx="1008000" cy="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27280" y="2276640"/>
            <a:ext cx="7207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348000" y="2276280"/>
            <a:ext cx="2872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1484280"/>
            <a:ext cx="28872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62728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900000" y="2204640"/>
            <a:ext cx="64944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00000" y="2276640"/>
            <a:ext cx="5050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405080" y="2276280"/>
            <a:ext cx="5029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1484280"/>
            <a:ext cx="7308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0000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20720" y="2205000"/>
            <a:ext cx="28728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1555920"/>
            <a:ext cx="217440" cy="64908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60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4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4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6000" y="352440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6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2840" y="407664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10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1040" y="46530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i="1" lang="ru-RU" sz="1800" spc="-1" strike="noStrike">
                <a:solidFill>
                  <a:srgbClr val="0000ff"/>
                </a:solidFill>
                <a:latin typeface="Comic Sans MS"/>
              </a:rPr>
              <a:t>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95640" y="2637000"/>
            <a:ext cx="576360" cy="2663640"/>
          </a:xfrm>
          <a:custGeom>
            <a:avLst/>
            <a:gdLst>
              <a:gd name="textAreaLeft" fmla="*/ 0 w 576360"/>
              <a:gd name="textAreaRight" fmla="*/ 208080 w 57636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88000" y="1628640"/>
            <a:ext cx="21600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804000" y="2637000"/>
            <a:ext cx="720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88000" y="1628640"/>
            <a:ext cx="93672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36720" y="1628640"/>
            <a:ext cx="1150920" cy="13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37080" y="2997360"/>
            <a:ext cx="13669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437080" y="2349360"/>
            <a:ext cx="863640" cy="6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300720" y="1628640"/>
            <a:ext cx="28728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00720" y="234936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04000" y="2349360"/>
            <a:ext cx="720720" cy="2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88000" y="1628640"/>
            <a:ext cx="21600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3429000"/>
            <a:ext cx="32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ff"/>
                </a:solidFill>
                <a:latin typeface="Comic Sans MS"/>
              </a:rPr>
              <a:t>Пирамида 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– это   многогранник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составленный и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-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угольника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 треугольников</a:t>
            </a: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25800" y="350028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25800" y="407664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97440" y="465300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1320" y="5373720"/>
            <a:ext cx="29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Название пирам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определяет </a:t>
            </a:r>
            <a:r>
              <a:rPr b="1" i="1" lang="en-US" sz="1800" spc="-1" strike="noStrike">
                <a:solidFill>
                  <a:srgbClr val="008000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-угольни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68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368360" cy="957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74080" y="333360"/>
            <a:ext cx="64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ЭЛЕМЕНТЫ ПИРАМИ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00680" y="1268280"/>
            <a:ext cx="53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Из чего состоит пирамида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82000" y="1773360"/>
            <a:ext cx="245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Осн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гр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реб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ысо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3573360"/>
            <a:ext cx="90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Можно ли в пирамиде провести диагональ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371628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1)Дайте определения всем элементам пирамиды (в случае затрудн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воспользуйтесь учебником стр.65, п.28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2)Начертите треугольную пирамиду </a:t>
            </a: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PABC,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 выпишите её элем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13080" cy="9572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955240" y="260280"/>
            <a:ext cx="470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ПРОВЕРЬ СЕБ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58920" y="1555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040" y="500688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Высот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35640" y="5229360"/>
            <a:ext cx="29527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6000" y="4292640"/>
            <a:ext cx="1152360" cy="10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00720" y="1844640"/>
            <a:ext cx="93528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1844640"/>
            <a:ext cx="2087640" cy="352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00720" y="1844640"/>
            <a:ext cx="0" cy="32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19640" y="51577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5680" y="4292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00360" y="53737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59040" y="15573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84440" y="4749840"/>
            <a:ext cx="4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844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2764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08472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84720" y="49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5040" y="12682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Основание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40000" y="16938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38160" y="126216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многоугольник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2880" y="205596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грани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24240" y="206064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треугольники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74920" y="47196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, BP,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9720" y="371160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ребр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0720" y="29908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8920" y="291924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Вершин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4360" y="2924280"/>
            <a:ext cx="466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бщая точка все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боковых граней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50680" y="3278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3716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трез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е вершину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вершинам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24861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P, BCP, A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501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ерпендикуля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роведенный из вершины к плоскост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53960" y="57340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5230800"/>
            <a:ext cx="295272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435640" y="429408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36000" y="4294080"/>
            <a:ext cx="115236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651640" y="5086440"/>
            <a:ext cx="7128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795640" y="4941720"/>
            <a:ext cx="142920" cy="289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938560" y="4870440"/>
            <a:ext cx="215640" cy="360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154200" y="4726080"/>
            <a:ext cx="287640" cy="50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372360" y="4581360"/>
            <a:ext cx="358560" cy="6494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514920" y="4438800"/>
            <a:ext cx="50292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730920" y="4365720"/>
            <a:ext cx="503280" cy="93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946560" y="4438800"/>
            <a:ext cx="43164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164000" y="4581360"/>
            <a:ext cx="358920" cy="720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380360" y="4726080"/>
            <a:ext cx="285840" cy="57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523280" y="4870440"/>
            <a:ext cx="287280" cy="50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738920" y="501480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954560" y="5086440"/>
            <a:ext cx="142920" cy="288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172360" y="5230800"/>
            <a:ext cx="69840" cy="142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435280" y="1917720"/>
            <a:ext cx="865080" cy="338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00720" y="1917720"/>
            <a:ext cx="935280" cy="2448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227640" y="2060640"/>
            <a:ext cx="144720" cy="21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156360" y="2276640"/>
            <a:ext cx="288720" cy="333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940000" y="2421000"/>
            <a:ext cx="576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652720" y="2610000"/>
            <a:ext cx="933480" cy="1755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508360" y="2852640"/>
            <a:ext cx="1150920" cy="237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795640" y="3141720"/>
            <a:ext cx="934920" cy="194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156360" y="3357720"/>
            <a:ext cx="719280" cy="1584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445080" y="3645000"/>
            <a:ext cx="50184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660720" y="3860640"/>
            <a:ext cx="430200" cy="792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948360" y="414972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27640" y="1773360"/>
            <a:ext cx="1447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00720" y="1916280"/>
            <a:ext cx="0" cy="3097080"/>
          </a:xfrm>
          <a:prstGeom prst="line">
            <a:avLst/>
          </a:prstGeom>
          <a:ln w="763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60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60"/>
                            </p:stCondLst>
                            <p:childTnLst>
                              <p:par>
                                <p:cTn id="8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160"/>
                            </p:stCondLst>
                            <p:childTnLst>
                              <p:par>
                                <p:cTn id="9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80"/>
                            </p:stCondLst>
                            <p:childTnLst>
                              <p:par>
                                <p:cTn id="9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1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200"/>
                            </p:stCondLst>
                            <p:childTnLst>
                              <p:par>
                                <p:cTn id="9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5:06:42Z</dcterms:created>
  <dc:creator>ТЕЛЕЖКА</dc:creator>
  <dc:description/>
  <dc:language>en-US</dc:language>
  <cp:lastModifiedBy>User</cp:lastModifiedBy>
  <dcterms:modified xsi:type="dcterms:W3CDTF">2010-08-26T07:05:29Z</dcterms:modified>
  <cp:revision>18</cp:revision>
  <dc:subject/>
  <dc:title>Презентация PowerPoint</dc:title>
</cp:coreProperties>
</file>